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7.jpeg" ContentType="image/jpeg"/>
  <Override PartName="/ppt/media/image11.jpeg" ContentType="image/jpeg"/>
  <Override PartName="/ppt/media/image16.gif" ContentType="image/gif"/>
  <Override PartName="/ppt/media/image2.png" ContentType="image/png"/>
  <Override PartName="/ppt/media/image15.jpeg" ContentType="image/jpeg"/>
  <Override PartName="/ppt/media/image14.wmf" ContentType="image/x-wmf"/>
  <Override PartName="/ppt/media/image5.jpeg" ContentType="image/jpeg"/>
  <Override PartName="/ppt/media/image9.wmf" ContentType="image/x-wmf"/>
  <Override PartName="/ppt/media/image10.jpeg" ContentType="image/jpeg"/>
  <Override PartName="/ppt/media/image1.png" ContentType="image/png"/>
  <Override PartName="/ppt/media/image17.jpeg" ContentType="image/jpeg"/>
  <Override PartName="/ppt/media/image3.png" ContentType="image/png"/>
  <Override PartName="/ppt/media/image4.png" ContentType="image/png"/>
  <Override PartName="/ppt/media/image6.jpeg" ContentType="image/jpeg"/>
  <Override PartName="/ppt/media/image8.png" ContentType="image/pn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sldIdLst>
    <p:sldId id="256" r:id="rId22"/>
    <p:sldId id="257" r:id="rId23"/>
    <p:sldId id="258" r:id="rId24"/>
    <p:sldId id="259" r:id="rId25"/>
    <p:sldId id="260" r:id="rId26"/>
    <p:sldId id="261" r:id="rId27"/>
    <p:sldId id="262" r:id="rId28"/>
    <p:sldId id="263" r:id="rId29"/>
    <p:sldId id="264" r:id="rId30"/>
    <p:sldId id="265"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0FEAD3E4-EC9D-43AE-9FF6-E901D327AC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8116C8A-88A8-4667-A76B-70C8561086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CC9ED7-038D-45D9-BB17-48919A27DA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DADD5D-23A8-41DB-9B29-55953AB7BA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692D4D-3E3E-4DB6-9C69-B9A06FE249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390858-1DC8-49AB-B3B6-D7F3B84CD5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B0EDE6-C4D1-4A3A-947D-97EFDF3421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977E12-494A-4D92-9CAC-F616EFD224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165D21-CDA5-4539-80F8-59D9807A54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3A60F9-E7F4-4842-B160-90E60381EE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B4A4CB-6D84-4AFB-8A86-F8BA4A4825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8FBCCDC-A8CA-454A-8EE6-497807FC42F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BDDDF1D0-25CD-44BE-BAB0-95CADC8F9EB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34DFA2-BD2D-49C0-95E9-14FB0505A9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E10180A-E843-4368-83C0-1DB92D1FB3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B1F012-5E02-4EA5-BC99-A8AA928C960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8B78AF-C338-4E79-8209-D7A05316EC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CFBFA31-3CB2-4E1D-AE5F-FFE721B655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9E61E2-2ED6-46C7-BA13-4056C8B02E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377B1F-D361-4309-B485-3516BD6309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ABFB2D-5AA0-4987-9C80-8BDE3E777D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327F15-37C6-413E-8A88-B8EB4F7A49E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3B7A2EE-2D00-4BD9-87AC-EF52933073A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EC4B2EBC-29A9-404F-8FDA-5A3F18BE11B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ABE9CD8-B841-4CB9-9631-97C14F3B06B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00D4E55-459F-4227-A123-61ECB864086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EC513F-6FB7-4169-A012-ECDD8332E9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F7288E-4D49-4203-AA49-A5BF9EBF28F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D011595-0899-400B-A675-F66D850FBA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179959E-39CF-48FA-AFE6-64F6C46565B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868328-6778-463A-83AD-9874531789D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56104D-106E-42B5-B698-305DC33BD2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2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0B2834-E5CE-4D49-BC6D-CC3EA29B59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2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DF3872-35F0-48A2-8D0F-E731A9FA69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7FBA69-7DE9-4254-B98E-037169E042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9B3054-0D25-454D-A2DC-F757B40F09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9CEE170-ECE1-456E-9AC8-5BDB1703061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0B5B02E-4403-4F73-9A89-8D2C2854277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12EE93C-4923-4B61-B85C-0189BE16125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1953F4A-5279-4780-AB7E-5D20AC6EF5C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5C46A4E-B435-48DB-AB9C-C476AB7DC2D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BB7BD27-ED80-411C-A453-D689DD64CBA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DB714C3-0A27-4E20-BDBC-FD43A6B2F83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B9BC69B-A845-4508-A86D-785DADC2553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BCFF91-6F41-40B9-B95D-87CD2E35EDD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2C9E6-E748-479C-B203-C98E3B766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0EF4FF-D2D6-4DA6-891E-39A1AF8F53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B3E009-1A85-4DE0-A63D-C83C9D9EEB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F262C1D-27DF-4ADF-A550-4C0EC708AE5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9954E3C-4C03-4A30-8EF2-AB55FCC23E2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2CD9FA8-4532-4704-A066-35840503E08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642DD8D-2050-4944-B09A-95C7A7B4A41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13066D4-1F12-40E9-83C8-0AF0824CE85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CD10E1F-510E-47DA-9692-D6BD33DFDB1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FBF4B5A-BFDF-49ED-9B84-FF58C31CCD0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2E5DC6A-82FD-4CD3-908F-DE04D79BAA8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8F803-1F12-4175-8C3E-BC95D2AED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59860CB-9764-44A3-B9DE-5EEFDBA5EE7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1077A67-5CE2-4C53-9303-4EEC985D18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2A86B9A-D09C-4188-AF6D-5D8E243B366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08E0E1D-C58D-4BD5-930C-19A50F2F719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575B8F3-E1D5-4290-8AA0-843DC844F35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B93FE11-CB36-4471-822E-7D2394418B7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0239643-2CE6-4963-B705-A11C524A6CF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28D3DD6-D567-4C32-9B57-7429C8D549F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4F93418-EB23-482D-B297-150B53D0ACA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32B1438-95EE-49F8-8960-F32EE477731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C7F9B-2B2F-4FC1-8C44-8E78E25A2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A969B55-CCDA-4080-9FD4-76B4F5F314B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3CC5BD4-8DC4-439E-B225-559C59B0EED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EBB3144-7128-4BFC-ABA8-4FC5BBEB03A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410DFC8-E4D9-4F7F-A551-64490EA266F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228FF67-FA5C-416C-944D-7FE93C26032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1F0AB61-A246-430F-A6AD-2C8D5312D13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9DE44A8-95D1-46F8-93C0-9CDC1D2B017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8F03C3C-877F-47F8-800E-0B7A960B3CC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F56B16A-BA30-4FB3-92D4-6B73BF4DE5B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500B1DA-DBBD-4269-8B26-5AACA77CCEE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F450C-BAC8-41BB-9C81-F31C9529F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DA76714-2B50-4E4B-A4D8-F5B1D6AEB5D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F2B9364-0535-40F6-82E0-D15EB1E2385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23F4BAF-7DC5-43F7-B658-3A4637FC883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FDE9AFF-B35E-4A08-B99D-596E5F23668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3F9D8A0-12DC-4E7F-86EE-9874028254C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3AC5790-8284-4CEE-9014-09033975ECD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7164FF2-855F-4AC8-8BED-25723B22DCC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F54575C-4890-4210-A41E-174BCCFDB59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5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CA27E2F-B2C8-4254-8175-AC886A5C9C8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2092105-C425-4AA6-A8F9-D15A938F9F2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0B39C-336B-47C0-B123-A62EA4D1C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6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5EC8181-CC5A-4FB6-AF98-E2802BB61ED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424366A-DD15-49E1-B830-67AED29ECEF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BBA5B2E-9C58-4A93-B38E-B014DE608A3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394BE04-76EA-4E4B-B359-06049960A97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6E4144A-2EB1-49A1-9764-A208DEF3FD3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216F255-2600-4143-A63E-E0EEF7EDE88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A2FBCC8-6246-4760-8788-58D8EE11AFB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5D6F074-0E6A-4FD6-85B4-ACD4EBCCF51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E50D6F1-98C8-456A-8A7B-6E00CBD2EC1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88D73B7-C2C6-4B64-8729-D8DBEF3DAC3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360AB-8C26-4068-B03C-D9F37FE7F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68B3225-760F-495C-94C7-F2B4697E192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B90A5F8-F0FA-45F6-AD86-844F745CE43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8724469-7DE8-4780-8DD1-459189AF157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404875F-0C77-443D-9143-76B92B79B8F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53D4FEF-D205-4600-9878-C0E39392846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78F8A32-B34A-4379-84AC-618AD735CEB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C2F64D3-8C4D-4CE8-A756-79D3C3EDB41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0D82A71-0F52-4140-9833-4941FCA7394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D544A6C-4386-4408-9374-D4F342C0618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012A543-1DC5-49DB-9A8A-D5849B0E804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6B4149A-F867-4F46-BF03-2D4C09F4B5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83BA8-989D-4F82-BED1-F630F9584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5DF67CB-1A50-4426-A2E2-D4B740E7BA5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5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10847C6-9E24-4475-A5DA-587D5A4518F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5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EC97787-A7B8-4403-9B01-5571DEBB468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8DC3A15-2494-4559-A4DB-C1A868099CA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1766203-5E80-4EA8-9D04-3EC71A2CF6B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6DF89FA-0CAE-4A35-A0F2-F4DEE91A74B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7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8D40EC4-6F5D-4F73-BE44-7B568791CE3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7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46457C8-691D-465C-A773-8A459ACE311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7816BC6-8315-45C6-BB17-A6CE9A72593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DC165A5-0D5B-4005-8FD0-3EF0C800327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CA64E-B3A3-4EE0-B83A-05D77B5EF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6E71880-F4D5-4D12-94CA-9CCE49082DD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A5D511D-72C3-4150-95B4-5450471B8D7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58056B5-BB68-4B95-B14E-31B2268A344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9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DECA453-263C-4DF7-A1A7-7F7636AAFCE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9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97BA706-CCBD-4B2A-8EB4-84E31761CA4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D79AA3F-0900-4552-AD74-99AD5923433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0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BD160A7-1B2F-4F74-A8F2-B47334189D5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1CA6397-7A1D-4487-A648-DBE6CB89F4F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6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B2536F8-F904-4E8D-8A48-E05F9B6D278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8E2D9A5-8985-48A5-AD4C-E2996EF64D2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85319-3700-45AF-8B76-E9D6033A2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437D160-C8A6-4D63-81C0-85864810664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FEBA820-2036-44D8-BC46-9215370D1F2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4BAC54D-9593-42D7-B82F-5F25113F3E8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C1C8291-B6CB-42A2-8689-AAE5574907D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1DDFE11-70D6-4FB3-ACC8-D404498BB58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32796F7-D342-4023-ACA8-7EF6E6C1F9F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CC20AFC-464A-4C17-9A5B-886A24A4461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0F3CFA7-80B8-42B2-BCE7-C57DA4D1875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9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0B161F49-6031-46DA-B97E-277F3CCF51A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92DF246-37E2-4B0F-BCEC-D23B346218F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7F5F3D-B466-40C7-9BB5-BBB5887441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36B45EE-227A-48C1-8384-D980CB6817D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2018EA3-FC0B-43D3-95D0-3C9E885E44D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70A1494-1D3A-4CD8-BF13-7A7D74029AC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8A1771A-639B-4EFD-8B68-36062B22E7F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AA34BC7-2DD2-4713-9609-E58181C30FD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9E17B36-4041-43F3-A764-0538CD57567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7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6D1B3EA-C168-47EA-9DE0-5FB4F126B4E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4C6585A-FAE3-453B-826C-7650521C32E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8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081DCB9-41B7-4213-84E9-78CE4C00A99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28F4A5E-25E3-4182-99DF-3ED9F2B6D5D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87072D-B726-422C-A16A-9D82B718CD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8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E3813C0-F788-42FA-8806-3E91665A92D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08F750-A74E-41EA-AE87-32AE375192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5D4A49-0710-4871-9DD4-027C9B4C2F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EC5D2C-2FB3-4B51-BDC4-0567C90B97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653A23-09CE-4D5C-AF9E-67DB6D5430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BD6A09-239C-4437-8F19-71E9860077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5D9B10B-EF75-4F75-B14E-32D7AC5F58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DFC314-D827-4F52-BDA3-BEEA2A9917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023521-234F-43C3-B20D-FDB9DB56E3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E1F425-62BD-4E74-B9B6-57EC1E61B4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AE396B-C6FE-49F6-ADB0-35096C4858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BB5D1B-C3B3-4475-BCF1-C0433BCC70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8DF59B-E49F-407A-A26C-46E81C398F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1BC89A-2C8B-4F07-8DA5-E22075484D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6207D0-6109-4732-BDF3-34D9E9CA38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EA6276-C51F-4A2F-9F1D-5269AFBF1D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505102-9CC3-45F8-8C91-5C09886658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D0ED122-94C0-4EA9-95D9-8265BC441A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B45CE3-3D76-4913-BA8D-0B031081AD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0E7E72-D134-41A1-AAFB-98EFE46D13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AB842C-429E-4D4F-B009-2FAB1D13B8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01A01C-9DDB-41E0-ACF9-B43813C708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463FC0-DF2B-449D-BD21-7DA5CE77E1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D70C14-BC70-48B9-A9CA-03F996151F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839FBB-A982-48CD-A454-010B9B408A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03FCE7-9EF2-4579-8F0B-774F137741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7541E6-000E-428B-8501-6891D2D292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55C75B-B8FE-441F-AD29-C41D8923B0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66A1C9FE-7380-4FFA-B601-8EC491F43E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86EFE3-BD97-462D-86B3-F234DE7199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C139B1-1BEC-4FE5-8D94-619DB31356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21D4E4-19EB-4324-A124-F7ABF86541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9B988B-25E1-485C-BF29-E8BE1FD24E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D4587B-AEF8-4802-9933-059D302DF7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050B20-E1F1-4ED6-A5F3-E2B42FD86B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5CD811-6D15-4E4F-90D7-3294A74C32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671333-6D10-4308-A5C4-C27F6E31E9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618D76-9F1B-47D8-8AD9-B5517E0DFC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55C354-3CD2-48A1-A7E0-15054C3D4C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399D08A-D606-43B8-A657-DF36203117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21EE8B-498D-488C-A7F1-54D7C9A8BC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AEB187B-F996-4307-87AC-A83C655D03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1E753BB-9551-4D5F-9564-FA80D410FC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82C6780-95F7-4D00-8010-DD4D6EB524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8F7AA01-3A0E-4C19-9DAD-58FF7C086F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D90F1EC-C2A2-4635-9C22-0E0C20215C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DDAB1DE-80CD-4BCA-AA08-CA804CBC9D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F6B16CD-FE0F-4D1A-8E7D-73FBE0FC06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5D581B8-AB7F-4C52-B918-3E6E500C25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F1ED7AC-CEF8-47B9-B271-424FC65E1B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B1FE090-E97A-44A9-B490-79F9D2FE35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9EFC80C-9504-4C3C-B41D-0FA1CB82D4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CF7E601-37EB-4EDC-961E-E0A6295083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87823D6-474D-4858-B9EC-4D86E7FF7D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01B044-7032-40F2-BFB1-AF695B1098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3F7542-39CE-4041-8C1D-0735C06B75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56DE25-11BD-4DAF-8D86-CB7197723D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0CB971-7621-4E7E-BA4B-65DF670079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257B39-5D95-4417-A426-D84A320DC6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9D87FD-AD16-4445-87A3-9564FA8973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A6CF29-D668-4316-8DD2-CBBEF57ADD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C76F63C-13D9-4996-B2FC-9CFC914378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C60646-9523-437B-8362-5136177573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201D55-DB5C-4418-A2CF-4C1973755F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7FEBA5-21AA-45A1-9F46-7D5BF26492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1554A1-5DED-4475-A86B-484215BBC5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8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F8B367-E089-4FAD-817F-FB3B34E94E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C14687-7377-4037-8BCA-442A69394A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66BE35-D18C-4B0C-97E5-00865C0CED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E4B79C-594F-4491-97E0-5DBBB2F193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79ACDE-9724-4E38-A567-C338426C30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58653C-481E-4668-83EB-3DC5D35AB7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847460B-7009-4F19-9755-EBAAECF525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5F04D0-A776-4F30-AF1F-3F5068B633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AD3276-CADC-4DE4-8330-0602470848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9AEC74-7810-4D07-B946-D96092DF78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20A72F-2F4D-48C3-A906-2D7EF6D58D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0F8422-5E7D-4470-93CC-C043E06290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7B277B-BB9D-4CB3-BD46-7DF14D8C04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35D7FC-DD49-4C12-A667-B1D222476F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AEF4D3-28EE-457D-A363-3613B93BB0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2F1D73-58DC-448E-B589-D8FC5BAEA2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98F0B1-9D9F-4FE6-84FA-19225253E51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5.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C2ADF-28E7-47F4-957D-A18CF43B4C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925" name=""/>
          <p:cNvGrpSpPr/>
          <p:nvPr/>
        </p:nvGrpSpPr>
        <p:grpSpPr>
          <a:xfrm>
            <a:off x="0" y="0"/>
            <a:ext cx="9148320" cy="6851520"/>
            <a:chOff x="0" y="0"/>
            <a:chExt cx="9148320" cy="6851520"/>
          </a:xfrm>
        </p:grpSpPr>
        <p:sp>
          <p:nvSpPr>
            <p:cNvPr id="926"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29" name=""/>
            <p:cNvGrpSpPr/>
            <p:nvPr/>
          </p:nvGrpSpPr>
          <p:grpSpPr>
            <a:xfrm>
              <a:off x="455400" y="0"/>
              <a:ext cx="8092440" cy="6851520"/>
              <a:chOff x="455400" y="0"/>
              <a:chExt cx="8092440" cy="6851520"/>
            </a:xfrm>
          </p:grpSpPr>
          <p:sp>
            <p:nvSpPr>
              <p:cNvPr id="930"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3"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54" name=""/>
            <p:cNvGrpSpPr/>
            <p:nvPr/>
          </p:nvGrpSpPr>
          <p:grpSpPr>
            <a:xfrm>
              <a:off x="0" y="622440"/>
              <a:ext cx="9140760" cy="2493720"/>
              <a:chOff x="0" y="622440"/>
              <a:chExt cx="9140760" cy="2493720"/>
            </a:xfrm>
          </p:grpSpPr>
          <p:sp>
            <p:nvSpPr>
              <p:cNvPr id="955"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0"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963"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964"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965"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2A7B2-73F4-486B-A45F-280D228BFC0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00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004"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5"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07"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008"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130FC-F998-4620-BD79-53486255074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046" name="PlaceHolder 2"/>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47"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048" name="PlaceHolder 4"/>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96D8B-F339-4879-84CD-45823293D4D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049"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6" name=""/>
          <p:cNvGrpSpPr/>
          <p:nvPr/>
        </p:nvGrpSpPr>
        <p:grpSpPr>
          <a:xfrm>
            <a:off x="0" y="0"/>
            <a:ext cx="7620120" cy="6858000"/>
            <a:chOff x="0" y="0"/>
            <a:chExt cx="7620120" cy="6858000"/>
          </a:xfrm>
        </p:grpSpPr>
        <p:grpSp>
          <p:nvGrpSpPr>
            <p:cNvPr id="1087" name=""/>
            <p:cNvGrpSpPr/>
            <p:nvPr/>
          </p:nvGrpSpPr>
          <p:grpSpPr>
            <a:xfrm>
              <a:off x="0" y="0"/>
              <a:ext cx="3200400" cy="6858000"/>
              <a:chOff x="0" y="0"/>
              <a:chExt cx="3200400" cy="6858000"/>
            </a:xfrm>
          </p:grpSpPr>
          <p:sp>
            <p:nvSpPr>
              <p:cNvPr id="1088"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9"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1090" name=""/>
            <p:cNvGrpSpPr/>
            <p:nvPr/>
          </p:nvGrpSpPr>
          <p:grpSpPr>
            <a:xfrm>
              <a:off x="228600" y="1981080"/>
              <a:ext cx="7391520" cy="319320"/>
              <a:chOff x="228600" y="1981080"/>
              <a:chExt cx="7391520" cy="319320"/>
            </a:xfrm>
          </p:grpSpPr>
          <p:sp>
            <p:nvSpPr>
              <p:cNvPr id="1091"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2"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09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9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95" name="PlaceHolder 3"/>
          <p:cNvSpPr>
            <a:spLocks noGrp="1"/>
          </p:cNvSpPr>
          <p:nvPr>
            <p:ph type="dt" idx="3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96" name="PlaceHolder 4"/>
          <p:cNvSpPr>
            <a:spLocks noGrp="1"/>
          </p:cNvSpPr>
          <p:nvPr>
            <p:ph type="ftr" idx="38"/>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97" name="PlaceHolder 5"/>
          <p:cNvSpPr>
            <a:spLocks noGrp="1"/>
          </p:cNvSpPr>
          <p:nvPr>
            <p:ph type="sldNum" idx="3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F06B4-8EB4-4D9A-80A8-83E432FFE33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4" name=""/>
          <p:cNvGrpSpPr/>
          <p:nvPr/>
        </p:nvGrpSpPr>
        <p:grpSpPr>
          <a:xfrm>
            <a:off x="0" y="0"/>
            <a:ext cx="5867280" cy="6858000"/>
            <a:chOff x="0" y="0"/>
            <a:chExt cx="5867280" cy="6858000"/>
          </a:xfrm>
        </p:grpSpPr>
        <p:sp>
          <p:nvSpPr>
            <p:cNvPr id="1135"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6"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37" name=""/>
          <p:cNvGrpSpPr/>
          <p:nvPr/>
        </p:nvGrpSpPr>
        <p:grpSpPr>
          <a:xfrm>
            <a:off x="3632040" y="4889520"/>
            <a:ext cx="4876920" cy="318960"/>
            <a:chOff x="3632040" y="4889520"/>
            <a:chExt cx="4876920" cy="318960"/>
          </a:xfrm>
        </p:grpSpPr>
        <p:sp>
          <p:nvSpPr>
            <p:cNvPr id="1138"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9"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40" name="PlaceHolder 1"/>
          <p:cNvSpPr>
            <a:spLocks noGrp="1"/>
          </p:cNvSpPr>
          <p:nvPr>
            <p:ph type="dt" idx="40"/>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41" name="PlaceHolder 2"/>
          <p:cNvSpPr>
            <a:spLocks noGrp="1"/>
          </p:cNvSpPr>
          <p:nvPr>
            <p:ph type="ftr" idx="41"/>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42" name="PlaceHolder 3"/>
          <p:cNvSpPr>
            <a:spLocks noGrp="1"/>
          </p:cNvSpPr>
          <p:nvPr>
            <p:ph type="sldNum" idx="4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868DD-F381-448E-B703-B3BA1BE4D32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1143"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8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83" name="PlaceHolder 3"/>
          <p:cNvSpPr>
            <a:spLocks noGrp="1"/>
          </p:cNvSpPr>
          <p:nvPr>
            <p:ph type="dt" idx="43"/>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184" name="PlaceHolder 4"/>
          <p:cNvSpPr>
            <a:spLocks noGrp="1"/>
          </p:cNvSpPr>
          <p:nvPr>
            <p:ph type="ftr" idx="44"/>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185" name="PlaceHolder 5"/>
          <p:cNvSpPr>
            <a:spLocks noGrp="1"/>
          </p:cNvSpPr>
          <p:nvPr>
            <p:ph type="sldNum" idx="45"/>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02057-1084-4A7B-88A3-C92AE1A83C5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118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8" name=""/>
          <p:cNvGrpSpPr/>
          <p:nvPr/>
        </p:nvGrpSpPr>
        <p:grpSpPr>
          <a:xfrm>
            <a:off x="7920" y="5540400"/>
            <a:ext cx="1784520" cy="1246320"/>
            <a:chOff x="7920" y="5540400"/>
            <a:chExt cx="1784520" cy="1246320"/>
          </a:xfrm>
        </p:grpSpPr>
        <p:sp>
          <p:nvSpPr>
            <p:cNvPr id="118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98" name=""/>
            <p:cNvGrpSpPr/>
            <p:nvPr/>
          </p:nvGrpSpPr>
          <p:grpSpPr>
            <a:xfrm>
              <a:off x="7920" y="5540400"/>
              <a:ext cx="1784520" cy="1238400"/>
              <a:chOff x="7920" y="5540400"/>
              <a:chExt cx="1784520" cy="1238400"/>
            </a:xfrm>
          </p:grpSpPr>
          <p:grpSp>
            <p:nvGrpSpPr>
              <p:cNvPr id="1199" name=""/>
              <p:cNvGrpSpPr/>
              <p:nvPr/>
            </p:nvGrpSpPr>
            <p:grpSpPr>
              <a:xfrm>
                <a:off x="792000" y="5654520"/>
                <a:ext cx="870120" cy="1124280"/>
                <a:chOff x="792000" y="5654520"/>
                <a:chExt cx="870120" cy="1124280"/>
              </a:xfrm>
            </p:grpSpPr>
            <p:sp>
              <p:nvSpPr>
                <p:cNvPr id="120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06" name=""/>
              <p:cNvGrpSpPr/>
              <p:nvPr/>
            </p:nvGrpSpPr>
            <p:grpSpPr>
              <a:xfrm>
                <a:off x="7920" y="5540400"/>
                <a:ext cx="1784520" cy="1076400"/>
                <a:chOff x="7920" y="5540400"/>
                <a:chExt cx="1784520" cy="1076400"/>
              </a:xfrm>
            </p:grpSpPr>
            <p:sp>
              <p:nvSpPr>
                <p:cNvPr id="120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215" name=""/>
          <p:cNvGrpSpPr/>
          <p:nvPr/>
        </p:nvGrpSpPr>
        <p:grpSpPr>
          <a:xfrm>
            <a:off x="8680320" y="2116080"/>
            <a:ext cx="385920" cy="4308480"/>
            <a:chOff x="8680320" y="2116080"/>
            <a:chExt cx="385920" cy="4308480"/>
          </a:xfrm>
        </p:grpSpPr>
        <p:sp>
          <p:nvSpPr>
            <p:cNvPr id="121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8" name=""/>
          <p:cNvGrpSpPr/>
          <p:nvPr/>
        </p:nvGrpSpPr>
        <p:grpSpPr>
          <a:xfrm>
            <a:off x="7171560" y="-87480"/>
            <a:ext cx="2427480" cy="2247120"/>
            <a:chOff x="7171560" y="-87480"/>
            <a:chExt cx="2427480" cy="2247120"/>
          </a:xfrm>
        </p:grpSpPr>
        <p:grpSp>
          <p:nvGrpSpPr>
            <p:cNvPr id="1219" name=""/>
            <p:cNvGrpSpPr/>
            <p:nvPr/>
          </p:nvGrpSpPr>
          <p:grpSpPr>
            <a:xfrm>
              <a:off x="7171560" y="-87480"/>
              <a:ext cx="2427480" cy="2247120"/>
              <a:chOff x="7171560" y="-87480"/>
              <a:chExt cx="2427480" cy="2247120"/>
            </a:xfrm>
          </p:grpSpPr>
          <p:sp>
            <p:nvSpPr>
              <p:cNvPr id="122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21" name=""/>
              <p:cNvGrpSpPr/>
              <p:nvPr/>
            </p:nvGrpSpPr>
            <p:grpSpPr>
              <a:xfrm>
                <a:off x="7171560" y="-87480"/>
                <a:ext cx="2427480" cy="2247120"/>
                <a:chOff x="7171560" y="-87480"/>
                <a:chExt cx="2427480" cy="2247120"/>
              </a:xfrm>
            </p:grpSpPr>
            <p:sp>
              <p:nvSpPr>
                <p:cNvPr id="122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3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269" name="PlaceHolder 2"/>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270"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271" name="PlaceHolder 4"/>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FA28C-D7D1-4971-9A93-87A402E11E4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1272" name=""/>
          <p:cNvGrpSpPr/>
          <p:nvPr/>
        </p:nvGrpSpPr>
        <p:grpSpPr>
          <a:xfrm>
            <a:off x="195120" y="235080"/>
            <a:ext cx="3787920" cy="1778040"/>
            <a:chOff x="195120" y="235080"/>
            <a:chExt cx="3787920" cy="1778040"/>
          </a:xfrm>
        </p:grpSpPr>
        <p:sp>
          <p:nvSpPr>
            <p:cNvPr id="127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76" name=""/>
            <p:cNvGrpSpPr/>
            <p:nvPr/>
          </p:nvGrpSpPr>
          <p:grpSpPr>
            <a:xfrm>
              <a:off x="195120" y="235080"/>
              <a:ext cx="3787920" cy="1716120"/>
              <a:chOff x="195120" y="235080"/>
              <a:chExt cx="3787920" cy="1716120"/>
            </a:xfrm>
          </p:grpSpPr>
          <p:sp>
            <p:nvSpPr>
              <p:cNvPr id="127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282" name=""/>
          <p:cNvGrpSpPr/>
          <p:nvPr/>
        </p:nvGrpSpPr>
        <p:grpSpPr>
          <a:xfrm>
            <a:off x="7797600" y="4318560"/>
            <a:ext cx="979920" cy="1159560"/>
            <a:chOff x="7797600" y="4318560"/>
            <a:chExt cx="979920" cy="1159560"/>
          </a:xfrm>
        </p:grpSpPr>
        <p:sp>
          <p:nvSpPr>
            <p:cNvPr id="128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86" name=""/>
            <p:cNvGrpSpPr/>
            <p:nvPr/>
          </p:nvGrpSpPr>
          <p:grpSpPr>
            <a:xfrm>
              <a:off x="7797600" y="4318560"/>
              <a:ext cx="979920" cy="1159560"/>
              <a:chOff x="7797600" y="4318560"/>
              <a:chExt cx="979920" cy="1159560"/>
            </a:xfrm>
          </p:grpSpPr>
          <p:sp>
            <p:nvSpPr>
              <p:cNvPr id="128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9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33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32"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33"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34"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0CB8D-EC74-4EB6-B447-D6334A053C3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372" name="PlaceHolder 2"/>
          <p:cNvSpPr>
            <a:spLocks noGrp="1"/>
          </p:cNvSpPr>
          <p:nvPr>
            <p:ph type="dt" idx="52"/>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73" name="PlaceHolder 3"/>
          <p:cNvSpPr>
            <a:spLocks noGrp="1"/>
          </p:cNvSpPr>
          <p:nvPr>
            <p:ph type="ftr" idx="53"/>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74" name="PlaceHolder 4"/>
          <p:cNvSpPr>
            <a:spLocks noGrp="1"/>
          </p:cNvSpPr>
          <p:nvPr>
            <p:ph type="sldNum" idx="54"/>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DFFE6-B1A8-4716-9325-F9B1B7297EF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411" name=""/>
          <p:cNvGrpSpPr/>
          <p:nvPr/>
        </p:nvGrpSpPr>
        <p:grpSpPr>
          <a:xfrm>
            <a:off x="3600" y="1422360"/>
            <a:ext cx="9143640" cy="5435640"/>
            <a:chOff x="3600" y="1422360"/>
            <a:chExt cx="9143640" cy="5435640"/>
          </a:xfrm>
        </p:grpSpPr>
        <p:grpSp>
          <p:nvGrpSpPr>
            <p:cNvPr id="1412" name=""/>
            <p:cNvGrpSpPr/>
            <p:nvPr/>
          </p:nvGrpSpPr>
          <p:grpSpPr>
            <a:xfrm>
              <a:off x="31680" y="1422360"/>
              <a:ext cx="9115560" cy="5435640"/>
              <a:chOff x="31680" y="1422360"/>
              <a:chExt cx="9115560" cy="5435640"/>
            </a:xfrm>
          </p:grpSpPr>
          <p:sp>
            <p:nvSpPr>
              <p:cNvPr id="1413"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4"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5"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6"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7"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8"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9"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0"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1"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2"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3"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4"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5"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426" name=""/>
            <p:cNvGrpSpPr/>
            <p:nvPr/>
          </p:nvGrpSpPr>
          <p:grpSpPr>
            <a:xfrm>
              <a:off x="3600" y="3639960"/>
              <a:ext cx="2193840" cy="2694240"/>
              <a:chOff x="3600" y="3639960"/>
              <a:chExt cx="2193840" cy="2694240"/>
            </a:xfrm>
          </p:grpSpPr>
          <p:sp>
            <p:nvSpPr>
              <p:cNvPr id="1427"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28"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9"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0"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1"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2"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3"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4"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5"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6"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7"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8"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9"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0"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1"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2"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3"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4"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45"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6"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7"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8"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9"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0"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1"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2"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3"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4"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5"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6"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7"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8"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9"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0"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1"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2"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3"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4"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5"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6"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7"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8"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9"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0"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1"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2"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3"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4"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5"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6"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7"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8"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9"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80"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1"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2"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3"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4"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5"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6"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7"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8"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9"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0"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2"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3"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4"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5"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6"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7"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8"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9"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0"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01"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2"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3"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4"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5"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6"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7"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8"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9"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0"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1"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2"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3"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4"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5"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6"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17"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8"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9"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0"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1"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2"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3"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4"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5"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6"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7"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8"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9"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0"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1"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2"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3"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4"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5"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6"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7"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8"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9"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0"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1"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2"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3"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4"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5"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6"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7"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54"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55"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57"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8"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9"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0"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61"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63" name="PlaceHolder 2"/>
          <p:cNvSpPr>
            <a:spLocks noGrp="1"/>
          </p:cNvSpPr>
          <p:nvPr>
            <p:ph type="dt" idx="55"/>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64" name="PlaceHolder 3"/>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65" name="PlaceHolder 4"/>
          <p:cNvSpPr>
            <a:spLocks noGrp="1"/>
          </p:cNvSpPr>
          <p:nvPr>
            <p:ph type="sldNum" idx="57"/>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FE731-656A-43BB-B788-B43E53BFD6B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66"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57F9C-A637-4645-9199-78AC4F0CDD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603" name=""/>
          <p:cNvGrpSpPr/>
          <p:nvPr/>
        </p:nvGrpSpPr>
        <p:grpSpPr>
          <a:xfrm>
            <a:off x="3600" y="1422360"/>
            <a:ext cx="9143640" cy="5435640"/>
            <a:chOff x="3600" y="1422360"/>
            <a:chExt cx="9143640" cy="5435640"/>
          </a:xfrm>
        </p:grpSpPr>
        <p:grpSp>
          <p:nvGrpSpPr>
            <p:cNvPr id="1604" name=""/>
            <p:cNvGrpSpPr/>
            <p:nvPr/>
          </p:nvGrpSpPr>
          <p:grpSpPr>
            <a:xfrm>
              <a:off x="31680" y="1422360"/>
              <a:ext cx="9115560" cy="5435640"/>
              <a:chOff x="31680" y="1422360"/>
              <a:chExt cx="9115560" cy="5435640"/>
            </a:xfrm>
          </p:grpSpPr>
          <p:sp>
            <p:nvSpPr>
              <p:cNvPr id="1605"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6"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7"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8"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9"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0"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1"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2"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3"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4"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5"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6"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7"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618" name=""/>
            <p:cNvGrpSpPr/>
            <p:nvPr/>
          </p:nvGrpSpPr>
          <p:grpSpPr>
            <a:xfrm>
              <a:off x="3600" y="3639960"/>
              <a:ext cx="2193840" cy="2694240"/>
              <a:chOff x="3600" y="3639960"/>
              <a:chExt cx="2193840" cy="2694240"/>
            </a:xfrm>
          </p:grpSpPr>
          <p:sp>
            <p:nvSpPr>
              <p:cNvPr id="1619"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20"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1"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22"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23"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4"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5"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6"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7"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8"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9"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30"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1"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2"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3"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4"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5"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6"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37"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8"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9"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0"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1"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2"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3"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4"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5"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6"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7"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8"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9"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0"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1"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2"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3"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4"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5"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6"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7"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8"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59"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0"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1"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2"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3"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4"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5"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6"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7"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8"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9"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0"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1"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72"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3"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4"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5"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6"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7"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8"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9"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0"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1"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2"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4"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5"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6"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7"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8"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9"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0"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1"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2"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93"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4"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5"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6"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7"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8"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9"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0"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1"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2"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3"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4"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5"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6"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7"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8"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09"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0"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1"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2"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3"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4"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5"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6"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7"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8"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9"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0"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1"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2"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3"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4"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5"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6"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7"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8"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9"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0"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1"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2"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3"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4"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5"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6"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7"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8"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9"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46"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47"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49"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50"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53"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7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1755" name="PlaceHolder 2"/>
          <p:cNvSpPr>
            <a:spLocks noGrp="1"/>
          </p:cNvSpPr>
          <p:nvPr>
            <p:ph type="dt" idx="58"/>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756" name="PlaceHolder 3"/>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57" name="PlaceHolder 4"/>
          <p:cNvSpPr>
            <a:spLocks noGrp="1"/>
          </p:cNvSpPr>
          <p:nvPr>
            <p:ph type="sldNum" idx="60"/>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40D40-89B2-4DD4-9660-646C36F0983F}"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7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3" name=""/>
          <p:cNvGrpSpPr/>
          <p:nvPr/>
        </p:nvGrpSpPr>
        <p:grpSpPr>
          <a:xfrm>
            <a:off x="1071720" y="304920"/>
            <a:ext cx="7614720" cy="1106280"/>
            <a:chOff x="1071720" y="304920"/>
            <a:chExt cx="7614720" cy="1106280"/>
          </a:xfrm>
        </p:grpSpPr>
        <p:sp>
          <p:nvSpPr>
            <p:cNvPr id="514"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1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0"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2"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A2742-0677-4D7F-BC44-7638CD61FC8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3"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0" name=""/>
          <p:cNvGrpSpPr/>
          <p:nvPr/>
        </p:nvGrpSpPr>
        <p:grpSpPr>
          <a:xfrm>
            <a:off x="1658520" y="1600200"/>
            <a:ext cx="6837480" cy="3200400"/>
            <a:chOff x="1658520" y="1600200"/>
            <a:chExt cx="6837480" cy="3200400"/>
          </a:xfrm>
        </p:grpSpPr>
        <p:sp>
          <p:nvSpPr>
            <p:cNvPr id="561"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67"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8"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9"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F9D85-B69F-448C-8CA0-7D1DA337D33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0"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07" name=""/>
          <p:cNvGrpSpPr/>
          <p:nvPr/>
        </p:nvGrpSpPr>
        <p:grpSpPr>
          <a:xfrm>
            <a:off x="0" y="0"/>
            <a:ext cx="9144000" cy="6858000"/>
            <a:chOff x="0" y="0"/>
            <a:chExt cx="9144000" cy="6858000"/>
          </a:xfrm>
        </p:grpSpPr>
        <p:sp>
          <p:nvSpPr>
            <p:cNvPr id="608"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0"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1" name=""/>
          <p:cNvGrpSpPr/>
          <p:nvPr/>
        </p:nvGrpSpPr>
        <p:grpSpPr>
          <a:xfrm>
            <a:off x="0" y="6019920"/>
            <a:ext cx="7848720" cy="857160"/>
            <a:chOff x="0" y="6019920"/>
            <a:chExt cx="7848720" cy="857160"/>
          </a:xfrm>
        </p:grpSpPr>
        <p:sp>
          <p:nvSpPr>
            <p:cNvPr id="612"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3" name=""/>
            <p:cNvGrpSpPr/>
            <p:nvPr/>
          </p:nvGrpSpPr>
          <p:grpSpPr>
            <a:xfrm>
              <a:off x="3946680" y="6019920"/>
              <a:ext cx="3902040" cy="857160"/>
              <a:chOff x="3946680" y="6019920"/>
              <a:chExt cx="3902040" cy="857160"/>
            </a:xfrm>
          </p:grpSpPr>
          <p:sp>
            <p:nvSpPr>
              <p:cNvPr id="614"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9"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20" name=""/>
          <p:cNvGrpSpPr/>
          <p:nvPr/>
        </p:nvGrpSpPr>
        <p:grpSpPr>
          <a:xfrm>
            <a:off x="627120" y="6021360"/>
            <a:ext cx="5684760" cy="849240"/>
            <a:chOff x="627120" y="6021360"/>
            <a:chExt cx="5684760" cy="849240"/>
          </a:xfrm>
        </p:grpSpPr>
        <p:sp>
          <p:nvSpPr>
            <p:cNvPr id="621"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29"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3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31"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DA3AB-CD5A-4D99-A118-FC8B05D9BB2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68" name=""/>
          <p:cNvGrpSpPr/>
          <p:nvPr/>
        </p:nvGrpSpPr>
        <p:grpSpPr>
          <a:xfrm>
            <a:off x="-6480" y="20520"/>
            <a:ext cx="9144000" cy="6858000"/>
            <a:chOff x="-6480" y="20520"/>
            <a:chExt cx="9144000" cy="6858000"/>
          </a:xfrm>
        </p:grpSpPr>
        <p:sp>
          <p:nvSpPr>
            <p:cNvPr id="669"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1"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2" name=""/>
          <p:cNvGrpSpPr/>
          <p:nvPr/>
        </p:nvGrpSpPr>
        <p:grpSpPr>
          <a:xfrm>
            <a:off x="-1440" y="6033960"/>
            <a:ext cx="7844400" cy="850680"/>
            <a:chOff x="-1440" y="6033960"/>
            <a:chExt cx="7844400" cy="850680"/>
          </a:xfrm>
        </p:grpSpPr>
        <p:sp>
          <p:nvSpPr>
            <p:cNvPr id="673"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4" name=""/>
            <p:cNvGrpSpPr/>
            <p:nvPr/>
          </p:nvGrpSpPr>
          <p:grpSpPr>
            <a:xfrm>
              <a:off x="3944880" y="6033960"/>
              <a:ext cx="3898080" cy="850680"/>
              <a:chOff x="3944880" y="6033960"/>
              <a:chExt cx="3898080" cy="850680"/>
            </a:xfrm>
          </p:grpSpPr>
          <p:sp>
            <p:nvSpPr>
              <p:cNvPr id="675"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0"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81" name=""/>
          <p:cNvGrpSpPr/>
          <p:nvPr/>
        </p:nvGrpSpPr>
        <p:grpSpPr>
          <a:xfrm>
            <a:off x="627120" y="6021360"/>
            <a:ext cx="5684760" cy="849240"/>
            <a:chOff x="627120" y="6021360"/>
            <a:chExt cx="5684760" cy="849240"/>
          </a:xfrm>
        </p:grpSpPr>
        <p:sp>
          <p:nvSpPr>
            <p:cNvPr id="68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8"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689"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90" name="PlaceHolder 3"/>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A990E-C7C6-4497-9446-FAF5C4CDAD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91" name="PlaceHolder 4"/>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728" name=""/>
          <p:cNvGrpSpPr/>
          <p:nvPr/>
        </p:nvGrpSpPr>
        <p:grpSpPr>
          <a:xfrm>
            <a:off x="0" y="0"/>
            <a:ext cx="9144000" cy="6934320"/>
            <a:chOff x="0" y="0"/>
            <a:chExt cx="9144000" cy="6934320"/>
          </a:xfrm>
        </p:grpSpPr>
        <p:sp>
          <p:nvSpPr>
            <p:cNvPr id="72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3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7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49"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5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51"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13D3A-5B05-4547-8AB8-9AACBB9543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788" name=""/>
          <p:cNvGrpSpPr/>
          <p:nvPr/>
        </p:nvGrpSpPr>
        <p:grpSpPr>
          <a:xfrm>
            <a:off x="0" y="0"/>
            <a:ext cx="9144000" cy="6934320"/>
            <a:chOff x="0" y="0"/>
            <a:chExt cx="9144000" cy="6934320"/>
          </a:xfrm>
        </p:grpSpPr>
        <p:sp>
          <p:nvSpPr>
            <p:cNvPr id="78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8"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9"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10"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88A04-D921-4C63-AFC9-D091708883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847" name=""/>
          <p:cNvGrpSpPr/>
          <p:nvPr/>
        </p:nvGrpSpPr>
        <p:grpSpPr>
          <a:xfrm>
            <a:off x="1440" y="0"/>
            <a:ext cx="9149040" cy="6851520"/>
            <a:chOff x="1440" y="0"/>
            <a:chExt cx="9149040" cy="6851520"/>
          </a:xfrm>
        </p:grpSpPr>
        <p:sp>
          <p:nvSpPr>
            <p:cNvPr id="848"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1" name=""/>
            <p:cNvGrpSpPr/>
            <p:nvPr/>
          </p:nvGrpSpPr>
          <p:grpSpPr>
            <a:xfrm>
              <a:off x="457200" y="0"/>
              <a:ext cx="8093160" cy="6851520"/>
              <a:chOff x="457200" y="0"/>
              <a:chExt cx="8093160" cy="6851520"/>
            </a:xfrm>
          </p:grpSpPr>
          <p:sp>
            <p:nvSpPr>
              <p:cNvPr id="852"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65"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6" name=""/>
            <p:cNvGrpSpPr/>
            <p:nvPr/>
          </p:nvGrpSpPr>
          <p:grpSpPr>
            <a:xfrm>
              <a:off x="1440" y="622440"/>
              <a:ext cx="9141120" cy="2493720"/>
              <a:chOff x="1440" y="622440"/>
              <a:chExt cx="9141120" cy="2493720"/>
            </a:xfrm>
          </p:grpSpPr>
          <p:sp>
            <p:nvSpPr>
              <p:cNvPr id="877"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2"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85" name="PlaceHolder 2"/>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886"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887" name="PlaceHolder 4"/>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31231-1547-41B5-9805-00BCFD12333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88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30.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7.jpeg"/><Relationship Id="rId3" Type="http://schemas.openxmlformats.org/officeDocument/2006/relationships/slideLayout" Target="../slideLayouts/slideLayout196.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2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7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slideLayout" Target="../slideLayouts/slideLayout178.xml"/>
</Relationships>
</file>

<file path=ppt/slides/_rels/slide9.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755640" y="62064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7" name=""/>
          <p:cNvSpPr txBox="1"/>
          <p:nvPr/>
        </p:nvSpPr>
        <p:spPr>
          <a:xfrm>
            <a:off x="1547640" y="765000"/>
            <a:ext cx="5832720" cy="137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elf Information Portrai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798" name="" descr=""/>
          <p:cNvPicPr/>
          <p:nvPr/>
        </p:nvPicPr>
        <p:blipFill>
          <a:blip r:embed="rId1"/>
          <a:stretch/>
        </p:blipFill>
        <p:spPr>
          <a:xfrm>
            <a:off x="2411280" y="2852640"/>
            <a:ext cx="3816360" cy="286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32" name="PlaceHolder 2"/>
          <p:cNvSpPr>
            <a:spLocks noGrp="1"/>
          </p:cNvSpPr>
          <p:nvPr>
            <p:ph/>
          </p:nvPr>
        </p:nvSpPr>
        <p:spPr>
          <a:xfrm>
            <a:off x="457200" y="1981080"/>
            <a:ext cx="4037040" cy="4114800"/>
          </a:xfrm>
          <a:prstGeom prst="rect">
            <a:avLst/>
          </a:prstGeom>
          <a:noFill/>
          <a:ln w="0">
            <a:noFill/>
          </a:ln>
        </p:spPr>
        <p:txBody>
          <a:bodyPr lIns="90000" rIns="90000" tIns="46800" bIns="46800" anchor="t">
            <a:normAutofit/>
          </a:bodyPr>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arning styles: Learning style is an individual's unique approach to learning based on strengths, weaknesses, and preferences. </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career based on my learning style would be something active and I can do with my body. My number one choice would probably be a carpenter. I enjoy woodwork and find it amusing. Another career would be a surgeon. I would choose that because I like using my hands and I am interested in become a doctor.</a:t>
            </a:r>
            <a:endParaRPr b="0" lang="en-US" sz="1600" spc="-1" strike="noStrike">
              <a:solidFill>
                <a:srgbClr val="ffffff"/>
              </a:solidFill>
              <a:latin typeface="Tahoma"/>
            </a:endParaRPr>
          </a:p>
        </p:txBody>
      </p:sp>
      <p:sp>
        <p:nvSpPr>
          <p:cNvPr id="1833" name="PlaceHolder 3"/>
          <p:cNvSpPr>
            <a:spLocks noGrp="1"/>
          </p:cNvSpPr>
          <p:nvPr>
            <p:ph/>
          </p:nvPr>
        </p:nvSpPr>
        <p:spPr>
          <a:xfrm>
            <a:off x="4649760" y="1981080"/>
            <a:ext cx="4037040" cy="4114800"/>
          </a:xfrm>
          <a:prstGeom prst="rect">
            <a:avLst/>
          </a:prstGeom>
          <a:noFill/>
          <a:ln w="0">
            <a:noFill/>
          </a:ln>
        </p:spPr>
        <p:txBody>
          <a:bodyPr lIns="90000" rIns="90000" tIns="46800" bIns="46800" anchor="t">
            <a:normAutofit/>
          </a:bodyPr>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learning style is mostly like a kinaesthetic learner. I learn best by doing things. I think I also have a learning style where a learn best by reading. I can understand things better when I read it over one or three times. I am good with my hands so I can learn things using my body easily.</a:t>
            </a:r>
            <a:endParaRPr b="0" lang="en-US" sz="1600" spc="-1" strike="noStrike">
              <a:solidFill>
                <a:srgbClr val="ffffff"/>
              </a:solidFill>
              <a:latin typeface="Tahoma"/>
            </a:endParaRPr>
          </a:p>
        </p:txBody>
      </p:sp>
      <p:sp>
        <p:nvSpPr>
          <p:cNvPr id="1834" name=""/>
          <p:cNvSpPr txBox="1"/>
          <p:nvPr/>
        </p:nvSpPr>
        <p:spPr>
          <a:xfrm>
            <a:off x="2195640" y="620640"/>
            <a:ext cx="48099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EARNING STYL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1835" name="" descr="http://www.mccullagh.org/db9/1ds-15/kink-com-carpentry-shop.jpg"/>
          <p:cNvPicPr/>
          <p:nvPr/>
        </p:nvPicPr>
        <p:blipFill>
          <a:blip r:embed="rId2"/>
          <a:stretch/>
        </p:blipFill>
        <p:spPr>
          <a:xfrm>
            <a:off x="5003640" y="4221000"/>
            <a:ext cx="3313440" cy="220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ABLE OF CONTENTS</a:t>
            </a:r>
            <a:endParaRPr b="0" lang="en-US" sz="3800" spc="-1" strike="noStrike">
              <a:solidFill>
                <a:srgbClr val="000000"/>
              </a:solidFill>
              <a:latin typeface="Verdana"/>
            </a:endParaRPr>
          </a:p>
        </p:txBody>
      </p:sp>
      <p:sp>
        <p:nvSpPr>
          <p:cNvPr id="18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1--------------- TITLE PAGE</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2--------------- SKILL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3--------------- APTITUD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4--------------- VALU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5--------------- ATTITUD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6--------------- EXPERIENC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7--------------- INTELLIGENC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8--------------- PERSONALITY</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9--------------- LEARNING STYL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02"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343080">
              <a:lnSpc>
                <a:spcPct val="9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Skills: Proficiency, facility, or dexterity that is acquired or developed through training or experience.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I would like to say that I have some good skills. I am very active and I like sports. I am a good swimmer. Getting along with people is very easy for me. I am also a very good listener. I am also a very patient person. Also I am a numerical kind of person. I am good with numbers.</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There are a lot of careers out there. The career I want to aim to get is to be a doctor. A general doctor to be exact. This would suit me because I am a patient person woth numerical skills.</a:t>
            </a:r>
            <a:endParaRPr b="0" lang="en-US" sz="1600" spc="-1" strike="noStrike">
              <a:solidFill>
                <a:srgbClr val="ffffff"/>
              </a:solidFill>
              <a:latin typeface="Arial"/>
            </a:endParaRPr>
          </a:p>
        </p:txBody>
      </p:sp>
      <p:sp>
        <p:nvSpPr>
          <p:cNvPr id="1803" name="PlaceHolder 3"/>
          <p:cNvSpPr>
            <a:spLocks noGrp="1"/>
          </p:cNvSpPr>
          <p:nvPr>
            <p:ph/>
          </p:nvPr>
        </p:nvSpPr>
        <p:spPr>
          <a:xfrm>
            <a:off x="4648320" y="1600200"/>
            <a:ext cx="403848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4" name=""/>
          <p:cNvSpPr txBox="1"/>
          <p:nvPr/>
        </p:nvSpPr>
        <p:spPr>
          <a:xfrm>
            <a:off x="3132000" y="115920"/>
            <a:ext cx="291960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tile tx="0" ty="0" sx="100000" sy="100000" algn="ctr"/>
                </a:blipFill>
                <a:latin typeface="Arial Black"/>
              </a:rPr>
              <a:t>SKILLS</a:t>
            </a:r>
            <a:endParaRPr b="0" lang="en-US" sz="1800" spc="1" strike="noStrike">
              <a:ln w="9360">
                <a:solidFill>
                  <a:srgbClr val="000000"/>
                </a:solidFill>
                <a:miter/>
              </a:ln>
              <a:blipFill rotWithShape="0">
                <a:blip r:embed="rId5"/>
                <a:srcRect/>
                <a:tile tx="0" ty="0" sx="100000" sy="100000" algn="ctr"/>
              </a:blipFill>
              <a:latin typeface="Arial Black"/>
              <a:ea typeface="Arial Black"/>
            </a:endParaRPr>
          </a:p>
        </p:txBody>
      </p:sp>
      <p:pic>
        <p:nvPicPr>
          <p:cNvPr id="1805" name="" descr="http://pdp.bournemouth.ac.uk/images/transferable_skills.gif"/>
          <p:cNvPicPr/>
          <p:nvPr/>
        </p:nvPicPr>
        <p:blipFill>
          <a:blip r:embed="rId6"/>
          <a:stretch/>
        </p:blipFill>
        <p:spPr>
          <a:xfrm>
            <a:off x="5003640" y="2349360"/>
            <a:ext cx="345600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07"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titude: your inherent capacity, talent or ability to do something. Having a high aptitude for something means you are good at doing that something.</a:t>
            </a:r>
            <a:endParaRPr b="0" lang="en-US" sz="1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believe that my aptitudes varied. I think I am good at making decisions naturally. I believe that I have an aptitude for swimming. When I first went into a pool swimming came naturally to m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believe a good career based on my aptitude would be to be a swimmer. Maybe to be a pro swimmer one day. I would also really like to be able to go to the Olympics or some other kind of world event.</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8" name=""/>
          <p:cNvSpPr txBox="1"/>
          <p:nvPr/>
        </p:nvSpPr>
        <p:spPr>
          <a:xfrm rot="19983600">
            <a:off x="2124000" y="0"/>
            <a:ext cx="4896000" cy="1552680"/>
          </a:xfrm>
          <a:prstGeom prst="rect">
            <a:avLst/>
          </a:prstGeom>
        </p:spPr>
        <p:txBody>
          <a:bodyPr wrap="none" lIns="90000" rIns="90000" tIns="46800" bIns="46800" anchor="t" anchorCtr="1">
            <a:prstTxWarp prst="textDeflateBottom">
              <a:avLst>
                <a:gd name="adj" fmla="val 781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APTITUDES</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1809" name="" descr=""/>
          <p:cNvPicPr/>
          <p:nvPr/>
        </p:nvPicPr>
        <p:blipFill>
          <a:blip r:embed="rId1"/>
          <a:stretch/>
        </p:blipFill>
        <p:spPr>
          <a:xfrm>
            <a:off x="689040" y="1600200"/>
            <a:ext cx="3575160" cy="453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Values: relative worth, merit, or importance, something that is important to you.</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 value a lot of things. The number one thing I value is my family. If my family weren't wasn’t with me all these years I wouldn’t be the person I am today. I also treasure all the friends I have. I will always value every single one that have come and gone. The person I value the most in the world is my mother. She tries so hard to protect and raise us. When I am an adult I would like for her to take a break and I would support her.</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 career based on my values would probably be some kind of social caregiver. A social worker would be a good start, but im not that intrested in it.</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r>
              <a:rPr b="0" lang="en-CA" sz="1800" spc="-1" strike="noStrike">
                <a:solidFill>
                  <a:srgbClr val="ffffff"/>
                </a:solidFill>
                <a:latin typeface="Arial"/>
              </a:rPr>
              <a:t>represents family.    </a:t>
            </a:r>
            <a:endParaRPr b="0" lang="en-US" sz="1800" spc="-1" strike="noStrike">
              <a:solidFill>
                <a:srgbClr val="ffffff"/>
              </a:solidFill>
              <a:latin typeface="Arial"/>
            </a:endParaRPr>
          </a:p>
        </p:txBody>
      </p:sp>
      <p:sp>
        <p:nvSpPr>
          <p:cNvPr id="1812" name=""/>
          <p:cNvSpPr txBox="1"/>
          <p:nvPr/>
        </p:nvSpPr>
        <p:spPr>
          <a:xfrm>
            <a:off x="2484360" y="333360"/>
            <a:ext cx="40402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VALU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813" name="" descr="http://z.about.com/d/animatedtv/1/7/c/K/FamilyGuyParty.jpg"/>
          <p:cNvPicPr/>
          <p:nvPr/>
        </p:nvPicPr>
        <p:blipFill>
          <a:blip r:embed="rId1"/>
          <a:stretch/>
        </p:blipFill>
        <p:spPr>
          <a:xfrm>
            <a:off x="1258920" y="4575240"/>
            <a:ext cx="4105080" cy="228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1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titude: manner, disposition, feeling, position, etc., with regard to a person or thing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good career based on my attitudes would maybe be some kind of instructor. A teacher is the first thing that would suit me based on my attitude because I like to help others and am a positive person.</a:t>
            </a:r>
            <a:endParaRPr b="0" lang="en-US" sz="1800" spc="-1" strike="noStrike">
              <a:solidFill>
                <a:srgbClr val="ffffff"/>
              </a:solidFill>
              <a:latin typeface="Times New Roman"/>
            </a:endParaRPr>
          </a:p>
        </p:txBody>
      </p:sp>
      <p:sp>
        <p:nvSpPr>
          <p:cNvPr id="1816"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I would say that I have a positive attitude. I am cheerful of things and for people. I like to look on the bright side of things. Also I am a friendly person, and I make friends easily. I also think og my self as a helpful person. If someone doenst understand something I try to help them understand. Plus if they ask my about something I would try my best to help.</a:t>
            </a:r>
            <a:endParaRPr b="0" lang="en-US" sz="1800" spc="-1" strike="noStrike">
              <a:solidFill>
                <a:srgbClr val="ffffff"/>
              </a:solidFill>
              <a:latin typeface="Times New Roman"/>
            </a:endParaRPr>
          </a:p>
        </p:txBody>
      </p:sp>
      <p:sp>
        <p:nvSpPr>
          <p:cNvPr id="1817" name=""/>
          <p:cNvSpPr txBox="1"/>
          <p:nvPr/>
        </p:nvSpPr>
        <p:spPr>
          <a:xfrm>
            <a:off x="2411280" y="476280"/>
            <a:ext cx="3888000" cy="107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ATTITUDE</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1818" name="" descr="http://lifeinthenhs.files.wordpress.com/2009/03/teacher1.jpg"/>
          <p:cNvPicPr/>
          <p:nvPr/>
        </p:nvPicPr>
        <p:blipFill>
          <a:blip r:embed="rId3"/>
          <a:stretch/>
        </p:blipFill>
        <p:spPr>
          <a:xfrm>
            <a:off x="2700360" y="4603680"/>
            <a:ext cx="2303280" cy="2254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0"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343080">
              <a:lnSpc>
                <a:spcPct val="9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Verdana"/>
              </a:rPr>
              <a:t>Experience: a particular instance of personally encountering or undergoing something </a:t>
            </a:r>
            <a:endParaRPr b="0" lang="en-US" sz="1400" spc="-1" strike="noStrike">
              <a:solidFill>
                <a:srgbClr val="ffffff"/>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9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Verdana"/>
              </a:rPr>
              <a:t>I have had many experiences in my life. Some were harsh and unfair and some were good. One thing that I remember was 3 years ago. It was when I first stepped into high school. Everything felt new and overwhelming. It kind of felt lonely because every single one of my friends that I knew went to a different high school. It was frightening at first but I started to make friends pretty quickly. That experience taught me that no matter how bad things seem it would get better over time.</a:t>
            </a:r>
            <a:endParaRPr b="0" lang="en-US" sz="1400" spc="-1" strike="noStrike">
              <a:solidFill>
                <a:srgbClr val="ffffff"/>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9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Verdana"/>
              </a:rPr>
              <a:t>A good job out of my experiences probably would be some sort of counslor. I think so bacause ive been through a lot of things in my life and I would understand some of the feelings people have. Especially a high Scholl student.</a:t>
            </a:r>
            <a:endParaRPr b="0" lang="en-US" sz="1400" spc="-1" strike="noStrike">
              <a:solidFill>
                <a:srgbClr val="ffffff"/>
              </a:solidFill>
              <a:latin typeface="Verdana"/>
            </a:endParaRPr>
          </a:p>
        </p:txBody>
      </p:sp>
      <p:sp>
        <p:nvSpPr>
          <p:cNvPr id="1821" name=""/>
          <p:cNvSpPr txBox="1"/>
          <p:nvPr/>
        </p:nvSpPr>
        <p:spPr>
          <a:xfrm>
            <a:off x="1763640" y="260280"/>
            <a:ext cx="5400720" cy="1244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EXPERIENCES</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1822" name="" descr="http://www.clipartheaven.com/clipart/education_&amp;_schools/cartoons/counselor%27s_office_1.gif"/>
          <p:cNvPicPr/>
          <p:nvPr/>
        </p:nvPicPr>
        <p:blipFill>
          <a:blip r:embed="rId1"/>
          <a:stretch/>
        </p:blipFill>
        <p:spPr>
          <a:xfrm>
            <a:off x="2627280" y="4292640"/>
            <a:ext cx="4105440" cy="256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24" name="PlaceHolder 2"/>
          <p:cNvSpPr>
            <a:spLocks noGrp="1"/>
          </p:cNvSpPr>
          <p:nvPr>
            <p:ph/>
          </p:nvPr>
        </p:nvSpPr>
        <p:spPr>
          <a:xfrm>
            <a:off x="685800" y="2833200"/>
            <a:ext cx="7696080" cy="2652840"/>
          </a:xfrm>
          <a:prstGeom prst="rect">
            <a:avLst/>
          </a:prstGeom>
          <a:noFill/>
          <a:ln w="0">
            <a:noFill/>
          </a:ln>
        </p:spPr>
        <p:txBody>
          <a:bodyPr lIns="90000" rIns="90000" tIns="46800" bIns="46800" anchor="t">
            <a:normAutofit/>
          </a:bodyPr>
          <a:p>
            <a:pPr marL="343080" indent="-343080">
              <a:lnSpc>
                <a:spcPct val="80000"/>
              </a:lnSpc>
              <a:spcBef>
                <a:spcPts val="32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Intelligence: capacity for learning, reasoning, understanding, and similar forms of mental activity; aptitude in grasping truths, relationships, facts, meanings, etc. </a:t>
            </a:r>
            <a:endParaRPr b="0" lang="en-US" sz="1300" spc="-1" strike="noStrike">
              <a:solidFill>
                <a:srgbClr val="000000"/>
              </a:solidFill>
              <a:latin typeface="Comic Sans MS"/>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a:p>
            <a:pPr marL="343080" indent="-343080">
              <a:lnSpc>
                <a:spcPct val="80000"/>
              </a:lnSpc>
              <a:spcBef>
                <a:spcPts val="32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My intelligence is more of a mathematical than artistic. I prefer to do science and math over art. I enjoy doing math problems sometimes. I am also very interested in biology. I like learning about the human body and other sorts of things related to that. I also like space and I have a little bit of intelligence in the area of astronomy.</a:t>
            </a:r>
            <a:endParaRPr b="0" lang="en-US" sz="1300" spc="-1" strike="noStrike">
              <a:solidFill>
                <a:srgbClr val="000000"/>
              </a:solidFill>
              <a:latin typeface="Comic Sans MS"/>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a:p>
            <a:pPr marL="343080" indent="-343080">
              <a:lnSpc>
                <a:spcPct val="80000"/>
              </a:lnSpc>
              <a:spcBef>
                <a:spcPts val="32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A good careers suited for my intelligence is most likely a doctor. I would really like to be a doctor it is my dream job. Another job that sounds interesting and would suit me would be an astronomer. It sounds amazing enough just hearing about the things in space but would be great to also discover them.</a:t>
            </a:r>
            <a:endParaRPr b="0" lang="en-US" sz="1300" spc="-1" strike="noStrike">
              <a:solidFill>
                <a:srgbClr val="000000"/>
              </a:solidFill>
              <a:latin typeface="Comic Sans MS"/>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p:txBody>
      </p:sp>
      <p:sp>
        <p:nvSpPr>
          <p:cNvPr id="1825" name=""/>
          <p:cNvSpPr txBox="1"/>
          <p:nvPr/>
        </p:nvSpPr>
        <p:spPr>
          <a:xfrm>
            <a:off x="2124000" y="0"/>
            <a:ext cx="485316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INTELLIGENCES</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pic>
        <p:nvPicPr>
          <p:cNvPr id="1826" name="" descr=""/>
          <p:cNvPicPr/>
          <p:nvPr/>
        </p:nvPicPr>
        <p:blipFill>
          <a:blip r:embed="rId1"/>
          <a:stretch/>
        </p:blipFill>
        <p:spPr>
          <a:xfrm>
            <a:off x="0" y="981000"/>
            <a:ext cx="1898640" cy="1844640"/>
          </a:xfrm>
          <a:prstGeom prst="rect">
            <a:avLst/>
          </a:prstGeom>
          <a:ln w="0">
            <a:noFill/>
          </a:ln>
        </p:spPr>
      </p:pic>
      <p:pic>
        <p:nvPicPr>
          <p:cNvPr id="1827" name="" descr="http://www.computerfreewallpapers.com/images/wallpapers/Misconstrue-Space-Art-681299.jpeg"/>
          <p:cNvPicPr/>
          <p:nvPr/>
        </p:nvPicPr>
        <p:blipFill>
          <a:blip r:embed="rId2"/>
          <a:stretch/>
        </p:blipFill>
        <p:spPr>
          <a:xfrm>
            <a:off x="6084720" y="4941720"/>
            <a:ext cx="2195640" cy="158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8"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ersonality: the visible aspect of one's character as it impresses others</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 have a enthusiastic personality. I am very cheerful and look forward to a lot of things. I believe that I am kind, caring, thoughtful and eager to please. I also am a patient person. If I have to wait for something  I can wai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good job that suits my personality would be a a positive environment where I could be eager to learn. Maybe a some sort of couch would do, or something along that line. Such  as a P.E teacher</a:t>
            </a:r>
            <a:endParaRPr b="0" lang="en-US" sz="1600" spc="-1" strike="noStrike">
              <a:solidFill>
                <a:srgbClr val="003366"/>
              </a:solidFill>
              <a:latin typeface="Arial"/>
            </a:endParaRPr>
          </a:p>
        </p:txBody>
      </p:sp>
      <p:sp>
        <p:nvSpPr>
          <p:cNvPr id="1829" name=""/>
          <p:cNvSpPr txBox="1"/>
          <p:nvPr/>
        </p:nvSpPr>
        <p:spPr>
          <a:xfrm>
            <a:off x="1763640" y="333360"/>
            <a:ext cx="4537080" cy="1224000"/>
          </a:xfrm>
          <a:prstGeom prst="rect">
            <a:avLst/>
          </a:prstGeom>
        </p:spPr>
        <p:txBody>
          <a:bodyPr wrap="none" lIns="90000" rIns="90000" tIns="46800" bIns="46800" anchor="t" anchorCtr="1">
            <a:prstTxWarp prst="textFadeUp">
              <a:avLst>
                <a:gd name="adj" fmla="val 8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PERSONALITY</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pic>
        <p:nvPicPr>
          <p:cNvPr id="1830" name="" descr=""/>
          <p:cNvPicPr/>
          <p:nvPr/>
        </p:nvPicPr>
        <p:blipFill>
          <a:blip r:embed="rId1"/>
          <a:stretch/>
        </p:blipFill>
        <p:spPr>
          <a:xfrm>
            <a:off x="5580000" y="3213000"/>
            <a:ext cx="2376720" cy="192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02:31:22Z</dcterms:created>
  <dc:creator>Hasan</dc:creator>
  <dc:description/>
  <dc:language>en-US</dc:language>
  <cp:lastModifiedBy>john.deguzman</cp:lastModifiedBy>
  <dcterms:modified xsi:type="dcterms:W3CDTF">2010-02-25T22:08:12Z</dcterms:modified>
  <cp:revision>3</cp:revision>
  <dc:subject/>
  <dc:title>Slide 1</dc:title>
</cp:coreProperties>
</file>