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11.jpeg" ContentType="image/jpeg"/>
  <Override PartName="/ppt/media/image16.gif" ContentType="image/gif"/>
  <Override PartName="/ppt/media/image2.png" ContentType="image/png"/>
  <Override PartName="/ppt/media/image15.jpeg" ContentType="image/jpeg"/>
  <Override PartName="/ppt/media/image14.wmf" ContentType="image/x-wmf"/>
  <Override PartName="/ppt/media/image5.jpeg" ContentType="image/jpeg"/>
  <Override PartName="/ppt/media/image9.wmf" ContentType="image/x-wmf"/>
  <Override PartName="/ppt/media/image10.jpeg" ContentType="image/jpeg"/>
  <Override PartName="/ppt/media/image1.png" ContentType="image/png"/>
  <Override PartName="/ppt/media/image17.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1FC32710-B053-4958-B1A4-1F4D633FEF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D5E4955-B078-4E55-A1F2-B6D757C46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577ECF-69E6-4E37-A0BC-342DEE86E1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CE52AA-BEC0-484A-B000-545FDC1FEE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604EA7-EB80-424B-9529-7E889B3950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BE8F1E-4A8D-48D7-8BCC-4481EE26A2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71ABD7-3C99-479F-84CF-7B16EC17B5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3DCF2F-9BF9-46E8-B392-34CB62168F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F92F63-49B2-40C5-AA23-686ACCE37C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7775B9-6F54-48D9-9C71-9492D0954F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B8848F-41AD-4191-A494-0C6D1D8A9B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604795D-0CB9-4942-9D2F-DEA7841B911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D7229A1-9172-4B25-801B-C77D8F464CF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758E6D-AA28-4CB1-95BF-A49DA9FCEEB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17A6A5-C608-4CA8-821B-300317FCE3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BF10B5-27F4-4196-9575-B9471294A9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73B99C-7F77-41E9-8729-08CFFF2A7F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C47E82-EE29-4094-A020-CEE1B67BD1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A8CDAE-29F4-4078-AE8E-5E566E5409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649840-BC45-40E5-BA42-EA2A5AE7B0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6115B8-A3C6-4FE6-BDEB-4299BECDB6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25D075-4FF7-41A9-A16D-A962F9E1F0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9E5F987-74BD-4FCA-BCFF-4D3CF93D927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2D6A3AE-48ED-41FB-B8F4-3FB4E54E468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DF310F6-018A-48EB-AC1F-E3E2D428A62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602F111-62B9-43B4-BCA5-4C9268377F7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0D3653-0A80-4C08-B15B-D006507756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834127-45E2-43A8-AA13-9BC3F19D03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EDAC33-F637-42B7-B02A-281B54A150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BD2DD9-1094-4C89-BDE9-8012D2C0B1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587C28-7EAC-444B-8C70-F3A50A70C7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850FDA-9E1A-445F-9736-B7D8061050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C30088-1F1D-4404-BE75-41326691BD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5DC42C-D19E-4096-B2EF-B644E81248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B038F0-A389-46E9-8289-C0E31B443A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9B70EF-7D65-4F2E-A338-CED84DE797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95908A-C377-47C8-87B7-48B52537D52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C6DAC29-551F-4E23-B104-D15CE42A337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C379E46-D346-4D10-8974-C41EC8244D0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9817B17-60A7-4532-96CB-B0C0D4BA3F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B84ECC-E506-4C2D-ABDD-042F529740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C4F29B-82E3-461D-843E-11AA52F5B0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7D45DB-03B6-4AB9-94AB-DB1C07D8E3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B0E093-9BD0-4203-A172-EDB61159B0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2DA2A7-F394-4364-8A3B-6B7B8C2A8E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A5A99-6376-486D-B264-6BCDBC1D7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C5CA4D-101A-4202-B9DD-1F6AED493B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9EBD87-30AC-4C41-BB17-C72011E24C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078BF9-C9DF-4F4E-92E9-A6DF75B3DF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583BE5E-AEFD-414D-B97D-343C8188410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4E256FE-58D1-4919-9232-3C895D626D6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8019139-C416-406D-85F5-E46BD855888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4FC0BE-F2C1-45F2-8F58-EE2FA270B8E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21442B0-140F-4169-A897-566D381ECCF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DE6C03F-7DA0-44FA-93CB-415FEFEFBFE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3DB72B0-1465-417E-B3C4-26342263E3C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E561D-6A54-44BF-BA69-A0F92509A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22BA9C9-BCA9-407E-ADAF-C9A1EA8AE99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F22210-2145-4BBA-81FB-B4EFBA31BD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4206E6E-1138-40BB-9A79-51E88472FD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31566E-85BC-4AE1-AFC1-6C31B962C6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D47A49C-E8E6-4853-BD8B-99E79CDF8F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9C21003-A2C0-4AA0-BD63-FA7E2C98E83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F964C5B-789F-44E9-8EEE-A736C4AE4BF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20AA31D-CCDE-4155-A12D-3E487E67AB4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7DB7852-822C-4671-897B-4DCAB99A52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72F50FF-42B4-4B32-ABC0-427E0CD74AA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B81BC-36B2-46B0-87F1-B08B7594A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F449D21-451E-4D82-9FCA-0E18F44135A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AB405E0-85EB-4BE8-A2F4-B20D300D490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103A72A-BA8A-4F88-B4C4-4BB7E0B0B03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CC53A6E-972D-4E99-BBA9-E97B36E68F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09F373F-088B-490A-9431-0C77835110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04296B-EA8A-461B-8CDF-EA1A1E744F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CEC2440-8481-4553-B291-71C2C846787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AC89723-ABF0-4D9C-BA52-D0A9BCFC7A3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676D9F9-242D-426C-A404-CD17A951960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442D676-8F6B-4C1C-9EE0-92AE89BB58F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8041F-8A75-42AE-88D7-FD3C67FB5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0C670BB-DE01-4F70-A972-6234D07A724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AFCCC5A-C804-4150-8E66-75D7EA20D3D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53AB701-0A88-426C-AB08-DB773335822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1FF09D6-8A8F-41B2-8066-BBD920F4AC2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9AC737B-1DE4-4ED4-9C4C-A6D9E4BC5CB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7A6D573-3393-4986-BE98-1DA4479C5D2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FC17C1D-6379-40D9-A411-7A723F9FE02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F789D4D-DDD5-4FBB-B15B-DBDEC2FA442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6A35CE9-0131-47FE-96A9-A0FBC80ED11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49AFC1A-E4C1-4E6C-9140-2C93C5249BC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F0EF1-97F5-4C78-899B-97EB148F0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6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9CB3A43-DBC3-4ED9-AFF7-75E9D9D4A58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61CAE9B-9D7F-45D9-A4D3-2B589A75C25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C58A43C-EB65-4CA3-833E-C55600041AA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4E0B60D-E517-4A88-AAD8-2B4C74B79B6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941D9FE-4EA2-4B3C-B3F7-5DC7E38C122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6E78E00-7669-4F45-9CEC-CA9081A6752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36F4B2C-BCB5-4CBE-AF7F-E64F86A3493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C5A5E4C-9122-4D3D-8CA9-3027C8761DD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1AE92F1-DF0E-4CF5-B15B-4CC8ABE1AA2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AF875F5-441C-4358-AFF5-2A447A42DAD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C0AD7-00CE-41AC-824B-DBB3D5DAC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EE4901D-B72A-42F6-B235-099900F98A0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AD3D6AE-FB75-4AC4-8452-DC3D4079598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E2F82D3-84C7-4005-B929-58D7D627169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589FD25-AAC3-4F59-95EF-00861C6D0ED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0306E25-D3F1-4ACE-A692-9E855BF32F1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69D6A22-2990-46C2-B12C-FC98A90844B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1738788-6543-49B3-BBB0-4604B3599E2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C244770-FA3F-48D2-8FC1-6080BDF5605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E4EC33B-8CBA-4AE3-827D-7AC3F8882E7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D594060-7FC8-4DED-B777-C855294E1A2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79697C8-57E8-4F44-B35A-ABDE61E863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AEF92-E897-44EB-873E-E0B733EAA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1A15F57-E2DB-4696-B64D-36069A20CB9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E3E4590-CE2D-42A7-9F8F-9D48D623422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5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C8C09DD-BC3B-47D1-9069-BBFE16BC326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87A30FC-C6C2-4A1D-8ED6-02E23F20511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63671A7-53DF-47D1-B513-8BB2D1C4676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68DEE2B-D2E0-4F74-BADF-57CCA761124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37A0F1F-400F-4F3F-8E9A-270B3A36D8A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F0A70CC-355A-4AD9-A9B7-DC9750E33BD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2D19721-1B98-413A-87EE-5C250C29033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22A7AE5-732A-4457-8FE8-6600D0E7B60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D4C89-34D0-4F67-9400-F90AC1497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B1AE2C5-C525-4DAC-B6F1-D2B41ED03CF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9BBE644-5D11-4655-AFBE-48174506BE4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FBEDABB-1863-45FB-BDA9-1A841EB3039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EF7FCB4-B24C-4FAF-9C2E-3D213C7E91F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1E0EBBE-5942-4937-8178-AABD72934B7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37253F7-97B3-45C5-97E7-0DF8C209396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0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1839860-E82B-405D-9DD5-33E4105A600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828223D-DB69-4549-B5CE-D1805F07968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AB8C021-9861-4C9D-A6AE-6742DEF25CC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FB66289-B6CC-4113-84BD-92C322A62FD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76E13-ADA3-43C0-9817-A92A9DCBF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4F5E748-F201-4A43-8149-4173EE91CA6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6A96F55-83A6-44D5-951B-A1AA352F9A5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45B952C-4FF0-46D3-A328-68EFD01F028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E70C708-E815-4038-AB13-956E4734FD2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0464089-78D5-4B55-BE88-056C813B91C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BBC5D67-8D34-477C-8DB2-D04F924D6AA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DD65168-6C20-4B73-8136-23B8E704442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840CA96-FDBD-472C-A09B-0396C399EFD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E4F9DF3-B080-4DE9-A9E3-AB8D707B4DA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A75A73C-38EF-4F6D-BA16-D0DDC5E7DEA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12C973-CB88-4AF2-A672-12E22361CF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77A9AD1-7717-4487-817A-59BCDA4DE12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CDC9806-8856-4B78-A648-8B0B70BAA60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1791B42-FCBF-416E-95CC-4765B4CCFA3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3E900F3-0239-4A45-A136-7CE5F0A9E72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15F3767-F063-479B-B48F-4BFF052C1BB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CF16D5A-6CA3-49CF-8AC4-EC5E343F26F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ECA0B97-45FA-41DF-92FD-62C4F9AAD55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AC348CB-22CF-4634-AEAD-181EC6568D9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1D60366-8EF0-4478-A2C2-6A7726FDA4B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01CC0AE-F550-4B0F-8D73-F9D3F252372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438FCB-66FC-421A-90AD-8670471FDA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8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F06268C-33AF-47A5-8A23-45EDA6ACF33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2024DD-D8D5-496A-89A2-0D8F80BE2C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5C4618-91F4-492A-8C1E-B6B26131E2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056A89-19DE-4388-AE7F-38C7103954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E3CB6B-A1BF-4326-A64F-D6BFC8CAE9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E796DF-DE97-4637-B6B5-68F28FEC98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294AF62-124F-4B1A-8A5A-F15AD7A5F8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E0B854-8C70-4CBE-993A-C15E080C3C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D2C769-24EB-4377-8011-452CC11E32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28F971-6015-4F74-A934-9AC5E8F886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CE5C20-9DDC-4081-95A5-D7054241DB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15E0EB-2886-4FA0-9456-1EEA9C3550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0ECF67-6A95-4B82-893E-32123B4B67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E446CF-3DE3-4A59-B465-7B5F12BD38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645356-EBD3-4755-A1BB-C48738812F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794D91-7773-4447-9FD5-25F66E15F8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CE99D9-8991-484F-A646-B7DADC4962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B225E25-D4FC-407E-9EDB-E6CE09C93C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AFA256-046C-45C8-9D02-EBA0A68794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C07CE6-4DF4-4513-8BD4-D64092DED2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CF75F1-A769-49AE-9F8F-FC9E9AA690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6CBAC4-759F-4E1B-994E-88911A6EEA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C5F5FD-CD3E-4969-804D-C1F9A7F0D1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7186D7-7068-4827-9905-8307B87C4B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640FC3-E7A8-46B2-B0CA-D953EA5E91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B15D29-2D3D-4777-A273-92D245DEB1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622F91-6B0A-4639-BA1D-56D7CE4402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6EE4B9-DAA4-4DBE-81AF-DBE2C310DD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3A33927-609A-43EC-B566-7523498F35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9FABEC-1DBC-40D1-933D-181BF7F82C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EE617E-9F13-4E50-8AB3-893F3AD4F6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6C0865-83A5-414A-A5EE-DD2BB80AAF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AAB41A-4C4C-4468-903C-C5E09ACD1B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AE5BDD-6B4C-4DB3-B6EA-C36D1C88E2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5B4601-1D39-47D8-951C-17E3C070C3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B28D06-AF59-4675-823D-0086903F2A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FC794C-09EC-4533-8038-8C404B12D7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0CED64-03F4-4543-ABE0-E12EECE55F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A07808-F2EF-42B1-8BA1-0B8F2DEC3F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8AA561E-C548-4D0C-975A-FEF99CAFAD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DFA696-6E73-4FD3-AD46-69B36A276C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72D8980-69D3-4363-9F81-BEC0D96A43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15D8F72-04FF-4662-843D-682BC324F7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EBA1878-68BF-4F24-AA5D-CB08AE6A95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2BB6EF6-C728-4DDE-9F1F-B50C54BCAE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C4322E4-BFAA-4619-89CA-67410B5DED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DF58519-D77D-4D5B-B9D0-C97A5D77D8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694EF41-8BFC-446F-89DC-F5A19CDC8A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B6648A5-CA59-41E2-AF1E-41C63F1A20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7FE6AD0-AC34-491E-9391-3367E03E0D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AEC0BA6-78D8-4223-AB1E-A2599509BB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422B6E8-B307-4F44-BDA1-3D418C4314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7B530A4-59D2-4E9D-9FC9-CA8ACDFBAA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BEF01DC-4172-4828-8B76-EAA3A85621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30E85F-F578-4C26-BC17-42B574867F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CA2C30-3BB1-45AB-98B4-DE7140994C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F97D62-190A-4AE1-9F00-38EFD285E7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9E4766-2313-4A7C-973C-4F2FDA43C0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813DC2-95FF-4443-8B88-66440936DC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43AFD9-5E61-4CB9-AA0F-624C95568D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8C4F37-BFE8-489D-8DD1-5B3A8DFEEB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3E5F7A8-3FCE-4E08-B9FD-744217A186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49E686-A8C2-4575-8CE9-B4C101A279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520EE8-0A56-45CA-B17E-0B09889655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0E1E88-9F49-463F-A430-2657E3269B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B6F22A-E69C-4C7D-B77F-7BD54ED6FD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81303C-14B5-4D25-9F52-E2A8F5C607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9F75BA-938E-4C48-AF12-F7DA61504C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BDBD59-E751-4AD0-8568-F2B5B7C0CB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15B9AD-C511-4F1E-A45F-2818EAA1E5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930486-B045-4381-9A40-686568E095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6D86EA-685E-4CBD-BA9A-C4797FC94C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F234093-4117-4E31-ABFF-567BD4A57A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326294-BC92-4C02-8A2F-34AAFC7DCE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7692DB-7A24-4F96-B3EC-A52CDBE7DE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3DA9E8-BAC7-4809-881C-AD1802B9F2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A2B50D-92BD-413D-AA16-E86D5732A3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9EDF1E-DD15-4723-85E1-4D9F048272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13009E-91BE-4132-B3D5-1D7FD4C1D0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402BB5-FCF8-4C72-AA47-C12FB67053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E6F057-0C35-4DA7-98F3-2EC6D7AC47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D22746-133B-4955-9CC4-96431AD6CC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837224-CA74-478F-9375-78D600A01CA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EC88E-FB3C-4836-9FEA-899FEEA0B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925" name=""/>
          <p:cNvGrpSpPr/>
          <p:nvPr/>
        </p:nvGrpSpPr>
        <p:grpSpPr>
          <a:xfrm>
            <a:off x="0" y="0"/>
            <a:ext cx="9148320" cy="6851520"/>
            <a:chOff x="0" y="0"/>
            <a:chExt cx="9148320" cy="6851520"/>
          </a:xfrm>
        </p:grpSpPr>
        <p:sp>
          <p:nvSpPr>
            <p:cNvPr id="926"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29" name=""/>
            <p:cNvGrpSpPr/>
            <p:nvPr/>
          </p:nvGrpSpPr>
          <p:grpSpPr>
            <a:xfrm>
              <a:off x="455400" y="0"/>
              <a:ext cx="8092440" cy="6851520"/>
              <a:chOff x="455400" y="0"/>
              <a:chExt cx="8092440" cy="6851520"/>
            </a:xfrm>
          </p:grpSpPr>
          <p:sp>
            <p:nvSpPr>
              <p:cNvPr id="930"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3"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4" name=""/>
            <p:cNvGrpSpPr/>
            <p:nvPr/>
          </p:nvGrpSpPr>
          <p:grpSpPr>
            <a:xfrm>
              <a:off x="0" y="622440"/>
              <a:ext cx="9140760" cy="2493720"/>
              <a:chOff x="0" y="622440"/>
              <a:chExt cx="9140760" cy="2493720"/>
            </a:xfrm>
          </p:grpSpPr>
          <p:sp>
            <p:nvSpPr>
              <p:cNvPr id="955"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0"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963"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964"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965"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22D9-6BBA-4497-8496-470AE6AE617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00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004"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07"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08"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CBFE-AFF8-4D89-BCC2-A8EF53DB801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046" name="PlaceHolder 2"/>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47"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048" name="PlaceHolder 4"/>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0226-37F5-4DC2-A831-4315E22626C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04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6" name=""/>
          <p:cNvGrpSpPr/>
          <p:nvPr/>
        </p:nvGrpSpPr>
        <p:grpSpPr>
          <a:xfrm>
            <a:off x="0" y="0"/>
            <a:ext cx="7620120" cy="6858000"/>
            <a:chOff x="0" y="0"/>
            <a:chExt cx="7620120" cy="6858000"/>
          </a:xfrm>
        </p:grpSpPr>
        <p:grpSp>
          <p:nvGrpSpPr>
            <p:cNvPr id="1087" name=""/>
            <p:cNvGrpSpPr/>
            <p:nvPr/>
          </p:nvGrpSpPr>
          <p:grpSpPr>
            <a:xfrm>
              <a:off x="0" y="0"/>
              <a:ext cx="3200400" cy="6858000"/>
              <a:chOff x="0" y="0"/>
              <a:chExt cx="3200400" cy="6858000"/>
            </a:xfrm>
          </p:grpSpPr>
          <p:sp>
            <p:nvSpPr>
              <p:cNvPr id="1088"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1090" name=""/>
            <p:cNvGrpSpPr/>
            <p:nvPr/>
          </p:nvGrpSpPr>
          <p:grpSpPr>
            <a:xfrm>
              <a:off x="228600" y="1981080"/>
              <a:ext cx="7391520" cy="319320"/>
              <a:chOff x="228600" y="1981080"/>
              <a:chExt cx="7391520" cy="319320"/>
            </a:xfrm>
          </p:grpSpPr>
          <p:sp>
            <p:nvSpPr>
              <p:cNvPr id="1091"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2"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9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95"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96"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7"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4D498-E057-46CC-9ECF-9F6368BE930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4" name=""/>
          <p:cNvGrpSpPr/>
          <p:nvPr/>
        </p:nvGrpSpPr>
        <p:grpSpPr>
          <a:xfrm>
            <a:off x="0" y="0"/>
            <a:ext cx="5867280" cy="6858000"/>
            <a:chOff x="0" y="0"/>
            <a:chExt cx="5867280" cy="6858000"/>
          </a:xfrm>
        </p:grpSpPr>
        <p:sp>
          <p:nvSpPr>
            <p:cNvPr id="1135"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37" name=""/>
          <p:cNvGrpSpPr/>
          <p:nvPr/>
        </p:nvGrpSpPr>
        <p:grpSpPr>
          <a:xfrm>
            <a:off x="3632040" y="4889520"/>
            <a:ext cx="4876920" cy="318960"/>
            <a:chOff x="3632040" y="4889520"/>
            <a:chExt cx="4876920" cy="318960"/>
          </a:xfrm>
        </p:grpSpPr>
        <p:sp>
          <p:nvSpPr>
            <p:cNvPr id="1138"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9"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40"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41"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42" name="PlaceHolder 3"/>
          <p:cNvSpPr>
            <a:spLocks noGrp="1"/>
          </p:cNvSpPr>
          <p:nvPr>
            <p:ph type="sldNum" idx="4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CB6C-0EEA-460E-8FA4-774DFAFA4E0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143"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8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83" name="PlaceHolder 3"/>
          <p:cNvSpPr>
            <a:spLocks noGrp="1"/>
          </p:cNvSpPr>
          <p:nvPr>
            <p:ph type="dt" idx="43"/>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184" name="PlaceHolder 4"/>
          <p:cNvSpPr>
            <a:spLocks noGrp="1"/>
          </p:cNvSpPr>
          <p:nvPr>
            <p:ph type="ftr" idx="44"/>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185" name="PlaceHolder 5"/>
          <p:cNvSpPr>
            <a:spLocks noGrp="1"/>
          </p:cNvSpPr>
          <p:nvPr>
            <p:ph type="sldNum" idx="4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71EB-74FE-42B7-8570-181417E5DD1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18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8" name=""/>
          <p:cNvGrpSpPr/>
          <p:nvPr/>
        </p:nvGrpSpPr>
        <p:grpSpPr>
          <a:xfrm>
            <a:off x="7920" y="5540400"/>
            <a:ext cx="1784520" cy="1246320"/>
            <a:chOff x="7920" y="5540400"/>
            <a:chExt cx="1784520" cy="1246320"/>
          </a:xfrm>
        </p:grpSpPr>
        <p:sp>
          <p:nvSpPr>
            <p:cNvPr id="118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98" name=""/>
            <p:cNvGrpSpPr/>
            <p:nvPr/>
          </p:nvGrpSpPr>
          <p:grpSpPr>
            <a:xfrm>
              <a:off x="7920" y="5540400"/>
              <a:ext cx="1784520" cy="1238400"/>
              <a:chOff x="7920" y="5540400"/>
              <a:chExt cx="1784520" cy="1238400"/>
            </a:xfrm>
          </p:grpSpPr>
          <p:grpSp>
            <p:nvGrpSpPr>
              <p:cNvPr id="1199" name=""/>
              <p:cNvGrpSpPr/>
              <p:nvPr/>
            </p:nvGrpSpPr>
            <p:grpSpPr>
              <a:xfrm>
                <a:off x="792000" y="5654520"/>
                <a:ext cx="870120" cy="1124280"/>
                <a:chOff x="792000" y="5654520"/>
                <a:chExt cx="870120" cy="1124280"/>
              </a:xfrm>
            </p:grpSpPr>
            <p:sp>
              <p:nvSpPr>
                <p:cNvPr id="120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06" name=""/>
              <p:cNvGrpSpPr/>
              <p:nvPr/>
            </p:nvGrpSpPr>
            <p:grpSpPr>
              <a:xfrm>
                <a:off x="7920" y="5540400"/>
                <a:ext cx="1784520" cy="1076400"/>
                <a:chOff x="7920" y="5540400"/>
                <a:chExt cx="1784520" cy="1076400"/>
              </a:xfrm>
            </p:grpSpPr>
            <p:sp>
              <p:nvSpPr>
                <p:cNvPr id="120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215" name=""/>
          <p:cNvGrpSpPr/>
          <p:nvPr/>
        </p:nvGrpSpPr>
        <p:grpSpPr>
          <a:xfrm>
            <a:off x="8680320" y="2116080"/>
            <a:ext cx="385920" cy="4308480"/>
            <a:chOff x="8680320" y="2116080"/>
            <a:chExt cx="385920" cy="4308480"/>
          </a:xfrm>
        </p:grpSpPr>
        <p:sp>
          <p:nvSpPr>
            <p:cNvPr id="121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8" name=""/>
          <p:cNvGrpSpPr/>
          <p:nvPr/>
        </p:nvGrpSpPr>
        <p:grpSpPr>
          <a:xfrm>
            <a:off x="7171560" y="-87480"/>
            <a:ext cx="2427480" cy="2247120"/>
            <a:chOff x="7171560" y="-87480"/>
            <a:chExt cx="2427480" cy="2247120"/>
          </a:xfrm>
        </p:grpSpPr>
        <p:grpSp>
          <p:nvGrpSpPr>
            <p:cNvPr id="1219" name=""/>
            <p:cNvGrpSpPr/>
            <p:nvPr/>
          </p:nvGrpSpPr>
          <p:grpSpPr>
            <a:xfrm>
              <a:off x="7171560" y="-87480"/>
              <a:ext cx="2427480" cy="2247120"/>
              <a:chOff x="7171560" y="-87480"/>
              <a:chExt cx="2427480" cy="2247120"/>
            </a:xfrm>
          </p:grpSpPr>
          <p:sp>
            <p:nvSpPr>
              <p:cNvPr id="122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21" name=""/>
              <p:cNvGrpSpPr/>
              <p:nvPr/>
            </p:nvGrpSpPr>
            <p:grpSpPr>
              <a:xfrm>
                <a:off x="7171560" y="-87480"/>
                <a:ext cx="2427480" cy="2247120"/>
                <a:chOff x="7171560" y="-87480"/>
                <a:chExt cx="2427480" cy="2247120"/>
              </a:xfrm>
            </p:grpSpPr>
            <p:sp>
              <p:nvSpPr>
                <p:cNvPr id="122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3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269" name="PlaceHolder 2"/>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270"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271" name="PlaceHolder 4"/>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566B-D090-44CF-9937-AAC88D085A5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272" name=""/>
          <p:cNvGrpSpPr/>
          <p:nvPr/>
        </p:nvGrpSpPr>
        <p:grpSpPr>
          <a:xfrm>
            <a:off x="195120" y="235080"/>
            <a:ext cx="3787920" cy="1778040"/>
            <a:chOff x="195120" y="235080"/>
            <a:chExt cx="3787920" cy="1778040"/>
          </a:xfrm>
        </p:grpSpPr>
        <p:sp>
          <p:nvSpPr>
            <p:cNvPr id="127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76" name=""/>
            <p:cNvGrpSpPr/>
            <p:nvPr/>
          </p:nvGrpSpPr>
          <p:grpSpPr>
            <a:xfrm>
              <a:off x="195120" y="235080"/>
              <a:ext cx="3787920" cy="1716120"/>
              <a:chOff x="195120" y="235080"/>
              <a:chExt cx="3787920" cy="1716120"/>
            </a:xfrm>
          </p:grpSpPr>
          <p:sp>
            <p:nvSpPr>
              <p:cNvPr id="127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282" name=""/>
          <p:cNvGrpSpPr/>
          <p:nvPr/>
        </p:nvGrpSpPr>
        <p:grpSpPr>
          <a:xfrm>
            <a:off x="7797600" y="4318560"/>
            <a:ext cx="979920" cy="1159560"/>
            <a:chOff x="7797600" y="4318560"/>
            <a:chExt cx="979920" cy="1159560"/>
          </a:xfrm>
        </p:grpSpPr>
        <p:sp>
          <p:nvSpPr>
            <p:cNvPr id="128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6" name=""/>
            <p:cNvGrpSpPr/>
            <p:nvPr/>
          </p:nvGrpSpPr>
          <p:grpSpPr>
            <a:xfrm>
              <a:off x="7797600" y="4318560"/>
              <a:ext cx="979920" cy="1159560"/>
              <a:chOff x="7797600" y="4318560"/>
              <a:chExt cx="979920" cy="1159560"/>
            </a:xfrm>
          </p:grpSpPr>
          <p:sp>
            <p:nvSpPr>
              <p:cNvPr id="128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9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3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32"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33"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34"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5349-4900-4BB8-B980-6C8A4BA5211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72" name="PlaceHolder 2"/>
          <p:cNvSpPr>
            <a:spLocks noGrp="1"/>
          </p:cNvSpPr>
          <p:nvPr>
            <p:ph type="dt" idx="5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73" name="PlaceHolder 3"/>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74" name="PlaceHolder 4"/>
          <p:cNvSpPr>
            <a:spLocks noGrp="1"/>
          </p:cNvSpPr>
          <p:nvPr>
            <p:ph type="sldNum" idx="5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E3AC-CB7C-413C-94FA-140309AB16D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411" name=""/>
          <p:cNvGrpSpPr/>
          <p:nvPr/>
        </p:nvGrpSpPr>
        <p:grpSpPr>
          <a:xfrm>
            <a:off x="3600" y="1422360"/>
            <a:ext cx="9143640" cy="5435640"/>
            <a:chOff x="3600" y="1422360"/>
            <a:chExt cx="9143640" cy="5435640"/>
          </a:xfrm>
        </p:grpSpPr>
        <p:grpSp>
          <p:nvGrpSpPr>
            <p:cNvPr id="1412" name=""/>
            <p:cNvGrpSpPr/>
            <p:nvPr/>
          </p:nvGrpSpPr>
          <p:grpSpPr>
            <a:xfrm>
              <a:off x="31680" y="1422360"/>
              <a:ext cx="9115560" cy="5435640"/>
              <a:chOff x="31680" y="1422360"/>
              <a:chExt cx="9115560" cy="5435640"/>
            </a:xfrm>
          </p:grpSpPr>
          <p:sp>
            <p:nvSpPr>
              <p:cNvPr id="1413"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4"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5"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6"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7"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8"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9"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0"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1"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2"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3"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4"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5"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426" name=""/>
            <p:cNvGrpSpPr/>
            <p:nvPr/>
          </p:nvGrpSpPr>
          <p:grpSpPr>
            <a:xfrm>
              <a:off x="3600" y="3639960"/>
              <a:ext cx="2193840" cy="2694240"/>
              <a:chOff x="3600" y="3639960"/>
              <a:chExt cx="2193840" cy="2694240"/>
            </a:xfrm>
          </p:grpSpPr>
          <p:sp>
            <p:nvSpPr>
              <p:cNvPr id="1427"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28"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9"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0"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1"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2"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3"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4"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5"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6"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7"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8"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9"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0"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1"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2"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3"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4"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45"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6"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7"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8"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9"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0"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1"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2"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3"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4"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5"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6"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7"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8"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9"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0"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1"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2"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3"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4"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5"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6"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7"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8"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9"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0"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1"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2"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3"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4"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5"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6"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7"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8"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9"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80"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1"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2"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3"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4"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5"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6"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7"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8"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9"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0"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2"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3"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4"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5"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6"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7"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8"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9"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0"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01"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2"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3"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4"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5"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6"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7"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8"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9"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0"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1"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2"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3"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4"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5"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6"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17"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8"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9"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0"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1"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2"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3"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4"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5"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6"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7"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8"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29"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0"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1"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2"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3"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4"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5"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6"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7"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8"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39"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0"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1"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2"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3"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4"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5"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6"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47"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54"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55"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57"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58"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61"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63" name="PlaceHolder 2"/>
          <p:cNvSpPr>
            <a:spLocks noGrp="1"/>
          </p:cNvSpPr>
          <p:nvPr>
            <p:ph type="dt" idx="55"/>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64" name="PlaceHolder 3"/>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65" name="PlaceHolder 4"/>
          <p:cNvSpPr>
            <a:spLocks noGrp="1"/>
          </p:cNvSpPr>
          <p:nvPr>
            <p:ph type="sldNum" idx="57"/>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306ED-7FF6-4E3B-B551-644A8F2DE97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66"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7DCB-8ECB-482F-844A-61B396B6E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603" name=""/>
          <p:cNvGrpSpPr/>
          <p:nvPr/>
        </p:nvGrpSpPr>
        <p:grpSpPr>
          <a:xfrm>
            <a:off x="3600" y="1422360"/>
            <a:ext cx="9143640" cy="5435640"/>
            <a:chOff x="3600" y="1422360"/>
            <a:chExt cx="9143640" cy="5435640"/>
          </a:xfrm>
        </p:grpSpPr>
        <p:grpSp>
          <p:nvGrpSpPr>
            <p:cNvPr id="1604" name=""/>
            <p:cNvGrpSpPr/>
            <p:nvPr/>
          </p:nvGrpSpPr>
          <p:grpSpPr>
            <a:xfrm>
              <a:off x="31680" y="1422360"/>
              <a:ext cx="9115560" cy="5435640"/>
              <a:chOff x="31680" y="1422360"/>
              <a:chExt cx="9115560" cy="5435640"/>
            </a:xfrm>
          </p:grpSpPr>
          <p:sp>
            <p:nvSpPr>
              <p:cNvPr id="1605"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6"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7"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8"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09"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0"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1"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2"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3"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4"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5"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6"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17"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618" name=""/>
            <p:cNvGrpSpPr/>
            <p:nvPr/>
          </p:nvGrpSpPr>
          <p:grpSpPr>
            <a:xfrm>
              <a:off x="3600" y="3639960"/>
              <a:ext cx="2193840" cy="2694240"/>
              <a:chOff x="3600" y="3639960"/>
              <a:chExt cx="2193840" cy="2694240"/>
            </a:xfrm>
          </p:grpSpPr>
          <p:sp>
            <p:nvSpPr>
              <p:cNvPr id="1619"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0"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1"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2"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23"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4"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5"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6"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7"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8"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29"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30"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1"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2"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3"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4"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5"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6"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37"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8"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39"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0"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1"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2"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3"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4"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5"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6"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7"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8"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49"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0"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1"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2"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3"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4"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5"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6"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7"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58"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59"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0"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1"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2"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3"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4"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5"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6"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7"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8"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69"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0"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1"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72"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3"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4"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5"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6"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7"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8"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9"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0"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1"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2"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4"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5"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6"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7"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8"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89"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0"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1"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2"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693"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4"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5"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6"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7"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8"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99"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0"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1"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2"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3"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4"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5"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6"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7"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08"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09"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0"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1"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2"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3"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4"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5"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6"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7"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8"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19"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0"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1"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2"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3"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4"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5"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6"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7"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8"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29"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0"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1"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2"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3"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4"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5"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6"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7"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8"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39"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46"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47"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49"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750"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53"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755" name="PlaceHolder 2"/>
          <p:cNvSpPr>
            <a:spLocks noGrp="1"/>
          </p:cNvSpPr>
          <p:nvPr>
            <p:ph type="dt" idx="58"/>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756" name="PlaceHolder 3"/>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57" name="PlaceHolder 4"/>
          <p:cNvSpPr>
            <a:spLocks noGrp="1"/>
          </p:cNvSpPr>
          <p:nvPr>
            <p:ph type="sldNum" idx="60"/>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D50E-FC43-49B3-8A53-77E618B55975}"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7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3" name=""/>
          <p:cNvGrpSpPr/>
          <p:nvPr/>
        </p:nvGrpSpPr>
        <p:grpSpPr>
          <a:xfrm>
            <a:off x="1071720" y="304920"/>
            <a:ext cx="7614720" cy="1106280"/>
            <a:chOff x="1071720" y="304920"/>
            <a:chExt cx="7614720" cy="1106280"/>
          </a:xfrm>
        </p:grpSpPr>
        <p:sp>
          <p:nvSpPr>
            <p:cNvPr id="514"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1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0"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2"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96B59-0FA6-4DED-B20F-6F66912249A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0" name=""/>
          <p:cNvGrpSpPr/>
          <p:nvPr/>
        </p:nvGrpSpPr>
        <p:grpSpPr>
          <a:xfrm>
            <a:off x="1658520" y="1600200"/>
            <a:ext cx="6837480" cy="3200400"/>
            <a:chOff x="1658520" y="1600200"/>
            <a:chExt cx="6837480" cy="3200400"/>
          </a:xfrm>
        </p:grpSpPr>
        <p:sp>
          <p:nvSpPr>
            <p:cNvPr id="561"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7"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8"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9"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4662-C903-4F99-B8F0-F16F4BCFC31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0"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07" name=""/>
          <p:cNvGrpSpPr/>
          <p:nvPr/>
        </p:nvGrpSpPr>
        <p:grpSpPr>
          <a:xfrm>
            <a:off x="0" y="0"/>
            <a:ext cx="9144000" cy="6858000"/>
            <a:chOff x="0" y="0"/>
            <a:chExt cx="9144000" cy="6858000"/>
          </a:xfrm>
        </p:grpSpPr>
        <p:sp>
          <p:nvSpPr>
            <p:cNvPr id="608"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0"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1" name=""/>
          <p:cNvGrpSpPr/>
          <p:nvPr/>
        </p:nvGrpSpPr>
        <p:grpSpPr>
          <a:xfrm>
            <a:off x="0" y="6019920"/>
            <a:ext cx="7848720" cy="857160"/>
            <a:chOff x="0" y="6019920"/>
            <a:chExt cx="7848720" cy="857160"/>
          </a:xfrm>
        </p:grpSpPr>
        <p:sp>
          <p:nvSpPr>
            <p:cNvPr id="612"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3" name=""/>
            <p:cNvGrpSpPr/>
            <p:nvPr/>
          </p:nvGrpSpPr>
          <p:grpSpPr>
            <a:xfrm>
              <a:off x="3946680" y="6019920"/>
              <a:ext cx="3902040" cy="857160"/>
              <a:chOff x="3946680" y="6019920"/>
              <a:chExt cx="3902040" cy="857160"/>
            </a:xfrm>
          </p:grpSpPr>
          <p:sp>
            <p:nvSpPr>
              <p:cNvPr id="614"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9"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20" name=""/>
          <p:cNvGrpSpPr/>
          <p:nvPr/>
        </p:nvGrpSpPr>
        <p:grpSpPr>
          <a:xfrm>
            <a:off x="627120" y="6021360"/>
            <a:ext cx="5684760" cy="849240"/>
            <a:chOff x="627120" y="6021360"/>
            <a:chExt cx="5684760" cy="849240"/>
          </a:xfrm>
        </p:grpSpPr>
        <p:sp>
          <p:nvSpPr>
            <p:cNvPr id="621"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29"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3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31"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23D0-9018-4E93-A627-741E714C45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68" name=""/>
          <p:cNvGrpSpPr/>
          <p:nvPr/>
        </p:nvGrpSpPr>
        <p:grpSpPr>
          <a:xfrm>
            <a:off x="-6480" y="20520"/>
            <a:ext cx="9144000" cy="6858000"/>
            <a:chOff x="-6480" y="20520"/>
            <a:chExt cx="9144000" cy="6858000"/>
          </a:xfrm>
        </p:grpSpPr>
        <p:sp>
          <p:nvSpPr>
            <p:cNvPr id="669"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1"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2" name=""/>
          <p:cNvGrpSpPr/>
          <p:nvPr/>
        </p:nvGrpSpPr>
        <p:grpSpPr>
          <a:xfrm>
            <a:off x="-1440" y="6033960"/>
            <a:ext cx="7844400" cy="850680"/>
            <a:chOff x="-1440" y="6033960"/>
            <a:chExt cx="7844400" cy="850680"/>
          </a:xfrm>
        </p:grpSpPr>
        <p:sp>
          <p:nvSpPr>
            <p:cNvPr id="673"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4" name=""/>
            <p:cNvGrpSpPr/>
            <p:nvPr/>
          </p:nvGrpSpPr>
          <p:grpSpPr>
            <a:xfrm>
              <a:off x="3944880" y="6033960"/>
              <a:ext cx="3898080" cy="850680"/>
              <a:chOff x="3944880" y="6033960"/>
              <a:chExt cx="3898080" cy="850680"/>
            </a:xfrm>
          </p:grpSpPr>
          <p:sp>
            <p:nvSpPr>
              <p:cNvPr id="675"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0"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1" name=""/>
          <p:cNvGrpSpPr/>
          <p:nvPr/>
        </p:nvGrpSpPr>
        <p:grpSpPr>
          <a:xfrm>
            <a:off x="627120" y="6021360"/>
            <a:ext cx="5684760" cy="849240"/>
            <a:chOff x="627120" y="6021360"/>
            <a:chExt cx="5684760" cy="849240"/>
          </a:xfrm>
        </p:grpSpPr>
        <p:sp>
          <p:nvSpPr>
            <p:cNvPr id="68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68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90"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B0A3-6994-4922-BC79-D12A64C67B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1"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28" name=""/>
          <p:cNvGrpSpPr/>
          <p:nvPr/>
        </p:nvGrpSpPr>
        <p:grpSpPr>
          <a:xfrm>
            <a:off x="0" y="0"/>
            <a:ext cx="9144000" cy="6934320"/>
            <a:chOff x="0" y="0"/>
            <a:chExt cx="9144000" cy="6934320"/>
          </a:xfrm>
        </p:grpSpPr>
        <p:sp>
          <p:nvSpPr>
            <p:cNvPr id="72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7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49"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1"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170B1-283A-40D6-9BE0-F3FF529FB7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88" name=""/>
          <p:cNvGrpSpPr/>
          <p:nvPr/>
        </p:nvGrpSpPr>
        <p:grpSpPr>
          <a:xfrm>
            <a:off x="0" y="0"/>
            <a:ext cx="9144000" cy="6934320"/>
            <a:chOff x="0" y="0"/>
            <a:chExt cx="9144000" cy="6934320"/>
          </a:xfrm>
        </p:grpSpPr>
        <p:sp>
          <p:nvSpPr>
            <p:cNvPr id="78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8"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0"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8194-10E9-42ED-8B00-AB2714BCDD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47" name=""/>
          <p:cNvGrpSpPr/>
          <p:nvPr/>
        </p:nvGrpSpPr>
        <p:grpSpPr>
          <a:xfrm>
            <a:off x="1440" y="0"/>
            <a:ext cx="9149040" cy="6851520"/>
            <a:chOff x="1440" y="0"/>
            <a:chExt cx="9149040" cy="6851520"/>
          </a:xfrm>
        </p:grpSpPr>
        <p:sp>
          <p:nvSpPr>
            <p:cNvPr id="848"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1" name=""/>
            <p:cNvGrpSpPr/>
            <p:nvPr/>
          </p:nvGrpSpPr>
          <p:grpSpPr>
            <a:xfrm>
              <a:off x="457200" y="0"/>
              <a:ext cx="8093160" cy="6851520"/>
              <a:chOff x="457200" y="0"/>
              <a:chExt cx="8093160" cy="6851520"/>
            </a:xfrm>
          </p:grpSpPr>
          <p:sp>
            <p:nvSpPr>
              <p:cNvPr id="852"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65"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6" name=""/>
            <p:cNvGrpSpPr/>
            <p:nvPr/>
          </p:nvGrpSpPr>
          <p:grpSpPr>
            <a:xfrm>
              <a:off x="1440" y="622440"/>
              <a:ext cx="9141120" cy="2493720"/>
              <a:chOff x="1440" y="622440"/>
              <a:chExt cx="9141120" cy="2493720"/>
            </a:xfrm>
          </p:grpSpPr>
          <p:sp>
            <p:nvSpPr>
              <p:cNvPr id="877"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2"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85" name="PlaceHolder 2"/>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886"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887" name="PlaceHolder 4"/>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676C-B459-45A1-AAE8-744E2D6EB87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88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30.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jpeg"/><Relationship Id="rId3" Type="http://schemas.openxmlformats.org/officeDocument/2006/relationships/slideLayout" Target="../slideLayouts/slideLayout196.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7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78.xml"/>
</Relationships>
</file>

<file path=ppt/slides/_rels/slide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755640" y="62064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7" name=""/>
          <p:cNvSpPr txBox="1"/>
          <p:nvPr/>
        </p:nvSpPr>
        <p:spPr>
          <a:xfrm>
            <a:off x="1547640" y="765000"/>
            <a:ext cx="5832720" cy="137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elf Information Portrai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798" name="" descr=""/>
          <p:cNvPicPr/>
          <p:nvPr/>
        </p:nvPicPr>
        <p:blipFill>
          <a:blip r:embed="rId1"/>
          <a:stretch/>
        </p:blipFill>
        <p:spPr>
          <a:xfrm>
            <a:off x="2411280" y="2852640"/>
            <a:ext cx="3816360" cy="286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32" name="PlaceHolder 2"/>
          <p:cNvSpPr>
            <a:spLocks noGrp="1"/>
          </p:cNvSpPr>
          <p:nvPr>
            <p:ph/>
          </p:nvPr>
        </p:nvSpPr>
        <p:spPr>
          <a:xfrm>
            <a:off x="457200" y="1981080"/>
            <a:ext cx="4037040" cy="411480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arning styles: Learning style is an individual's unique approach to learning based on strengths, weaknesses, and preferences. </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career based on my learning style would be something active and I can do with my body. My number one choice would probably be a carpenter. I enjoy woodwork and find it amusing. Another career would be a surgeon. I would choose that because I like using my hands and I am interested in become a doctor.</a:t>
            </a:r>
            <a:endParaRPr b="0" lang="en-US" sz="1600" spc="-1" strike="noStrike">
              <a:solidFill>
                <a:srgbClr val="ffffff"/>
              </a:solidFill>
              <a:latin typeface="Tahoma"/>
            </a:endParaRPr>
          </a:p>
        </p:txBody>
      </p:sp>
      <p:sp>
        <p:nvSpPr>
          <p:cNvPr id="1833" name="PlaceHolder 3"/>
          <p:cNvSpPr>
            <a:spLocks noGrp="1"/>
          </p:cNvSpPr>
          <p:nvPr>
            <p:ph/>
          </p:nvPr>
        </p:nvSpPr>
        <p:spPr>
          <a:xfrm>
            <a:off x="4649760" y="1981080"/>
            <a:ext cx="4037040" cy="4114800"/>
          </a:xfrm>
          <a:prstGeom prst="rect">
            <a:avLst/>
          </a:prstGeom>
          <a:noFill/>
          <a:ln w="0">
            <a:noFill/>
          </a:ln>
        </p:spPr>
        <p:txBody>
          <a:bodyPr lIns="90000" rIns="90000" tIns="46800" bIns="46800" anchor="t">
            <a:normAutofit/>
          </a:bodyPr>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learning style is mostly like a kinaesthetic learner. I learn best by doing things. I think I also have a learning style where a learn best by reading. I can understand things better when I read it over one or three times. I am good with my hands so I can learn things using my body easily.</a:t>
            </a:r>
            <a:endParaRPr b="0" lang="en-US" sz="1600" spc="-1" strike="noStrike">
              <a:solidFill>
                <a:srgbClr val="ffffff"/>
              </a:solidFill>
              <a:latin typeface="Tahoma"/>
            </a:endParaRPr>
          </a:p>
        </p:txBody>
      </p:sp>
      <p:sp>
        <p:nvSpPr>
          <p:cNvPr id="1834" name=""/>
          <p:cNvSpPr txBox="1"/>
          <p:nvPr/>
        </p:nvSpPr>
        <p:spPr>
          <a:xfrm>
            <a:off x="2195640" y="620640"/>
            <a:ext cx="48099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ARNING STYL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1835" name="" descr="http://www.mccullagh.org/db9/1ds-15/kink-com-carpentry-shop.jpg"/>
          <p:cNvPicPr/>
          <p:nvPr/>
        </p:nvPicPr>
        <p:blipFill>
          <a:blip r:embed="rId2"/>
          <a:stretch/>
        </p:blipFill>
        <p:spPr>
          <a:xfrm>
            <a:off x="5003640" y="4221000"/>
            <a:ext cx="3313440" cy="22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ABLE OF CONTENTS</a:t>
            </a:r>
            <a:endParaRPr b="0" lang="en-US" sz="3800" spc="-1" strike="noStrike">
              <a:solidFill>
                <a:srgbClr val="000000"/>
              </a:solidFill>
              <a:latin typeface="Verdana"/>
            </a:endParaRPr>
          </a:p>
        </p:txBody>
      </p:sp>
      <p:sp>
        <p:nvSpPr>
          <p:cNvPr id="18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1--------------- TITLE PAG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2--------------- SKILL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3--------------- APTITUD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4--------------- VALU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5--------------- ATTITUD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6--------------- EXPERIENC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7--------------- INTELLIGENCES</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8--------------- PERSONALITY</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GE 9--------------- LEARNING STYL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02"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lnSpc>
                <a:spcPct val="9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kills: Proficiency, facility, or dexterity that is acquired or developed through training or experience.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I would like to say that I have some good skills. I am very active and I like sports. I am a good swimmer. Getting along with people is very easy for me. I am also a very good listener. I am also a very patient person. Also I am a numerical kind of person. I am good with numbers.</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There are a lot of careers out there. The career I want to aim to get is to be a doctor. A general doctor to be exact. This would suit me because I am a patient person woth numerical skills.</a:t>
            </a:r>
            <a:endParaRPr b="0" lang="en-US" sz="1600" spc="-1" strike="noStrike">
              <a:solidFill>
                <a:srgbClr val="ffffff"/>
              </a:solidFill>
              <a:latin typeface="Arial"/>
            </a:endParaRPr>
          </a:p>
        </p:txBody>
      </p:sp>
      <p:sp>
        <p:nvSpPr>
          <p:cNvPr id="1803" name="PlaceHolder 3"/>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4" name=""/>
          <p:cNvSpPr txBox="1"/>
          <p:nvPr/>
        </p:nvSpPr>
        <p:spPr>
          <a:xfrm>
            <a:off x="3132000" y="115920"/>
            <a:ext cx="29196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Black"/>
              </a:rPr>
              <a:t>SKILLS</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p:txBody>
      </p:sp>
      <p:pic>
        <p:nvPicPr>
          <p:cNvPr id="1805" name="" descr="http://pdp.bournemouth.ac.uk/images/transferable_skills.gif"/>
          <p:cNvPicPr/>
          <p:nvPr/>
        </p:nvPicPr>
        <p:blipFill>
          <a:blip r:embed="rId6"/>
          <a:stretch/>
        </p:blipFill>
        <p:spPr>
          <a:xfrm>
            <a:off x="5003640" y="2349360"/>
            <a:ext cx="345600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0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itude: your inherent capacity, talent or ability to do something. Having a high aptitude for something means you are good at doing that something.</a:t>
            </a:r>
            <a:endParaRPr b="0" lang="en-US" sz="1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believe that my aptitudes varied. I think I am good at making decisions naturally. I believe that I have an aptitude for swimming. When I first went into a pool swimming came naturally to m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believe a good career based on my aptitude would be to be a swimmer. Maybe to be a pro swimmer one day. I would also really like to be able to go to the Olympics or some other kind of world event.</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8" name=""/>
          <p:cNvSpPr txBox="1"/>
          <p:nvPr/>
        </p:nvSpPr>
        <p:spPr>
          <a:xfrm rot="19983600">
            <a:off x="2124000" y="0"/>
            <a:ext cx="4896000" cy="1552680"/>
          </a:xfrm>
          <a:prstGeom prst="rect">
            <a:avLst/>
          </a:prstGeom>
        </p:spPr>
        <p:txBody>
          <a:bodyPr wrap="none" lIns="90000" rIns="90000" tIns="46800" bIns="46800" anchor="t" anchorCtr="1">
            <a:prstTxWarp prst="textDeflateBottom">
              <a:avLst>
                <a:gd name="adj" fmla="val 781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APTITUDE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1809" name="" descr=""/>
          <p:cNvPicPr/>
          <p:nvPr/>
        </p:nvPicPr>
        <p:blipFill>
          <a:blip r:embed="rId1"/>
          <a:stretch/>
        </p:blipFill>
        <p:spPr>
          <a:xfrm>
            <a:off x="689040" y="1600200"/>
            <a:ext cx="3575160" cy="453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Values: relative worth, merit, or importance, something that is important to you.</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 value a lot of things. The number one thing I value is my family. If my family weren't wasn’t with me all these years I wouldn’t be the person I am today. I also treasure all the friends I have. I will always value every single one that have come and gone. The person I value the most in the world is my mother. She tries so hard to protect and raise us. When I am an adult I would like for her to take a break and I would support her.</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 career based on my values would probably be some kind of social caregiver. A social worker would be a good start, but im not that intrested in it.</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represents family.    </a:t>
            </a:r>
            <a:endParaRPr b="0" lang="en-US" sz="1800" spc="-1" strike="noStrike">
              <a:solidFill>
                <a:srgbClr val="ffffff"/>
              </a:solidFill>
              <a:latin typeface="Arial"/>
            </a:endParaRPr>
          </a:p>
        </p:txBody>
      </p:sp>
      <p:sp>
        <p:nvSpPr>
          <p:cNvPr id="1812" name=""/>
          <p:cNvSpPr txBox="1"/>
          <p:nvPr/>
        </p:nvSpPr>
        <p:spPr>
          <a:xfrm>
            <a:off x="2484360" y="333360"/>
            <a:ext cx="4040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VALU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813" name="" descr="http://z.about.com/d/animatedtv/1/7/c/K/FamilyGuyParty.jpg"/>
          <p:cNvPicPr/>
          <p:nvPr/>
        </p:nvPicPr>
        <p:blipFill>
          <a:blip r:embed="rId1"/>
          <a:stretch/>
        </p:blipFill>
        <p:spPr>
          <a:xfrm>
            <a:off x="1258920" y="4575240"/>
            <a:ext cx="4105080" cy="228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titude: manner, disposition, feeling, position, etc., with regard to a person or thing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good career based on my attitudes would maybe be some kind of instructor. A teacher is the first thing that would suit me based on my attitude because I like to help others and am a positive person.</a:t>
            </a:r>
            <a:endParaRPr b="0" lang="en-US" sz="1800" spc="-1" strike="noStrike">
              <a:solidFill>
                <a:srgbClr val="ffffff"/>
              </a:solidFill>
              <a:latin typeface="Times New Roman"/>
            </a:endParaRPr>
          </a:p>
        </p:txBody>
      </p:sp>
      <p:sp>
        <p:nvSpPr>
          <p:cNvPr id="181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I would say that I have a positive attitude. I am cheerful of things and for people. I like to look on the bright side of things. Also I am a friendly person, and I make friends easily. I also think og my self as a helpful person. If someone doenst understand something I try to help them understand. Plus if they ask my about something I would try my best to help.</a:t>
            </a:r>
            <a:endParaRPr b="0" lang="en-US" sz="1800" spc="-1" strike="noStrike">
              <a:solidFill>
                <a:srgbClr val="ffffff"/>
              </a:solidFill>
              <a:latin typeface="Times New Roman"/>
            </a:endParaRPr>
          </a:p>
        </p:txBody>
      </p:sp>
      <p:sp>
        <p:nvSpPr>
          <p:cNvPr id="1817" name=""/>
          <p:cNvSpPr txBox="1"/>
          <p:nvPr/>
        </p:nvSpPr>
        <p:spPr>
          <a:xfrm>
            <a:off x="2411280" y="476280"/>
            <a:ext cx="3888000" cy="107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ATTITUD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818" name="" descr="http://lifeinthenhs.files.wordpress.com/2009/03/teacher1.jpg"/>
          <p:cNvPicPr/>
          <p:nvPr/>
        </p:nvPicPr>
        <p:blipFill>
          <a:blip r:embed="rId3"/>
          <a:stretch/>
        </p:blipFill>
        <p:spPr>
          <a:xfrm>
            <a:off x="2700360" y="4603680"/>
            <a:ext cx="2303280" cy="225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0"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Experience: a particular instance of personally encountering or undergoing something </a:t>
            </a:r>
            <a:endParaRPr b="0" lang="en-US" sz="1400" spc="-1" strike="noStrike">
              <a:solidFill>
                <a:srgbClr val="ffffff"/>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I have had many experiences in my life. Some were harsh and unfair and some were good. One thing that I remember was 3 years ago. It was when I first stepped into high school. Everything felt new and overwhelming. It kind of felt lonely because every single one of my friends that I knew went to a different high school. It was frightening at first but I started to make friends pretty quickly. That experience taught me that no matter how bad things seem it would get better over time.</a:t>
            </a:r>
            <a:endParaRPr b="0" lang="en-US" sz="1400" spc="-1" strike="noStrike">
              <a:solidFill>
                <a:srgbClr val="ffffff"/>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Verdana"/>
              </a:rPr>
              <a:t>A good job out of my experiences probably would be some sort of counslor. I think so bacause ive been through a lot of things in my life and I would understand some of the feelings people have. Especially a high Scholl student.</a:t>
            </a:r>
            <a:endParaRPr b="0" lang="en-US" sz="1400" spc="-1" strike="noStrike">
              <a:solidFill>
                <a:srgbClr val="ffffff"/>
              </a:solidFill>
              <a:latin typeface="Verdana"/>
            </a:endParaRPr>
          </a:p>
        </p:txBody>
      </p:sp>
      <p:sp>
        <p:nvSpPr>
          <p:cNvPr id="1821" name=""/>
          <p:cNvSpPr txBox="1"/>
          <p:nvPr/>
        </p:nvSpPr>
        <p:spPr>
          <a:xfrm>
            <a:off x="1763640" y="260280"/>
            <a:ext cx="5400720" cy="124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EXPERIENCES</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1822" name="" descr="http://www.clipartheaven.com/clipart/education_&amp;_schools/cartoons/counselor%27s_office_1.gif"/>
          <p:cNvPicPr/>
          <p:nvPr/>
        </p:nvPicPr>
        <p:blipFill>
          <a:blip r:embed="rId1"/>
          <a:stretch/>
        </p:blipFill>
        <p:spPr>
          <a:xfrm>
            <a:off x="2627280" y="4292640"/>
            <a:ext cx="4105440" cy="256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24" name="PlaceHolder 2"/>
          <p:cNvSpPr>
            <a:spLocks noGrp="1"/>
          </p:cNvSpPr>
          <p:nvPr>
            <p:ph/>
          </p:nvPr>
        </p:nvSpPr>
        <p:spPr>
          <a:xfrm>
            <a:off x="685800" y="2833200"/>
            <a:ext cx="7696080" cy="2652840"/>
          </a:xfrm>
          <a:prstGeom prst="rect">
            <a:avLst/>
          </a:prstGeom>
          <a:noFill/>
          <a:ln w="0">
            <a:noFill/>
          </a:ln>
        </p:spPr>
        <p:txBody>
          <a:bodyPr lIns="90000" rIns="90000" tIns="46800" bIns="46800" anchor="t">
            <a:normAutofit/>
          </a:bodyPr>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Intelligence: capacity for learning, reasoning, understanding, and similar forms of mental activity; aptitude in grasping truths, relationships, facts, meanings, etc. </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My intelligence is more of a mathematical than artistic. I prefer to do science and math over art. I enjoy doing math problems sometimes. I am also very interested in biology. I like learning about the human body and other sorts of things related to that. I also like space and I have a little bit of intelligence in the area of astronomy.</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343080">
              <a:lnSpc>
                <a:spcPct val="80000"/>
              </a:lnSpc>
              <a:spcBef>
                <a:spcPts val="32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A good careers suited for my intelligence is most likely a doctor. I would really like to be a doctor it is my dream job. Another job that sounds interesting and would suit me would be an astronomer. It sounds amazing enough just hearing about the things in space but would be great to also discover them.</a:t>
            </a: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mic Sans MS"/>
            </a:endParaRPr>
          </a:p>
        </p:txBody>
      </p:sp>
      <p:sp>
        <p:nvSpPr>
          <p:cNvPr id="1825" name=""/>
          <p:cNvSpPr txBox="1"/>
          <p:nvPr/>
        </p:nvSpPr>
        <p:spPr>
          <a:xfrm>
            <a:off x="2124000" y="0"/>
            <a:ext cx="48531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INTELLIGENCE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1826" name="" descr=""/>
          <p:cNvPicPr/>
          <p:nvPr/>
        </p:nvPicPr>
        <p:blipFill>
          <a:blip r:embed="rId1"/>
          <a:stretch/>
        </p:blipFill>
        <p:spPr>
          <a:xfrm>
            <a:off x="0" y="981000"/>
            <a:ext cx="1898640" cy="1844640"/>
          </a:xfrm>
          <a:prstGeom prst="rect">
            <a:avLst/>
          </a:prstGeom>
          <a:ln w="0">
            <a:noFill/>
          </a:ln>
        </p:spPr>
      </p:pic>
      <p:pic>
        <p:nvPicPr>
          <p:cNvPr id="1827" name="" descr="http://www.computerfreewallpapers.com/images/wallpapers/Misconstrue-Space-Art-681299.jpeg"/>
          <p:cNvPicPr/>
          <p:nvPr/>
        </p:nvPicPr>
        <p:blipFill>
          <a:blip r:embed="rId2"/>
          <a:stretch/>
        </p:blipFill>
        <p:spPr>
          <a:xfrm>
            <a:off x="6084720" y="4941720"/>
            <a:ext cx="2195640" cy="158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8"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ersonality: the visible aspect of one's character as it impresses others</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 have a enthusiastic personality. I am very cheerful and look forward to a lot of things. I believe that I am kind, caring, thoughtful and eager to please. I also am a patient person. If I have to wait for something  I can wai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good job that suits my personality would be a a positive environment where I could be eager to learn. Maybe a some sort of couch would do, or something along that line. Such  as a P.E teacher</a:t>
            </a:r>
            <a:endParaRPr b="0" lang="en-US" sz="1600" spc="-1" strike="noStrike">
              <a:solidFill>
                <a:srgbClr val="003366"/>
              </a:solidFill>
              <a:latin typeface="Arial"/>
            </a:endParaRPr>
          </a:p>
        </p:txBody>
      </p:sp>
      <p:sp>
        <p:nvSpPr>
          <p:cNvPr id="1829" name=""/>
          <p:cNvSpPr txBox="1"/>
          <p:nvPr/>
        </p:nvSpPr>
        <p:spPr>
          <a:xfrm>
            <a:off x="1763640" y="333360"/>
            <a:ext cx="4537080" cy="1224000"/>
          </a:xfrm>
          <a:prstGeom prst="rect">
            <a:avLst/>
          </a:prstGeom>
        </p:spPr>
        <p:txBody>
          <a:bodyPr wrap="none" lIns="90000" rIns="90000" tIns="46800" bIns="46800" anchor="t" anchorCtr="1">
            <a:prstTxWarp prst="textFadeUp">
              <a:avLst>
                <a:gd name="adj" fmla="val 8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PERSONALITY</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1830" name="" descr=""/>
          <p:cNvPicPr/>
          <p:nvPr/>
        </p:nvPicPr>
        <p:blipFill>
          <a:blip r:embed="rId1"/>
          <a:stretch/>
        </p:blipFill>
        <p:spPr>
          <a:xfrm>
            <a:off x="5580000" y="3213000"/>
            <a:ext cx="2376720" cy="192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02:31:22Z</dcterms:created>
  <dc:creator>Hasan</dc:creator>
  <dc:description/>
  <dc:language>en-US</dc:language>
  <cp:lastModifiedBy>john.deguzman</cp:lastModifiedBy>
  <dcterms:modified xsi:type="dcterms:W3CDTF">2010-02-25T22:08:12Z</dcterms:modified>
  <cp:revision>3</cp:revision>
  <dc:subject/>
  <dc:title>Slide 1</dc:title>
</cp:coreProperties>
</file>