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16.gif" ContentType="image/gif"/>
  <Override PartName="/ppt/media/image2.png" ContentType="image/png"/>
  <Override PartName="/ppt/media/image15.jpeg" ContentType="image/jpeg"/>
  <Override PartName="/ppt/media/image14.wmf" ContentType="image/x-wmf"/>
  <Override PartName="/ppt/media/image5.jpeg" ContentType="image/jpeg"/>
  <Override PartName="/ppt/media/image9.wmf" ContentType="image/x-wmf"/>
  <Override PartName="/ppt/media/image10.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DBC1B5A-AD8C-429A-BA69-B40BCBEB1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70F0FB2-3CFF-487D-A0D4-4E58B1FB2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A6AD2E-B8A6-409D-8042-4E99FC7EB4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6BED51-E118-4225-8870-95D0A27B27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777B95-606A-459C-B1D6-1D336E7210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51562-CDEE-47C9-96F7-E33D73092D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EF002-35A0-4ECE-A494-DC1F5DF64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007AF2-A64D-4053-AD91-D796F0611A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A11C01-416B-4C26-92AF-51A4A969E1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6A3A2B-320A-4392-89D0-6CBA791695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68442E-10CB-44BF-A1E1-267BA19CFA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12B7FE-D1F8-4020-B429-AFE2F0482B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40D3A1B-E6FA-4884-B46D-74D45942815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F01254-B2AE-4B90-AEED-EC7B9C9E5B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A8F4AE-1D48-4C08-A7A2-0C84BA80B1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102FC0-1609-4438-B423-3486875AE0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A60E78-C2D0-4AFF-A26E-877585F3C8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463C2A-3402-4EDC-9E64-C7A0F222F9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CA2695-5120-4B57-83FB-EBB94C562F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957885-6D49-4A07-A40D-23B3EE0BE5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606C32-E7F2-4780-8410-3C153859B9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B52262-551C-4962-8012-3AE7757B58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64911B-EF40-43BC-BA0F-1CE18AA8A4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393F4BB-DDFF-4539-A47F-C1145502BE1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9174FA-4CD4-43BE-8460-4B03062CF1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4D8B33-4C2E-438D-B6D6-8096ECD569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B4C97D-4E8C-47AB-AAE3-6D0B425102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D6617F-B67C-41C6-85A5-428AADEEE8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500D51-CA00-4BB4-BC05-D3E6B10600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10B11B-F923-4ACC-9099-ACDBC497CE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972320-E245-442E-8260-A14BF2EDFD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05DB72-5FF3-41DF-80CD-47D8843618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EBB657-E9BB-4E62-98FA-5D1BF55E90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7BCC59-F040-4169-9E9B-189AB18A62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45C0E-FE0E-40DC-80A5-DAF4F428E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ADE61C-DDBE-4A0D-B209-2DD177271B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CFCC2D-E47F-498A-A6AC-1ACD4098E2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1DE27E-49D2-4585-A0A7-8B6CB92119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DDFAA9-CDDF-40DF-AF9A-C91BD08AB8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0537E3-3D31-4C40-854D-7656C90E00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6AA8BD-C770-4983-AEFA-1DC99D8741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E2E339-5033-4DBD-A9FE-679581D49F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04FF95-442F-42F2-85CE-9CD5E083B8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E58FFF-5155-44A2-89E9-220AE0D0A1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21636D-650C-4074-885D-35BAB50DC6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137E7-3D4A-49EA-8F18-A7DCC135E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DAF657-C1B0-418A-86F8-E44C50B215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0E7BD2-1983-4AE1-B229-111FE569D9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B08F07-0824-4F86-B5BB-E0DD80C98E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B118D4-F602-4EB9-BDBA-84607AAB05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59138B-B12A-49EE-B6C2-9B3AA9672F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7D5B809-1788-4A91-B50B-D719F42094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7EE9ED-9EB7-4F8D-85CD-F1C8CBF6C7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5D643F-D6F6-421B-8200-60D22AC8EC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6CF773-DB0C-4A81-947D-813D3B2ED6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504EF9-F7C0-48BC-8366-493B997862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55293-CA02-409B-BCBF-530AF0614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0E3BC9-44E5-484F-9515-D319EFB455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76D82A-AC83-46CD-A99B-4FCA7B93C5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A3CF26-2414-49F6-8C33-2A2A91339C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3B1802-D070-4E1B-A05A-1C7AD3D3EE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3D69D0-F5C1-4E46-AEB2-3D7E84F029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710839D-E983-4C35-B09F-EFDBD84376B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4BD175E-755C-44AD-8209-252CA73065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8912401-2EDC-481D-8C2C-6A8B498C1F2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51D933-BB32-4F83-933D-C9BBA239AC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DA2ED8-0702-4B8E-900A-826F53CB29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21DA6-5820-476E-81D3-F39BDBE7C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7250A0-7587-484C-B327-FAD9ABA883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49BAD0-E7A0-45CE-843A-06CB675553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0948E2-36B2-4C22-8A43-6BD608900E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F9AD90-458E-46F2-B8EA-555578CA4A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2A086A-D0F2-412C-BAB1-052D3186A3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5BF2DD-DBE4-4611-B935-0451531911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B7DFD0-02C4-40C7-B8B1-38660ECF89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2872EA-E068-4419-B129-7EC5DE0821D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FC54D01-C3C6-4C4B-BBAA-734312080A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54A99C7-F709-44EB-8776-5FAA4031E07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125AF-C223-4B55-A089-ED44C5DC7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46E12D-F326-42CE-9E99-3EF2623901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9E6D21-495F-4BEE-9758-FAB21C0BC9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E4E33DD-3A91-4493-B753-3E6345B605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95EB70D-97EA-4E5A-8807-2A3F8849ED5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12416A-A8A7-4678-A01F-7F26FCF4CE5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B13776-262E-48A9-A712-5721D86964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C381A6-DACF-4F50-8E7F-99B5E020E5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E9D093-BEEF-4AB1-9628-03C5C9F774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DAABD6-EBBD-4FD7-B756-13AC8BA09D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86FF8E6-A417-4022-9AE3-6FE116F5F1F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8CCBE-EA33-476C-95E8-D66146948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EDF3858-290E-4707-A895-CA1AEA469B1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29BB896-A6CC-4A2B-A57B-EC357FB3F9D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5A0A422-CD53-42D4-AC92-EDDC7DE3D63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81DC93-8654-4E29-81E0-2479097739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68FF94-3EF4-4DC7-BFC2-EE0A383E10A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62B9C9-0E94-48F2-B4AC-63927A6ACC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5C2CC2D-2D7C-45A4-9499-482B92D4FBA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7CB106-436D-4DC3-A80C-ADFAD46234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B64774-59AB-4246-BBF6-D6BCB1024F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3B74A7-CA9C-4C60-83F8-84C7E93405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8C89-9262-4EAE-9BAE-63A3F4F93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0B0EE0F-9AF6-4739-B263-2AA427A604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2878243-19BE-424A-B72C-F8BF90318C5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1D22294-BC23-4C06-B497-C8BA2AE0C19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50E20DC-5DE4-4AC1-AC8C-66D2667286C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11F6F49-A11F-46C5-8420-6ACE2B9F84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A9D76A-B9AD-47DD-AF49-A49ADE59372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0DE068-6123-4AF5-BA79-D28C7D646CA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1729B36-EB4A-4D70-B1C6-83EC1E24ADB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A5F94B2-6F82-4EB3-B155-D5E6969B4E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1BD39E-8365-4E0B-8E4A-F457F75964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3B2FEA0-B135-4C94-AB55-C3FAFE55F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34379-F96D-4493-9C36-7F2C9FEB5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B9DD19-4499-45E6-B76A-197E327A47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5AC502-E34B-44E7-80DB-4CA2047D42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92E0493-A38D-44F9-A4D6-A118F2C0EEF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916047F-CE16-42D9-AD94-2DFE9411ED7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7A89E71-A208-4558-8C63-90C12C034AA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D3A1FFA-C104-4DFB-9CAC-1E77B9140A2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87E5CD5-A656-4529-A409-280D048448F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345C388-AF88-466F-84CD-8F14200DEBB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A7F870C-E351-4EFA-882D-B600233DF93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080D477-1D74-48EE-90DF-B16A9D9244B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E270D-37FF-4548-97F5-878863F6B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5230B4C-046E-491B-A573-86558CFFE26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ECD45E-CCED-4718-8486-C23429DFDF6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B145875-3D91-4B8B-A4C1-FC4C5C4303C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341269-610C-450E-9212-3BDD09A85A2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0D3D5EF-5A18-4222-A28E-245B000C087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7A46448-CC03-43F3-BF7A-1D582600D27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49EFF70-0A81-4FE1-99B6-45871904335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F897BD9-DFBD-4EC6-9CCA-7E55C283CF1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A443E7B-3526-494E-87AA-5CB26BF4362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F136B0D-EB73-495E-9520-16E08615505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13782-D5C7-41FF-A868-C32538CAB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84F1AE-D35B-4688-B97B-706267944D9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38C3004-6AE9-4016-9281-E864C68FED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98FE9A2-7130-4AB6-B2DD-3FEE97E359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ED22490-5DCC-4B52-A67B-C41E3501522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7D5BE5-34BC-4A7C-812D-2883400F25A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F4F83A0-4D6A-4DEB-9763-75D49C917C7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EFB9841-9005-4D4B-B811-5EC728B8303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B84B6D8-581A-4EBF-8055-B408C6F4B86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093B8D1-9FCC-48AF-B292-85CF7B48178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6EA4FD2-2FFF-46A2-AB94-9C8E8E94F90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AC20B-0B08-45F4-9F19-18FDF6FEA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D4D083-D307-4313-9217-4B2113943A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B4F7FFC-C1A6-4AFE-B0EF-736D6EDA02A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D749CD7-67B5-4F5B-B4C4-F76F1A06D2D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F4D0706-3E46-49AA-B37E-7A82FF96C46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E99EE1E-6333-4ACB-B42A-A4D5F737F9A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2C50DC3-E2E3-4CC6-99FE-6AE0758DB69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D05180F-8A22-452A-B955-EC5DFE8D83C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17B524B-728C-4C5E-88AB-04503794D97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49C5930-1BA2-4486-A86A-00E12296E65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AEB3586-1A32-4D5B-9228-4AAB8ADABEC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D4E6A-1519-47A3-9933-CFA3819F3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2BF81C4-F125-4278-B7C3-04B088C0A37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88A1E3-41B6-4D97-97A4-87EE156C5A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4F313-49AD-49D9-B1B8-5264CB830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D34C8-265E-44C2-A1EC-492008B5B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69772-DA57-4822-B744-A9FD16F88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6F1A6-C272-424E-83A6-A5A29CC06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F92520E-2BD4-4D13-AD76-EF67C2BDD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D345F1-35C4-44BB-ACE7-7D7294B5C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06533-D612-4108-884D-05935E7EB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1D3E8-DE33-4F14-B32D-0ADB7C7DC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64E420-B62E-4928-B23D-D7069996F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4B5C4C-A55C-46B9-93CB-F3D7A8CD0A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C3A6AB-329D-49F6-B9BF-EE2131B5BB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2E77C2-91B8-4ED7-840F-A991E6B68A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478802-C79F-4F0B-AFC7-3835391291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68722-8BF1-423D-8B1F-14689AFC4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3640C-E6BA-4E82-BA9B-33C3930AF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3C74223-1D37-4C75-9A78-291F66FFD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BEBDAB-C6F2-4C9C-8D48-DC2B539F5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DE646C-7EE6-45A1-8221-E71BBDB6C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F4DCF-FDBF-46F6-8E9F-D9E7701275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61B99-4E13-4A7F-9EAD-9B3008176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76798-3A7A-42B2-BF67-C68E7CFCF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8950F-ED33-4680-8988-F1B9C90B7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441DFA-BD19-496A-B612-81DEB488F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0726B5-A710-4748-A420-4D74A8ACE5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793C9D-7243-46B1-AD55-519527BB04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EDDB24-0572-4582-9EC4-C0FCA4932D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71AA727-0F5C-421D-9D85-531CE2946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16B7D-E661-4E5E-8A6C-7A00DE9E5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7C626-98B2-4E97-945E-84792C6384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039DF-7B1E-41FA-9600-2A2EDC72D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61F043-4C39-4AA4-B32F-8E8133B9D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E31E1D-A9A9-4E1A-A04D-63DFEB56B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66943-EB21-4F97-9A48-856126619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C80F1-445B-4301-B4D8-4089D74A7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80699-CED2-4A37-8857-2739C0155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B54F13-CE06-4F7D-917E-E79307F052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09C49A-D804-4727-88C9-784E294F2E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2C677D6-CEC4-4B3B-B2BE-FC7F9D9F9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F26DBC-F85A-40AB-86B8-3ED37C2FC4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F0EBB16-D578-4B3B-9CB5-40334A36BB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20BF6E2-3F9A-4CC3-9887-59A82AE55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A2FC51B-0673-4177-BB68-DA12D9EE96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71E235F-9E89-4012-9F7B-BC0DEB26C6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05647B8-F830-4360-A598-94A0F1663F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52B02CD-990B-4AA8-A2A1-AD337BA797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6E21ACA-0128-41D2-BBDE-0DEAFF149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EBED453-6E1A-41F2-B1B1-57FD3F5EF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B5E5EE-C154-4F13-852B-FD203781E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2AB9F28-353C-4F28-8B09-05B6DDD32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6FE0E01-3849-4407-A9AE-48E3D594C6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1417F2E-3D76-459B-92C2-81CC4A9B56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DDED6D6-EBD8-443B-B4C6-0E01B2F27D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E70850-0DAF-4F7C-A43B-C8DC2DA3B2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498A97-E7EA-481C-A37D-DCC7E4F497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CB6C11-49E1-4DAF-91EC-990480F7EB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FB83A-AD62-42A5-BE23-2F53801395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07366-46FE-4DDD-BB94-18C1EB1AA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FEFAD-DF8A-42BE-AA58-D7C0102ED2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7363D-E1B0-44F3-9539-B2BF1E367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B7E2F2B-8ADA-41CD-9A6D-EAF1402C2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D453F1-7E44-4464-8FD2-9217A7DBDC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5DE04E-D7F2-49E0-BA74-8CE502325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80D95E-7A97-4395-BF46-FFD6BB0D70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0DA12C-B304-4FF7-A0DB-7CAC9B592D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055544-CA34-4266-B7B4-BAE5E0D01F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495809-CA1E-4DFD-A57A-62FFE4EEFD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2C4734-7629-4A4B-A9BC-F50EF0747E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CDDC8-65B7-400C-82A8-95177FD68D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62E88B-4C06-47A3-A86B-9C9CC081DE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701400-6F34-4725-B990-F542F226B3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D061824-3447-447C-9770-40F8A13B6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4F2801-7793-4551-8F4D-FF06BE6BD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A98DE-1F00-4852-A991-9957FC95F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8FA7B-050A-4D66-9003-05613B284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2C7574-06B4-4F53-BA63-070EF8AB6D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1F4556-1295-43FE-BCBF-F5A607BBCD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814CC5-F08D-4B45-A541-941C062101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DF5F4C-AE9C-49CC-9F67-F777731C6B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FC9D37-4136-44DC-B7D1-6214AB281F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10D5C7-3267-43A7-8E0D-B883F9E8A1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D20F0F-1FB0-4169-8C05-C0BB097DC2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FCC5-B390-4EB9-BF33-833A5340C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25" name=""/>
          <p:cNvGrpSpPr/>
          <p:nvPr/>
        </p:nvGrpSpPr>
        <p:grpSpPr>
          <a:xfrm>
            <a:off x="0" y="0"/>
            <a:ext cx="9148320" cy="6851520"/>
            <a:chOff x="0" y="0"/>
            <a:chExt cx="9148320" cy="6851520"/>
          </a:xfrm>
        </p:grpSpPr>
        <p:sp>
          <p:nvSpPr>
            <p:cNvPr id="92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455400" y="0"/>
              <a:ext cx="8092440" cy="6851520"/>
              <a:chOff x="455400" y="0"/>
              <a:chExt cx="8092440" cy="6851520"/>
            </a:xfrm>
          </p:grpSpPr>
          <p:sp>
            <p:nvSpPr>
              <p:cNvPr id="93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0" y="622440"/>
              <a:ext cx="9140760" cy="2493720"/>
              <a:chOff x="0" y="622440"/>
              <a:chExt cx="9140760" cy="2493720"/>
            </a:xfrm>
          </p:grpSpPr>
          <p:sp>
            <p:nvSpPr>
              <p:cNvPr id="95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6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869D-2A41-4467-860E-8E4C3986F2E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0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08"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8094-4C23-4039-BA42-EAD265C2400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04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011D-F49D-4E8D-8E13-E0B485DC0A6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0" y="0"/>
            <a:ext cx="7620120" cy="6858000"/>
            <a:chOff x="0" y="0"/>
            <a:chExt cx="7620120" cy="6858000"/>
          </a:xfrm>
        </p:grpSpPr>
        <p:grpSp>
          <p:nvGrpSpPr>
            <p:cNvPr id="1087" name=""/>
            <p:cNvGrpSpPr/>
            <p:nvPr/>
          </p:nvGrpSpPr>
          <p:grpSpPr>
            <a:xfrm>
              <a:off x="0" y="0"/>
              <a:ext cx="3200400" cy="6858000"/>
              <a:chOff x="0" y="0"/>
              <a:chExt cx="3200400" cy="6858000"/>
            </a:xfrm>
          </p:grpSpPr>
          <p:sp>
            <p:nvSpPr>
              <p:cNvPr id="108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090" name=""/>
            <p:cNvGrpSpPr/>
            <p:nvPr/>
          </p:nvGrpSpPr>
          <p:grpSpPr>
            <a:xfrm>
              <a:off x="228600" y="1981080"/>
              <a:ext cx="7391520" cy="319320"/>
              <a:chOff x="228600" y="1981080"/>
              <a:chExt cx="7391520" cy="319320"/>
            </a:xfrm>
          </p:grpSpPr>
          <p:sp>
            <p:nvSpPr>
              <p:cNvPr id="109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9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95"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96"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7"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90C6-F8D1-4436-8961-5E6B3727A0A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4" name=""/>
          <p:cNvGrpSpPr/>
          <p:nvPr/>
        </p:nvGrpSpPr>
        <p:grpSpPr>
          <a:xfrm>
            <a:off x="0" y="0"/>
            <a:ext cx="5867280" cy="6858000"/>
            <a:chOff x="0" y="0"/>
            <a:chExt cx="5867280" cy="6858000"/>
          </a:xfrm>
        </p:grpSpPr>
        <p:sp>
          <p:nvSpPr>
            <p:cNvPr id="113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7" name=""/>
          <p:cNvGrpSpPr/>
          <p:nvPr/>
        </p:nvGrpSpPr>
        <p:grpSpPr>
          <a:xfrm>
            <a:off x="3632040" y="4889520"/>
            <a:ext cx="4876920" cy="318960"/>
            <a:chOff x="3632040" y="4889520"/>
            <a:chExt cx="4876920" cy="318960"/>
          </a:xfrm>
        </p:grpSpPr>
        <p:sp>
          <p:nvSpPr>
            <p:cNvPr id="113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0"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1"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2"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B46B-1775-45CA-B265-E28B0E424C6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14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8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83"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84"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85"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4602-1B76-4361-91A5-E27925BEC34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8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8" name=""/>
          <p:cNvGrpSpPr/>
          <p:nvPr/>
        </p:nvGrpSpPr>
        <p:grpSpPr>
          <a:xfrm>
            <a:off x="7920" y="5540400"/>
            <a:ext cx="1784520" cy="1246320"/>
            <a:chOff x="7920" y="5540400"/>
            <a:chExt cx="1784520" cy="1246320"/>
          </a:xfrm>
        </p:grpSpPr>
        <p:sp>
          <p:nvSpPr>
            <p:cNvPr id="118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8" name=""/>
            <p:cNvGrpSpPr/>
            <p:nvPr/>
          </p:nvGrpSpPr>
          <p:grpSpPr>
            <a:xfrm>
              <a:off x="7920" y="5540400"/>
              <a:ext cx="1784520" cy="1238400"/>
              <a:chOff x="7920" y="5540400"/>
              <a:chExt cx="1784520" cy="1238400"/>
            </a:xfrm>
          </p:grpSpPr>
          <p:grpSp>
            <p:nvGrpSpPr>
              <p:cNvPr id="1199" name=""/>
              <p:cNvGrpSpPr/>
              <p:nvPr/>
            </p:nvGrpSpPr>
            <p:grpSpPr>
              <a:xfrm>
                <a:off x="792000" y="5654520"/>
                <a:ext cx="870120" cy="1124280"/>
                <a:chOff x="792000" y="5654520"/>
                <a:chExt cx="870120" cy="1124280"/>
              </a:xfrm>
            </p:grpSpPr>
            <p:sp>
              <p:nvSpPr>
                <p:cNvPr id="120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6" name=""/>
              <p:cNvGrpSpPr/>
              <p:nvPr/>
            </p:nvGrpSpPr>
            <p:grpSpPr>
              <a:xfrm>
                <a:off x="7920" y="5540400"/>
                <a:ext cx="1784520" cy="1076400"/>
                <a:chOff x="7920" y="5540400"/>
                <a:chExt cx="1784520" cy="1076400"/>
              </a:xfrm>
            </p:grpSpPr>
            <p:sp>
              <p:nvSpPr>
                <p:cNvPr id="120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15" name=""/>
          <p:cNvGrpSpPr/>
          <p:nvPr/>
        </p:nvGrpSpPr>
        <p:grpSpPr>
          <a:xfrm>
            <a:off x="8680320" y="2116080"/>
            <a:ext cx="385920" cy="4308480"/>
            <a:chOff x="8680320" y="2116080"/>
            <a:chExt cx="385920" cy="4308480"/>
          </a:xfrm>
        </p:grpSpPr>
        <p:sp>
          <p:nvSpPr>
            <p:cNvPr id="121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8" name=""/>
          <p:cNvGrpSpPr/>
          <p:nvPr/>
        </p:nvGrpSpPr>
        <p:grpSpPr>
          <a:xfrm>
            <a:off x="7171560" y="-87480"/>
            <a:ext cx="2427480" cy="2247120"/>
            <a:chOff x="7171560" y="-87480"/>
            <a:chExt cx="2427480" cy="2247120"/>
          </a:xfrm>
        </p:grpSpPr>
        <p:grpSp>
          <p:nvGrpSpPr>
            <p:cNvPr id="1219" name=""/>
            <p:cNvGrpSpPr/>
            <p:nvPr/>
          </p:nvGrpSpPr>
          <p:grpSpPr>
            <a:xfrm>
              <a:off x="7171560" y="-87480"/>
              <a:ext cx="2427480" cy="2247120"/>
              <a:chOff x="7171560" y="-87480"/>
              <a:chExt cx="2427480" cy="2247120"/>
            </a:xfrm>
          </p:grpSpPr>
          <p:sp>
            <p:nvSpPr>
              <p:cNvPr id="122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7171560" y="-87480"/>
                <a:ext cx="2427480" cy="2247120"/>
                <a:chOff x="7171560" y="-87480"/>
                <a:chExt cx="2427480" cy="2247120"/>
              </a:xfrm>
            </p:grpSpPr>
            <p:sp>
              <p:nvSpPr>
                <p:cNvPr id="122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69"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7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71"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40D7-7CD1-4BF5-BD4F-E72C54DD215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72" name=""/>
          <p:cNvGrpSpPr/>
          <p:nvPr/>
        </p:nvGrpSpPr>
        <p:grpSpPr>
          <a:xfrm>
            <a:off x="195120" y="235080"/>
            <a:ext cx="3787920" cy="1778040"/>
            <a:chOff x="195120" y="235080"/>
            <a:chExt cx="3787920" cy="1778040"/>
          </a:xfrm>
        </p:grpSpPr>
        <p:sp>
          <p:nvSpPr>
            <p:cNvPr id="127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76" name=""/>
            <p:cNvGrpSpPr/>
            <p:nvPr/>
          </p:nvGrpSpPr>
          <p:grpSpPr>
            <a:xfrm>
              <a:off x="195120" y="235080"/>
              <a:ext cx="3787920" cy="1716120"/>
              <a:chOff x="195120" y="235080"/>
              <a:chExt cx="3787920" cy="1716120"/>
            </a:xfrm>
          </p:grpSpPr>
          <p:sp>
            <p:nvSpPr>
              <p:cNvPr id="127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82" name=""/>
          <p:cNvGrpSpPr/>
          <p:nvPr/>
        </p:nvGrpSpPr>
        <p:grpSpPr>
          <a:xfrm>
            <a:off x="7797600" y="4318560"/>
            <a:ext cx="979920" cy="1159560"/>
            <a:chOff x="7797600" y="4318560"/>
            <a:chExt cx="979920" cy="1159560"/>
          </a:xfrm>
        </p:grpSpPr>
        <p:sp>
          <p:nvSpPr>
            <p:cNvPr id="128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7797600" y="4318560"/>
              <a:ext cx="979920" cy="1159560"/>
              <a:chOff x="7797600" y="4318560"/>
              <a:chExt cx="979920" cy="1159560"/>
            </a:xfrm>
          </p:grpSpPr>
          <p:sp>
            <p:nvSpPr>
              <p:cNvPr id="128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9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3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3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3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0881-185D-4D94-B110-372F0EF19E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72"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73"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74"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DB49-DADF-4CA0-9CC7-3D51AEFFB4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11" name=""/>
          <p:cNvGrpSpPr/>
          <p:nvPr/>
        </p:nvGrpSpPr>
        <p:grpSpPr>
          <a:xfrm>
            <a:off x="3600" y="1422360"/>
            <a:ext cx="9143640" cy="5435640"/>
            <a:chOff x="3600" y="1422360"/>
            <a:chExt cx="9143640" cy="5435640"/>
          </a:xfrm>
        </p:grpSpPr>
        <p:grpSp>
          <p:nvGrpSpPr>
            <p:cNvPr id="1412" name=""/>
            <p:cNvGrpSpPr/>
            <p:nvPr/>
          </p:nvGrpSpPr>
          <p:grpSpPr>
            <a:xfrm>
              <a:off x="31680" y="1422360"/>
              <a:ext cx="9115560" cy="5435640"/>
              <a:chOff x="31680" y="1422360"/>
              <a:chExt cx="9115560" cy="5435640"/>
            </a:xfrm>
          </p:grpSpPr>
          <p:sp>
            <p:nvSpPr>
              <p:cNvPr id="141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26" name=""/>
            <p:cNvGrpSpPr/>
            <p:nvPr/>
          </p:nvGrpSpPr>
          <p:grpSpPr>
            <a:xfrm>
              <a:off x="3600" y="3639960"/>
              <a:ext cx="2193840" cy="2694240"/>
              <a:chOff x="3600" y="3639960"/>
              <a:chExt cx="2193840" cy="2694240"/>
            </a:xfrm>
          </p:grpSpPr>
          <p:sp>
            <p:nvSpPr>
              <p:cNvPr id="142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0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5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5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63" name="PlaceHolder 2"/>
          <p:cNvSpPr>
            <a:spLocks noGrp="1"/>
          </p:cNvSpPr>
          <p:nvPr>
            <p:ph type="dt" idx="5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64"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65" name="PlaceHolder 4"/>
          <p:cNvSpPr>
            <a:spLocks noGrp="1"/>
          </p:cNvSpPr>
          <p:nvPr>
            <p:ph type="sldNum" idx="5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8A46-955F-437E-A567-31BC03848EE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6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5A7C-9C20-48BD-8866-5D7949D34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03" name=""/>
          <p:cNvGrpSpPr/>
          <p:nvPr/>
        </p:nvGrpSpPr>
        <p:grpSpPr>
          <a:xfrm>
            <a:off x="3600" y="1422360"/>
            <a:ext cx="9143640" cy="5435640"/>
            <a:chOff x="3600" y="1422360"/>
            <a:chExt cx="9143640" cy="5435640"/>
          </a:xfrm>
        </p:grpSpPr>
        <p:grpSp>
          <p:nvGrpSpPr>
            <p:cNvPr id="1604" name=""/>
            <p:cNvGrpSpPr/>
            <p:nvPr/>
          </p:nvGrpSpPr>
          <p:grpSpPr>
            <a:xfrm>
              <a:off x="31680" y="1422360"/>
              <a:ext cx="9115560" cy="5435640"/>
              <a:chOff x="31680" y="1422360"/>
              <a:chExt cx="9115560" cy="5435640"/>
            </a:xfrm>
          </p:grpSpPr>
          <p:sp>
            <p:nvSpPr>
              <p:cNvPr id="1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618" name=""/>
            <p:cNvGrpSpPr/>
            <p:nvPr/>
          </p:nvGrpSpPr>
          <p:grpSpPr>
            <a:xfrm>
              <a:off x="3600" y="3639960"/>
              <a:ext cx="2193840" cy="2694240"/>
              <a:chOff x="3600" y="3639960"/>
              <a:chExt cx="2193840" cy="2694240"/>
            </a:xfrm>
          </p:grpSpPr>
          <p:sp>
            <p:nvSpPr>
              <p:cNvPr id="1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755" name="PlaceHolder 2"/>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75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57" name="PlaceHolder 4"/>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00CE-5CF3-4B8B-AE03-E4D1ADF4F79E}"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7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1071720" y="304920"/>
            <a:ext cx="7614720" cy="1106280"/>
            <a:chOff x="1071720" y="304920"/>
            <a:chExt cx="7614720" cy="1106280"/>
          </a:xfrm>
        </p:grpSpPr>
        <p:sp>
          <p:nvSpPr>
            <p:cNvPr id="51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0"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D6EB-CC0E-48E8-829C-D024152058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0" name=""/>
          <p:cNvGrpSpPr/>
          <p:nvPr/>
        </p:nvGrpSpPr>
        <p:grpSpPr>
          <a:xfrm>
            <a:off x="1658520" y="1600200"/>
            <a:ext cx="6837480" cy="3200400"/>
            <a:chOff x="1658520" y="1600200"/>
            <a:chExt cx="6837480" cy="3200400"/>
          </a:xfrm>
        </p:grpSpPr>
        <p:sp>
          <p:nvSpPr>
            <p:cNvPr id="56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51EF-A885-4DC7-B8E2-FE69BDF674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858000"/>
            <a:chOff x="0" y="0"/>
            <a:chExt cx="9144000" cy="6858000"/>
          </a:xfrm>
        </p:grpSpPr>
        <p:sp>
          <p:nvSpPr>
            <p:cNvPr id="6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0" y="6019920"/>
            <a:ext cx="7848720" cy="857160"/>
            <a:chOff x="0" y="6019920"/>
            <a:chExt cx="7848720" cy="857160"/>
          </a:xfrm>
        </p:grpSpPr>
        <p:sp>
          <p:nvSpPr>
            <p:cNvPr id="6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3" name=""/>
            <p:cNvGrpSpPr/>
            <p:nvPr/>
          </p:nvGrpSpPr>
          <p:grpSpPr>
            <a:xfrm>
              <a:off x="3946680" y="6019920"/>
              <a:ext cx="3902040" cy="857160"/>
              <a:chOff x="3946680" y="6019920"/>
              <a:chExt cx="3902040" cy="857160"/>
            </a:xfrm>
          </p:grpSpPr>
          <p:sp>
            <p:nvSpPr>
              <p:cNvPr id="6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0" name=""/>
          <p:cNvGrpSpPr/>
          <p:nvPr/>
        </p:nvGrpSpPr>
        <p:grpSpPr>
          <a:xfrm>
            <a:off x="627120" y="6021360"/>
            <a:ext cx="5684760" cy="849240"/>
            <a:chOff x="627120" y="6021360"/>
            <a:chExt cx="5684760" cy="849240"/>
          </a:xfrm>
        </p:grpSpPr>
        <p:sp>
          <p:nvSpPr>
            <p:cNvPr id="6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C0B4-09CE-497F-BB0A-36F7D98924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8" name=""/>
          <p:cNvGrpSpPr/>
          <p:nvPr/>
        </p:nvGrpSpPr>
        <p:grpSpPr>
          <a:xfrm>
            <a:off x="-6480" y="20520"/>
            <a:ext cx="9144000" cy="6858000"/>
            <a:chOff x="-6480" y="20520"/>
            <a:chExt cx="9144000" cy="6858000"/>
          </a:xfrm>
        </p:grpSpPr>
        <p:sp>
          <p:nvSpPr>
            <p:cNvPr id="6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1440" y="6033960"/>
            <a:ext cx="7844400" cy="850680"/>
            <a:chOff x="-1440" y="6033960"/>
            <a:chExt cx="7844400" cy="850680"/>
          </a:xfrm>
        </p:grpSpPr>
        <p:sp>
          <p:nvSpPr>
            <p:cNvPr id="6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
            <p:cNvGrpSpPr/>
            <p:nvPr/>
          </p:nvGrpSpPr>
          <p:grpSpPr>
            <a:xfrm>
              <a:off x="3944880" y="6033960"/>
              <a:ext cx="3898080" cy="850680"/>
              <a:chOff x="3944880" y="6033960"/>
              <a:chExt cx="3898080" cy="850680"/>
            </a:xfrm>
          </p:grpSpPr>
          <p:sp>
            <p:nvSpPr>
              <p:cNvPr id="6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1" name=""/>
          <p:cNvGrpSpPr/>
          <p:nvPr/>
        </p:nvGrpSpPr>
        <p:grpSpPr>
          <a:xfrm>
            <a:off x="627120" y="6021360"/>
            <a:ext cx="5684760" cy="849240"/>
            <a:chOff x="627120" y="6021360"/>
            <a:chExt cx="5684760" cy="849240"/>
          </a:xfrm>
        </p:grpSpPr>
        <p:sp>
          <p:nvSpPr>
            <p:cNvPr id="6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90"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B03D-3718-4FF6-B55E-0F3057A695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1"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28" name=""/>
          <p:cNvGrpSpPr/>
          <p:nvPr/>
        </p:nvGrpSpPr>
        <p:grpSpPr>
          <a:xfrm>
            <a:off x="0" y="0"/>
            <a:ext cx="9144000" cy="6934320"/>
            <a:chOff x="0" y="0"/>
            <a:chExt cx="9144000" cy="6934320"/>
          </a:xfrm>
        </p:grpSpPr>
        <p:sp>
          <p:nvSpPr>
            <p:cNvPr id="7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A26D-6E06-4734-B13C-7E1C57317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0" y="0"/>
            <a:ext cx="9144000" cy="6934320"/>
            <a:chOff x="0" y="0"/>
            <a:chExt cx="9144000" cy="6934320"/>
          </a:xfrm>
        </p:grpSpPr>
        <p:sp>
          <p:nvSpPr>
            <p:cNvPr id="7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7F5D-F508-4E91-BF23-E8F7E5F0F8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1440" y="0"/>
            <a:ext cx="9149040" cy="6851520"/>
            <a:chOff x="1440" y="0"/>
            <a:chExt cx="9149040" cy="6851520"/>
          </a:xfrm>
        </p:grpSpPr>
        <p:sp>
          <p:nvSpPr>
            <p:cNvPr id="84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1" name=""/>
            <p:cNvGrpSpPr/>
            <p:nvPr/>
          </p:nvGrpSpPr>
          <p:grpSpPr>
            <a:xfrm>
              <a:off x="457200" y="0"/>
              <a:ext cx="8093160" cy="6851520"/>
              <a:chOff x="457200" y="0"/>
              <a:chExt cx="8093160" cy="6851520"/>
            </a:xfrm>
          </p:grpSpPr>
          <p:sp>
            <p:nvSpPr>
              <p:cNvPr id="85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6" name=""/>
            <p:cNvGrpSpPr/>
            <p:nvPr/>
          </p:nvGrpSpPr>
          <p:grpSpPr>
            <a:xfrm>
              <a:off x="1440" y="622440"/>
              <a:ext cx="9141120" cy="2493720"/>
              <a:chOff x="1440" y="622440"/>
              <a:chExt cx="9141120" cy="2493720"/>
            </a:xfrm>
          </p:grpSpPr>
          <p:sp>
            <p:nvSpPr>
              <p:cNvPr id="87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5"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86"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87"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50E1-9D16-49F2-94E8-3E916E8DFA7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30.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Layout" Target="../slideLayouts/slideLayout19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7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78.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55640" y="62064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
          <p:cNvSpPr txBox="1"/>
          <p:nvPr/>
        </p:nvSpPr>
        <p:spPr>
          <a:xfrm>
            <a:off x="1547640" y="765000"/>
            <a:ext cx="5832720" cy="137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lf Information Portrai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98" name="" descr=""/>
          <p:cNvPicPr/>
          <p:nvPr/>
        </p:nvPicPr>
        <p:blipFill>
          <a:blip r:embed="rId1"/>
          <a:stretch/>
        </p:blipFill>
        <p:spPr>
          <a:xfrm>
            <a:off x="2411280" y="285264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2"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arning styles: Learning style is an individual's unique approach to learning based on strengths, weaknesses, and preferences.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eer based on my learning style would be something active and I can do with my body. My number one choice would probably be a carpenter. I enjoy woodwork and find it amusing. Another career would be a surgeon. I would choose that because I like using my hands and I am interested in become a doctor.</a:t>
            </a:r>
            <a:endParaRPr b="0" lang="en-US" sz="1600" spc="-1" strike="noStrike">
              <a:solidFill>
                <a:srgbClr val="ffffff"/>
              </a:solidFill>
              <a:latin typeface="Tahoma"/>
            </a:endParaRPr>
          </a:p>
        </p:txBody>
      </p:sp>
      <p:sp>
        <p:nvSpPr>
          <p:cNvPr id="1833" name="PlaceHolder 3"/>
          <p:cNvSpPr>
            <a:spLocks noGrp="1"/>
          </p:cNvSpPr>
          <p:nvPr>
            <p:ph/>
          </p:nvPr>
        </p:nvSpPr>
        <p:spPr>
          <a:xfrm>
            <a:off x="464976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learning style is mostly like a kinaesthetic learner. I learn best by doing things. I think I also have a learning style where a learn best by reading. I can understand things better when I read it over one or three times. I am good with my hands so I can learn things using my body easily.</a:t>
            </a:r>
            <a:endParaRPr b="0" lang="en-US" sz="1600" spc="-1" strike="noStrike">
              <a:solidFill>
                <a:srgbClr val="ffffff"/>
              </a:solidFill>
              <a:latin typeface="Tahoma"/>
            </a:endParaRPr>
          </a:p>
        </p:txBody>
      </p:sp>
      <p:sp>
        <p:nvSpPr>
          <p:cNvPr id="1834" name=""/>
          <p:cNvSpPr txBox="1"/>
          <p:nvPr/>
        </p:nvSpPr>
        <p:spPr>
          <a:xfrm>
            <a:off x="2195640" y="620640"/>
            <a:ext cx="48099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ARNING STYL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835" name="" descr="http://www.mccullagh.org/db9/1ds-15/kink-com-carpentry-shop.jpg"/>
          <p:cNvPicPr/>
          <p:nvPr/>
        </p:nvPicPr>
        <p:blipFill>
          <a:blip r:embed="rId2"/>
          <a:stretch/>
        </p:blipFill>
        <p:spPr>
          <a:xfrm>
            <a:off x="5003640" y="4221000"/>
            <a:ext cx="331344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BLE OF CONTENTS</a:t>
            </a:r>
            <a:endParaRPr b="0" lang="en-US" sz="3800" spc="-1" strike="noStrike">
              <a:solidFill>
                <a:srgbClr val="000000"/>
              </a:solidFill>
              <a:latin typeface="Verdana"/>
            </a:endParaRPr>
          </a:p>
        </p:txBody>
      </p:sp>
      <p:sp>
        <p:nvSpPr>
          <p:cNvPr id="18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1--------------- TITLE PAG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2--------------- SKILL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3--------------- AP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4--------------- VALU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5--------------- AT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6--------------- EXPERI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7--------------- INTELLIG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8--------------- PERSONALIT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9--------------- LEARNING STYL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0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kills: Proficiency, facility, or dexterity that is acquired or developed through training or experience.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 would like to say that I have some good skills. I am very active and I like sports. I am a good swimmer. Getting along with people is very easy for me. I am also a very good listener. I am also a very patient person. Also I am a numerical kind of person. I am good with number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re are a lot of careers out there. The career I want to aim to get is to be a doctor. A general doctor to be exact. This would suit me because I am a patient person woth numerical skills.</a:t>
            </a:r>
            <a:endParaRPr b="0" lang="en-US" sz="1600" spc="-1" strike="noStrike">
              <a:solidFill>
                <a:srgbClr val="ffffff"/>
              </a:solidFill>
              <a:latin typeface="Arial"/>
            </a:endParaRPr>
          </a:p>
        </p:txBody>
      </p:sp>
      <p:sp>
        <p:nvSpPr>
          <p:cNvPr id="1803"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4" name=""/>
          <p:cNvSpPr txBox="1"/>
          <p:nvPr/>
        </p:nvSpPr>
        <p:spPr>
          <a:xfrm>
            <a:off x="3132000" y="115920"/>
            <a:ext cx="29196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KILL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1805" name="" descr="http://pdp.bournemouth.ac.uk/images/transferable_skills.gif"/>
          <p:cNvPicPr/>
          <p:nvPr/>
        </p:nvPicPr>
        <p:blipFill>
          <a:blip r:embed="rId6"/>
          <a:stretch/>
        </p:blipFill>
        <p:spPr>
          <a:xfrm>
            <a:off x="5003640" y="2349360"/>
            <a:ext cx="345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itude: your inherent capacity, talent or ability to do something. Having a high aptitude for something means you are good at doing that something.</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that my aptitudes varied. I think I am good at making decisions naturally. I believe that I have an aptitude for swimming. When I first went into a pool swimming came naturally to m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a good career based on my aptitude would be to be a swimmer. Maybe to be a pro swimmer one day. I would also really like to be able to go to the Olympics or some other kind of world even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8" name=""/>
          <p:cNvSpPr txBox="1"/>
          <p:nvPr/>
        </p:nvSpPr>
        <p:spPr>
          <a:xfrm rot="19983600">
            <a:off x="2124000" y="0"/>
            <a:ext cx="4896000" cy="1552680"/>
          </a:xfrm>
          <a:prstGeom prst="rect">
            <a:avLst/>
          </a:prstGeom>
        </p:spPr>
        <p:txBody>
          <a:bodyPr wrap="none" lIns="90000" rIns="90000" tIns="46800" bIns="46800" anchor="t" anchorCtr="1">
            <a:prstTxWarp prst="textDeflateBottom">
              <a:avLst>
                <a:gd name="adj" fmla="val 78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PTITUD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809" name="" descr=""/>
          <p:cNvPicPr/>
          <p:nvPr/>
        </p:nvPicPr>
        <p:blipFill>
          <a:blip r:embed="rId1"/>
          <a:stretch/>
        </p:blipFill>
        <p:spPr>
          <a:xfrm>
            <a:off x="689040" y="1600200"/>
            <a:ext cx="357516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alues: relative worth, merit, or importance, something that is important to you.</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value a lot of things. The number one thing I value is my family. If my family weren't wasn’t with me all these years I wouldn’t be the person I am today. I also treasure all the friends I have. I will always value every single one that have come and gone. The person I value the most in the world is my mother. She tries so hard to protect and raise us. When I am an adult I would like for her to take a break and I would support her.</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 career based on my values would probably be some kind of social caregiver. A social worker would be a good start, but im not that intrested in i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represents family.    </a:t>
            </a:r>
            <a:endParaRPr b="0" lang="en-US" sz="1800" spc="-1" strike="noStrike">
              <a:solidFill>
                <a:srgbClr val="ffffff"/>
              </a:solidFill>
              <a:latin typeface="Arial"/>
            </a:endParaRPr>
          </a:p>
        </p:txBody>
      </p:sp>
      <p:sp>
        <p:nvSpPr>
          <p:cNvPr id="1812" name=""/>
          <p:cNvSpPr txBox="1"/>
          <p:nvPr/>
        </p:nvSpPr>
        <p:spPr>
          <a:xfrm>
            <a:off x="2484360" y="333360"/>
            <a:ext cx="404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A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13" name="" descr="http://z.about.com/d/animatedtv/1/7/c/K/FamilyGuyParty.jpg"/>
          <p:cNvPicPr/>
          <p:nvPr/>
        </p:nvPicPr>
        <p:blipFill>
          <a:blip r:embed="rId1"/>
          <a:stretch/>
        </p:blipFill>
        <p:spPr>
          <a:xfrm>
            <a:off x="1258920" y="4575240"/>
            <a:ext cx="4105080" cy="22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itude: manner, disposition, feeling, position, etc., with regard to a person or thing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ood career based on my attitudes would maybe be some kind of instructor. A teacher is the first thing that would suit me based on my attitude because I like to help others and am a positive person.</a:t>
            </a:r>
            <a:endParaRPr b="0" lang="en-US" sz="1800" spc="-1" strike="noStrike">
              <a:solidFill>
                <a:srgbClr val="ffffff"/>
              </a:solidFill>
              <a:latin typeface="Times New Roman"/>
            </a:endParaRPr>
          </a:p>
        </p:txBody>
      </p:sp>
      <p:sp>
        <p:nvSpPr>
          <p:cNvPr id="18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 would say that I have a positive attitude. I am cheerful of things and for people. I like to look on the bright side of things. Also I am a friendly person, and I make friends easily. I also think og my self as a helpful person. If someone doenst understand something I try to help them understand. Plus if they ask my about something I would try my best to help.</a:t>
            </a:r>
            <a:endParaRPr b="0" lang="en-US" sz="1800" spc="-1" strike="noStrike">
              <a:solidFill>
                <a:srgbClr val="ffffff"/>
              </a:solidFill>
              <a:latin typeface="Times New Roman"/>
            </a:endParaRPr>
          </a:p>
        </p:txBody>
      </p:sp>
      <p:sp>
        <p:nvSpPr>
          <p:cNvPr id="1817" name=""/>
          <p:cNvSpPr txBox="1"/>
          <p:nvPr/>
        </p:nvSpPr>
        <p:spPr>
          <a:xfrm>
            <a:off x="2411280" y="476280"/>
            <a:ext cx="3888000" cy="107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TTITUD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818" name="" descr="http://lifeinthenhs.files.wordpress.com/2009/03/teacher1.jpg"/>
          <p:cNvPicPr/>
          <p:nvPr/>
        </p:nvPicPr>
        <p:blipFill>
          <a:blip r:embed="rId3"/>
          <a:stretch/>
        </p:blipFill>
        <p:spPr>
          <a:xfrm>
            <a:off x="2700360" y="4603680"/>
            <a:ext cx="230328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0"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Experience: a particular instance of personally encountering or undergoing something </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I have had many experiences in my life. Some were harsh and unfair and some were good. One thing that I remember was 3 years ago. It was when I first stepped into high school. Everything felt new and overwhelming. It kind of felt lonely because every single one of my friends that I knew went to a different high school. It was frightening at first but I started to make friends pretty quickly. That experience taught me that no matter how bad things seem it would get better over time.</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A good job out of my experiences probably would be some sort of counslor. I think so bacause ive been through a lot of things in my life and I would understand some of the feelings people have. Especially a high Scholl student.</a:t>
            </a:r>
            <a:endParaRPr b="0" lang="en-US" sz="1400" spc="-1" strike="noStrike">
              <a:solidFill>
                <a:srgbClr val="ffffff"/>
              </a:solidFill>
              <a:latin typeface="Verdana"/>
            </a:endParaRPr>
          </a:p>
        </p:txBody>
      </p:sp>
      <p:sp>
        <p:nvSpPr>
          <p:cNvPr id="1821" name=""/>
          <p:cNvSpPr txBox="1"/>
          <p:nvPr/>
        </p:nvSpPr>
        <p:spPr>
          <a:xfrm>
            <a:off x="1763640" y="260280"/>
            <a:ext cx="540072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XPERIENC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822" name="" descr="http://www.clipartheaven.com/clipart/education_&amp;_schools/cartoons/counselor%27s_office_1.gif"/>
          <p:cNvPicPr/>
          <p:nvPr/>
        </p:nvPicPr>
        <p:blipFill>
          <a:blip r:embed="rId1"/>
          <a:stretch/>
        </p:blipFill>
        <p:spPr>
          <a:xfrm>
            <a:off x="2627280" y="4292640"/>
            <a:ext cx="410544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4" name="PlaceHolder 2"/>
          <p:cNvSpPr>
            <a:spLocks noGrp="1"/>
          </p:cNvSpPr>
          <p:nvPr>
            <p:ph/>
          </p:nvPr>
        </p:nvSpPr>
        <p:spPr>
          <a:xfrm>
            <a:off x="685800" y="2833200"/>
            <a:ext cx="7696080" cy="2652840"/>
          </a:xfrm>
          <a:prstGeom prst="rect">
            <a:avLst/>
          </a:prstGeom>
          <a:noFill/>
          <a:ln w="0">
            <a:noFill/>
          </a:ln>
        </p:spPr>
        <p:txBody>
          <a:bodyPr lIns="90000" rIns="90000" tIns="46800" bIns="46800" anchor="t">
            <a:normAutofit/>
          </a:bodyPr>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ntelligence: capacity for learning, reasoning, understanding, and similar forms of mental activity; aptitude in grasping truths, relationships, facts, meanings, etc. </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My intelligence is more of a mathematical than artistic. I prefer to do science and math over art. I enjoy doing math problems sometimes. I am also very interested in biology. I like learning about the human body and other sorts of things related to that. I also like space and I have a little bit of intelligence in the area of astronomy.</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A good careers suited for my intelligence is most likely a doctor. I would really like to be a doctor it is my dream job. Another job that sounds interesting and would suit me would be an astronomer. It sounds amazing enough just hearing about the things in space but would be great to also discover them.</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p:txBody>
      </p:sp>
      <p:sp>
        <p:nvSpPr>
          <p:cNvPr id="1825" name=""/>
          <p:cNvSpPr txBox="1"/>
          <p:nvPr/>
        </p:nvSpPr>
        <p:spPr>
          <a:xfrm>
            <a:off x="2124000" y="0"/>
            <a:ext cx="48531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INTELLIGENC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826" name="" descr=""/>
          <p:cNvPicPr/>
          <p:nvPr/>
        </p:nvPicPr>
        <p:blipFill>
          <a:blip r:embed="rId1"/>
          <a:stretch/>
        </p:blipFill>
        <p:spPr>
          <a:xfrm>
            <a:off x="0" y="981000"/>
            <a:ext cx="1898640" cy="1844640"/>
          </a:xfrm>
          <a:prstGeom prst="rect">
            <a:avLst/>
          </a:prstGeom>
          <a:ln w="0">
            <a:noFill/>
          </a:ln>
        </p:spPr>
      </p:pic>
      <p:pic>
        <p:nvPicPr>
          <p:cNvPr id="1827" name="" descr="http://www.computerfreewallpapers.com/images/wallpapers/Misconstrue-Space-Art-681299.jpeg"/>
          <p:cNvPicPr/>
          <p:nvPr/>
        </p:nvPicPr>
        <p:blipFill>
          <a:blip r:embed="rId2"/>
          <a:stretch/>
        </p:blipFill>
        <p:spPr>
          <a:xfrm>
            <a:off x="6084720" y="4941720"/>
            <a:ext cx="2195640" cy="15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sonality: the visible aspect of one's character as it impresses other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have a enthusiastic personality. I am very cheerful and look forward to a lot of things. I believe that I am kind, caring, thoughtful and eager to please. I also am a patient person. If I have to wait for something  I can wai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good job that suits my personality would be a a positive environment where I could be eager to learn. Maybe a some sort of couch would do, or something along that line. Such  as a P.E teacher</a:t>
            </a:r>
            <a:endParaRPr b="0" lang="en-US" sz="1600" spc="-1" strike="noStrike">
              <a:solidFill>
                <a:srgbClr val="003366"/>
              </a:solidFill>
              <a:latin typeface="Arial"/>
            </a:endParaRPr>
          </a:p>
        </p:txBody>
      </p:sp>
      <p:sp>
        <p:nvSpPr>
          <p:cNvPr id="1829" name=""/>
          <p:cNvSpPr txBox="1"/>
          <p:nvPr/>
        </p:nvSpPr>
        <p:spPr>
          <a:xfrm>
            <a:off x="1763640" y="333360"/>
            <a:ext cx="4537080" cy="1224000"/>
          </a:xfrm>
          <a:prstGeom prst="rect">
            <a:avLst/>
          </a:prstGeom>
        </p:spPr>
        <p:txBody>
          <a:bodyPr wrap="none" lIns="90000" rIns="90000" tIns="46800" bIns="46800" anchor="t" anchorCtr="1">
            <a:prstTxWarp prst="textFadeUp">
              <a:avLst>
                <a:gd name="adj" fmla="val 8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SONAL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830" name="" descr=""/>
          <p:cNvPicPr/>
          <p:nvPr/>
        </p:nvPicPr>
        <p:blipFill>
          <a:blip r:embed="rId1"/>
          <a:stretch/>
        </p:blipFill>
        <p:spPr>
          <a:xfrm>
            <a:off x="5580000" y="3213000"/>
            <a:ext cx="2376720" cy="19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31:22Z</dcterms:created>
  <dc:creator>Hasan</dc:creator>
  <dc:description/>
  <dc:language>en-US</dc:language>
  <cp:lastModifiedBy>john.deguzman</cp:lastModifiedBy>
  <dcterms:modified xsi:type="dcterms:W3CDTF">2010-02-25T22:08:12Z</dcterms:modified>
  <cp:revision>3</cp:revision>
  <dc:subject/>
  <dc:title>Slide 1</dc:title>
</cp:coreProperties>
</file>