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7.jpeg" ContentType="image/jpeg"/>
  <Override PartName="/ppt/media/image11.jpeg" ContentType="image/jpeg"/>
  <Override PartName="/ppt/media/image16.gif" ContentType="image/gif"/>
  <Override PartName="/ppt/media/image2.png" ContentType="image/png"/>
  <Override PartName="/ppt/media/image15.jpeg" ContentType="image/jpeg"/>
  <Override PartName="/ppt/media/image14.wmf" ContentType="image/x-wmf"/>
  <Override PartName="/ppt/media/image5.jpeg" ContentType="image/jpeg"/>
  <Override PartName="/ppt/media/image9.wmf" ContentType="image/x-wmf"/>
  <Override PartName="/ppt/media/image10.jpeg" ContentType="image/jpeg"/>
  <Override PartName="/ppt/media/image1.png" ContentType="image/png"/>
  <Override PartName="/ppt/media/image17.jpeg" ContentType="image/jpeg"/>
  <Override PartName="/ppt/media/image3.png" ContentType="image/png"/>
  <Override PartName="/ppt/media/image4.png" ContentType="image/png"/>
  <Override PartName="/ppt/media/image6.jpeg" ContentType="image/jpeg"/>
  <Override PartName="/ppt/media/image8.png" ContentType="image/pn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sldIdLst>
    <p:sldId id="256" r:id="rId22"/>
    <p:sldId id="257" r:id="rId23"/>
    <p:sldId id="258" r:id="rId24"/>
    <p:sldId id="259" r:id="rId25"/>
    <p:sldId id="260" r:id="rId26"/>
    <p:sldId id="261" r:id="rId27"/>
    <p:sldId id="262" r:id="rId28"/>
    <p:sldId id="263" r:id="rId29"/>
    <p:sldId id="264" r:id="rId30"/>
    <p:sldId id="265"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slide" Target="slides/slide7.xml"/><Relationship Id="rId29" Type="http://schemas.openxmlformats.org/officeDocument/2006/relationships/slide" Target="slides/slide8.xml"/><Relationship Id="rId30" Type="http://schemas.openxmlformats.org/officeDocument/2006/relationships/slide" Target="slides/slide9.xml"/><Relationship Id="rId31" Type="http://schemas.openxmlformats.org/officeDocument/2006/relationships/slide" Target="slides/slide10.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E54A01D4-14AF-492B-AC81-96EDECE448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3"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4"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FBC76E09-FB04-481E-B36F-39107D0C94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9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5922ECD-2014-4FE7-9176-136C7216611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E16C73D-0B54-4FD5-B411-B32CC00F758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7"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1168F12-4018-432C-A778-25E734ACF66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9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ABBE35B-E6B5-4EE5-9A06-B7E138C34DD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0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5"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CC6F937-F765-4493-B13C-66FA191862F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0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9"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56E2B29-E846-41A2-B8CA-1A82633CC23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11"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2"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ED17A03-C49F-47DC-AB3B-8A674171F9B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1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7"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C731F49-FBC9-43CA-9843-0F7C9EEEE21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19"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0"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1"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2"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3"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4"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267E2C5-68E9-47C7-AFAB-31765379711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C8DB7F7-BDEA-4E70-ADE4-6DD0382D0E5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9"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CF385114-522F-4D14-A052-2F9D55006B06}"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6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98FC3BB-B4B9-437C-ADFB-6E5F90396F5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6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E0E1D8A-263E-4690-B5FD-9647EAE43A6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7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78B8B00-A7A7-4AB6-A726-006B97DAD1B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6E0184B-AA0A-4A42-BAE6-736C67450E8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2E7E5A2-582A-4827-A966-C76C94F1432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7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056F9B1-1B7D-4D4A-B507-1A84C930C4C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8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972E098-A344-4CDF-BC8C-A1AC8BB7807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8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CA82D8D-8256-4BFB-BBC9-BCC42B85394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8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C35A133-30D5-4964-BC77-9C0B5391E19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9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0576115-FC9D-4694-B4BF-3599C824E89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1"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2"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3"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4"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5"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6"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306D9C54-FAB9-4A74-8EFC-694C71B51681}"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9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C18856E-2252-4453-9263-6DF16232D2E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BC78E39-8AE9-44FA-88B7-ECD94283AD1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10"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A8BE35A-7C3E-444D-A3E2-E55BF8692C6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1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FA69802-D309-4A97-A227-E393CECA222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1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9DED8A3-AC13-4143-91A4-194FAB7EE0D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6F5D9AF-2339-4FD3-BF27-5C8FA93625C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7"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FB7B301-6D3B-462C-9796-6A798478D42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1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7C4349B-7651-4508-8A74-B22B5F8B0B2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2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5"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F5FD4AB-9890-4F83-9387-D17BD3E456A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2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9"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2CDD484-79E2-448C-B451-8CACC8EB8CC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69D9E5-B9E4-4593-BC63-6B354192D0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31"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2"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A4491B0-41E1-4979-921A-8A30904AB5D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3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7"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6CC6549-DD96-4D17-9F4E-0E10864ACEA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39"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0"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1"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2"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3"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4"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8037CE8-C0ED-484D-A9E1-CCE23CC7CD7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0473701-F652-4D71-9F3A-4FE8A2E9571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51"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832BC94-7F83-4E8A-B3FC-74A5219BA47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5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53800ED-9431-47CA-A683-F6EC0E10FA3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5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5D89A74-E7EE-48A4-BB76-E17C705E77D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21D2A73-4132-45FF-A6EA-FB84071A00D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8"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867C946-AC9D-4CB2-A621-4DCB1932801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6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FA5D3CB-3518-4495-9722-374A890268E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8"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ED8BFE-DAFD-4782-869D-A789A4E171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6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6"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1F1A79A-FEE2-45CA-A2D0-D2A6AA96F9B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6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0"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48D4235-D71D-4567-AC35-713CDAE8E33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72"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3"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9D0ADE5-3424-4603-9E64-65236BB441A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7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8"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CDDBADB-2508-4A0A-A9CF-AAF1E276115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80"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1"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2"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3"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4"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5"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F4FB971-9F33-4FA2-9BE0-A5B364D6452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1E04967-4DC4-4D4B-B44D-B54239C8D44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99"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35C706A-19B4-4B07-9207-F2ADD9B1461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0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88FA52A-D4A3-4C1C-8575-95F50B7ED77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0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957311F-D052-4AE3-B433-116540A51F8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9BB223D-4E15-456B-8F70-A5348B0F158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8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F35BEC-1EAD-4A6F-B2B1-94D241D241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6"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8D337A9-7E4E-4804-9413-5BDE1C82FB5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0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A2E46CA-C20D-4F66-8742-CA9417C688B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1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4"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6109A01-C867-4377-9DA5-51E8BE040C0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1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8"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E916B4F-57F5-4911-BCDF-B3851300127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20"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1"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4CDA8EB-E36E-41A4-83D6-DB3ACD35739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6"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2601862-2EAB-43AC-97E6-74EB4EB13D02}"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28"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9"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0"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1"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2"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3"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51A41121-2280-46E0-B8B8-8D9C91CE3C9A}"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CAD0A93C-536D-4D8C-B241-5721CAC5FE41}"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45"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1D6568F-2ADA-4047-847F-9ACE9D7E58C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4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3548A6D-31CB-4C2F-BEE4-9B529CD23FD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8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65FC35-7BED-4D30-9C76-6897CFE381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4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8C95265-79BE-44F4-A88D-5441BE8DEBE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9B8677A-0EA9-497C-828F-4558D1401F4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2"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68402A7-81DD-4ADA-A326-BE4CDC5FFF8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5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DF2E9DF-2B94-4186-91A3-0CB7222B946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5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0"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C3E8BA1-B9F9-4300-8171-AEE07B890BE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6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4"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1534548-C30B-4D55-8C96-F2D267FACC0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66"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7"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5689295-4DFC-45D0-9E30-A6E5C0599D8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6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2"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D9CBA16C-601F-4075-AB9C-36E07CAE3480}"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74"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5"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6"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7"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8"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9"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5DD516C9-1837-464E-9445-63E62887F9B8}"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6CD36E5E-28F5-43C8-91A2-84BD1E7CB21F}"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688FEE-7F30-4F5A-9FEC-4C695CC804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32"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620E245-BBEA-4224-BBE9-CCCC6C6ABEF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3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FE90B6C-62A1-41AD-A24A-DCDCA006C2A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3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98A314D-944D-476B-9D64-8344C46EC35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2EE9207-6A06-4ACD-A3ED-9FF666B2AF0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9"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90099AE-6F2C-4828-8913-ECC11621955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4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5666662-BBCB-4E58-A73B-9B15C4C62DA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4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7"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1874ACA-6238-4DB3-A214-12339251D9B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4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1"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A3B332C-76B2-4CF9-BA1C-91E01AB60BF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53"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4"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4F98BD3-464A-434B-BD03-DC2685D627E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9"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AD59975E-021C-49FA-BB3A-4962D040EFE2}"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E079A3-6227-47AB-BD15-43BCA36902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61"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2"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3"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4"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5"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6"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6D9A2BBB-03F8-427F-B5AD-7054B2E6E0F4}"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31B77330-3E7B-40AD-9AB2-ECD27E84626D}"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95"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88E3FB0-52B5-4A21-9EAC-38F34F05FC5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9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FF589B7-FD38-44BF-B25D-2EA19F97881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9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565CF0F0-D7D0-4C45-8FA0-C6A2744FD57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422E9E2-0B21-4B6C-B60D-3635AD38BA4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2"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8F40AD0-7FEE-4A8D-8DCA-3824AD2DD62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0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CAE647B-610F-4683-985B-CCC4D262E40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0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0"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B64B9F1-D208-4801-B557-FBAA2DBFDAB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1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4"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3A86E71-9A84-4A80-9A21-AD68E73E638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8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15371C-350C-43DE-80F4-FFC0EC0D25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16"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7"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A2BD1BA-95E8-4EA8-938C-ED606EE80FA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1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2"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9E05F4DB-0E4E-4784-BE16-76F14DC1E7A5}"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24"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5"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6"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7"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8"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9"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56CBBCC1-56A8-4DC3-AB31-E40E573ABCCA}"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AF97F80C-30D3-42E8-A480-A4CC24ED5C34}"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3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18383BBB-BA7F-4CDF-A564-4C43CB6442D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3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185C84D2-45A7-47FD-A7CA-35C52A2D971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4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DE71067-859E-46E1-812D-E0E62F8D919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6D5EC5D3-BF7B-4959-B380-2D1927ADF586}"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DF36FDF5-18B7-4675-8917-7520903ECC66}"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4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EED86D5-F823-45F4-952F-72F3CCDD331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2"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C4E65574-9B50-419E-AC88-6E8E3E79D9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3"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FDFFB7-E851-44AB-8532-225935296F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4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5CEB29D-441A-45AB-B77E-10A5054F358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5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1DAFC74-8141-4B3F-B41D-21FBA564139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5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F7847E51-5C34-4282-BCB5-8B46B5F8CE7E}"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6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EE329F5C-DF40-4844-A306-408B6F9716FE}"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6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E11381B9-956F-46E1-B7EC-083C7FD68F35}"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5C337075-80FC-46C0-AF73-700EBE3C66AD}"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7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5F691115-6110-487E-9BC3-AC45CA728244}"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7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6BA5A039-1E27-43F0-9489-3D5C27705C66}"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8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D76F1084-5311-4DD4-A375-82DDE18B2972}"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F46604CD-937A-497F-9609-88A6DD78567A}"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7"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D027B8-455F-482F-A9F0-0C3FAF471E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74CD876C-D94A-47F3-A452-F33BA6906FEA}"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8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139A73D-E8B4-453F-935B-5A73C6ECDAA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8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FBA0E86-2979-407E-AB48-F6B813A0274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9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DE6332E-B1DD-4E61-AF28-377AAE11244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9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3D283035-90E8-4CD4-820C-99CFEDFB3277}"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0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EA76A437-6E00-44F5-9957-0725C3828D2D}"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0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5AE5BDE9-2E17-4BE9-91C3-38D959ECF4B6}"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B98B8878-EE39-4773-B609-C3D08A2628E2}"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68"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905DC652-8B30-41F0-8D20-5F7CC3CF6864}"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7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50A55C06-523A-475B-A9D3-7F256BE9A7E8}"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9"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0"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95FD76-517D-4E54-8AAB-DB922E2D7A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7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E6711A94-F9CE-4BD9-B573-4A753D0E63F8}"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D934EBD9-13CA-4F51-8C7C-91CF802D217F}"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5"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A5FC0894-CC75-4BD9-A01C-DE463CD2214C}"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7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7D569EE-B207-43D9-9E82-E6DECCD8950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8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3"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FEC3C23-8EE3-46BF-A16D-3F471F963E5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8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7"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A18B7B8-D4F4-4C46-9E03-A9EFD4A759B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89"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0"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31B6BDBC-EEC6-47F1-A0A0-2AE20AF9F81E}"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9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5"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1123ADDA-D2A8-4A32-A87D-EC005CFD627E}"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97"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8"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9"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0"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1"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2"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2C4E9826-8897-44CC-840C-915B31AC7FF0}"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67B9381D-43CE-40A5-88D5-E9A950F710E4}"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0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5"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36F800-7003-4C4E-9BF0-C918AB36DE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60"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152E0B96-7589-4E89-B3B8-2A2CC5A4DB01}"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6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54562770-6AF9-4DB5-BE66-3BF3907931CD}"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6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816AEE08-D7AE-4A95-8ADD-C6E8F7729098}"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81FF6938-317D-437F-AA80-8BCCEAD31945}"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7"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B340DCFA-71CA-4D6D-B6FB-6313A96652A4}"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6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AA571A71-B000-4AC5-A151-D23C97751722}"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7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5"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34774464-D630-423B-B6D0-02DBA8892081}"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7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9"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43064A4C-AE82-4668-A2F9-0287758EDC98}"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81"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2"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A314A037-A3D3-4F0F-AE6D-F824A4F0CB98}"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8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7"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B92AEA92-FA1D-4B51-BABC-798A28FB27FA}"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07"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8"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9"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0"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1"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2"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E081BA-7CCC-49C6-A44E-AA2520E6D5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89"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0"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1"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2"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3"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4"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6D314B82-B666-4F0E-A3CD-F8423593A005}"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755C37D-6BBC-43C0-8126-A44B8A2F3E1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25"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AB72DF-D6B0-47AC-A86E-766A248663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2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9E709F-A3B3-4E36-994F-5958C6EFCB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2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E935C4-93CF-446D-B6AF-F0C3FD2484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49F875-CB5A-4D33-BB96-2BD1521326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51823982-71A3-404F-893F-ACB05AFEFC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2"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C7C295-7E12-4C62-90A6-885AC98DCC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3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04540C-42A8-41C4-B2E3-66AC26004F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3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0"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299DB7-CA98-4F97-9564-0D739BFE0B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4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4"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23F771-E94D-46B6-BDE6-07A014404A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46"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7"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1F6919-44D8-4A7F-AE00-30F0CB414C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4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2"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84573A8-5640-47F9-B8A3-DD90ABC8E43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54"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5"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6"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7"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8"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9"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82A2EB6-6F46-4066-A9BD-09F52D848F3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06DF0E3-57BB-453C-9C3B-DCBFCE5AD5A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72"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C756C1-5345-4152-A4BD-1E976AC235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7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4DF6BA-79F1-4F7E-8821-6ED5E33CC1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B4F49076-1473-41A4-AA29-770D6AC9D6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7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438CCD-C994-4832-8D0C-9544F0B1EC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4A20C5-1A38-438D-88D9-7D3C525338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9"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20DC62-8658-41D0-BF04-2E8F922431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8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C3EA3D-F562-4DAD-9E52-AAE8723104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8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7"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8C4086-FFDC-4B94-B1BA-D1680AAAB5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8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1"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27F8CD-E1A8-42C6-8C18-940198C1B2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93"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4"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328295-D29E-4BF7-B324-0CBFC70A54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9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9"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7B1F2DE-1DCD-4561-B212-6DAD9D196A4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1"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2"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3"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4"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5"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6"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4724D19-ED9A-4B07-A6D2-7DC42E291BD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894631C-9CD6-4956-B92A-DF3F953C870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B456EDF5-6AFC-474D-9A91-20DAE1E3D4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3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1059CC-0DFE-4074-9927-5DD398E921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3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2EF22F6-1DD5-4327-B548-D24E7E6D19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3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D34CA5-20B0-41FE-A018-C2DCD31B1D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1A2C953-1344-4C8E-B179-445E2438A9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0"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951FD6C-420B-4DD3-AD3B-1FC1694C0B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71C25A-58D9-4AB8-85AD-777959CD84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2A3F47-A30D-4033-8898-BE072C8B55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5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8F2DCE-74BE-472E-8F74-F3120BD40B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5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8F3B65C-26B2-496F-A045-B76F19BE0C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5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213C564-4216-489D-A568-79859D941DB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ABCAEFB8-B2C8-4B59-BDD2-4B8B39D120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6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83E1A7A-5BBE-4AAD-A132-28457AFD2F9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08D89DFE-D166-48E7-93A8-9A610FE4488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9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965466C9-87EA-4C68-9C31-BB1E4D7BC11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9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F95C26BC-32A5-4C19-8ECA-E49ED02CB49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9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C3E20EC6-97ED-45F1-B49A-288602D02AA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24027615-3199-4B71-9FB0-D044EA1FB01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0"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DF699215-6324-4EF7-935E-D62FE52BB4D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0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FA69EFB-69C3-4070-A343-3768C2FD0C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0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D141B56-9CA0-4FD4-9FB8-4FC2ADF565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A1206EC-8F43-4AF9-B4D4-8B25A35D45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31A6F42F-1FA5-41BD-9B5D-021F8F44AC0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E38E0BD1-0B71-4DFB-BA81-D44626AF692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FAF10889-71E1-43F0-9E9A-1AF0E976DE5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2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DA018FAF-EE30-45B1-8A0A-764DBC027D6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CCE17F1-70A1-4C26-92AE-329F975C607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5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0A7E43B-8D3F-4E8F-90E5-122BD591EE0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5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F0AA909-0116-4D28-83EA-9F93088ADBB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5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0F0A409-F531-4C44-8F24-128A25175BC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AEBFD37-FD9E-4464-8F5B-30C00140046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0"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F170905-D249-4140-8426-4B31266DAA6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39D054-C111-4C7D-B82C-E2CB9A5092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7"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BC590EE4-DCA7-41C2-96B4-7D9646BC27A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9B3F2C-B518-4DBF-B040-36FA439A1E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7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E3661D-1B3D-4D84-A806-F8E745C78D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7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18F93C2-B6BD-4616-A611-51078A9306C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7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8C413DB-193A-4868-9B60-95A13DC9A88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8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54B0663-D2BE-48CA-9A21-A816377B250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AACD581-8FA6-4BE2-80CE-10E7CAA7DF7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12"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65ABA43-AAA0-49B1-93FB-36ED07DB6AE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1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A7EB1EB-9D5B-4F0B-8F1E-D2CEF42644F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1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28E7962-8AAF-43AE-A292-76776A48248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9926C41-CFE9-49FB-BDC1-2F87540AAF6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1"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04482223-865A-4727-8916-66CA06CE2D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9"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6B4E7D5-EC57-4A86-BCC2-0D5B3710D2E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2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8DFE56-BA34-4FD3-A5A6-D535A06A5A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2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7"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8ABDF2-31F0-4685-BDF6-D40C5EC4D8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2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1"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FC1CE2-6BC1-4C65-9EDC-7385BA8502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33"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4"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AD1AD06-ED15-4F05-94D0-4D5AA2E3399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3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9"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BA3DBF3-95A2-44E3-B824-06739FBB634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41"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2"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3"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4"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5"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6"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F02047F-375A-4F31-BBB0-BB9BBD879F2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0F2021B-3F06-43C1-B5BF-17742710D76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90"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EC23166-67E8-4062-A7F3-E6E606C78E1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9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4217D9E-5793-4D37-A2F5-DC3EBC97D3C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4.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4.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5.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5.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10C93-21A9-45AF-A485-2408F39FCF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925" name=""/>
          <p:cNvGrpSpPr/>
          <p:nvPr/>
        </p:nvGrpSpPr>
        <p:grpSpPr>
          <a:xfrm>
            <a:off x="0" y="0"/>
            <a:ext cx="9148320" cy="6851520"/>
            <a:chOff x="0" y="0"/>
            <a:chExt cx="9148320" cy="6851520"/>
          </a:xfrm>
        </p:grpSpPr>
        <p:sp>
          <p:nvSpPr>
            <p:cNvPr id="926"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7"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8"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929" name=""/>
            <p:cNvGrpSpPr/>
            <p:nvPr/>
          </p:nvGrpSpPr>
          <p:grpSpPr>
            <a:xfrm>
              <a:off x="455400" y="0"/>
              <a:ext cx="8092440" cy="6851520"/>
              <a:chOff x="455400" y="0"/>
              <a:chExt cx="8092440" cy="6851520"/>
            </a:xfrm>
          </p:grpSpPr>
          <p:sp>
            <p:nvSpPr>
              <p:cNvPr id="930"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1"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2"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3"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4"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5"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6"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7"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8"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9"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0"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1"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2"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43"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4"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5"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6"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7"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8"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9"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0"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1"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2"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3"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954" name=""/>
            <p:cNvGrpSpPr/>
            <p:nvPr/>
          </p:nvGrpSpPr>
          <p:grpSpPr>
            <a:xfrm>
              <a:off x="0" y="622440"/>
              <a:ext cx="9140760" cy="2493720"/>
              <a:chOff x="0" y="622440"/>
              <a:chExt cx="9140760" cy="2493720"/>
            </a:xfrm>
          </p:grpSpPr>
          <p:sp>
            <p:nvSpPr>
              <p:cNvPr id="955"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6"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7"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8"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9"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0"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1"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963" name="PlaceHolder 2"/>
          <p:cNvSpPr>
            <a:spLocks noGrp="1"/>
          </p:cNvSpPr>
          <p:nvPr>
            <p:ph type="dt" idx="28"/>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964" name="PlaceHolder 3"/>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965" name="PlaceHolder 4"/>
          <p:cNvSpPr>
            <a:spLocks noGrp="1"/>
          </p:cNvSpPr>
          <p:nvPr>
            <p:ph type="sldNum" idx="30"/>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435C6-8190-44BF-BB28-ABB41DD53AB4}"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003"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004"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5"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6" name="PlaceHolder 3"/>
          <p:cNvSpPr>
            <a:spLocks noGrp="1"/>
          </p:cNvSpPr>
          <p:nvPr>
            <p:ph type="dt" idx="3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1007"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1008" name="PlaceHolder 5"/>
          <p:cNvSpPr>
            <a:spLocks noGrp="1"/>
          </p:cNvSpPr>
          <p:nvPr>
            <p:ph type="sldNum" idx="3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92C0E-5F3B-4E5C-B012-A6C4807FB99B}"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1046" name="PlaceHolder 2"/>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1047" name="PlaceHolder 3"/>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1048" name="PlaceHolder 4"/>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41621-C7EC-4CA1-89E6-50800D3FA98F}"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1049"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86" name=""/>
          <p:cNvGrpSpPr/>
          <p:nvPr/>
        </p:nvGrpSpPr>
        <p:grpSpPr>
          <a:xfrm>
            <a:off x="0" y="0"/>
            <a:ext cx="7620120" cy="6858000"/>
            <a:chOff x="0" y="0"/>
            <a:chExt cx="7620120" cy="6858000"/>
          </a:xfrm>
        </p:grpSpPr>
        <p:grpSp>
          <p:nvGrpSpPr>
            <p:cNvPr id="1087" name=""/>
            <p:cNvGrpSpPr/>
            <p:nvPr/>
          </p:nvGrpSpPr>
          <p:grpSpPr>
            <a:xfrm>
              <a:off x="0" y="0"/>
              <a:ext cx="3200400" cy="6858000"/>
              <a:chOff x="0" y="0"/>
              <a:chExt cx="3200400" cy="6858000"/>
            </a:xfrm>
          </p:grpSpPr>
          <p:sp>
            <p:nvSpPr>
              <p:cNvPr id="1088"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9"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ffffff"/>
                  </a:solidFill>
                  <a:latin typeface="Arial"/>
                </a:endParaRPr>
              </a:p>
            </p:txBody>
          </p:sp>
        </p:grpSp>
        <p:grpSp>
          <p:nvGrpSpPr>
            <p:cNvPr id="1090" name=""/>
            <p:cNvGrpSpPr/>
            <p:nvPr/>
          </p:nvGrpSpPr>
          <p:grpSpPr>
            <a:xfrm>
              <a:off x="228600" y="1981080"/>
              <a:ext cx="7391520" cy="319320"/>
              <a:chOff x="228600" y="1981080"/>
              <a:chExt cx="7391520" cy="319320"/>
            </a:xfrm>
          </p:grpSpPr>
          <p:sp>
            <p:nvSpPr>
              <p:cNvPr id="1091"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2"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09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094"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095" name="PlaceHolder 3"/>
          <p:cNvSpPr>
            <a:spLocks noGrp="1"/>
          </p:cNvSpPr>
          <p:nvPr>
            <p:ph type="dt" idx="37"/>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96" name="PlaceHolder 4"/>
          <p:cNvSpPr>
            <a:spLocks noGrp="1"/>
          </p:cNvSpPr>
          <p:nvPr>
            <p:ph type="ftr" idx="38"/>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97" name="PlaceHolder 5"/>
          <p:cNvSpPr>
            <a:spLocks noGrp="1"/>
          </p:cNvSpPr>
          <p:nvPr>
            <p:ph type="sldNum" idx="39"/>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E5D75-072F-44C2-9FC4-E3FB443C1829}"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34" name=""/>
          <p:cNvGrpSpPr/>
          <p:nvPr/>
        </p:nvGrpSpPr>
        <p:grpSpPr>
          <a:xfrm>
            <a:off x="0" y="0"/>
            <a:ext cx="5867280" cy="6858000"/>
            <a:chOff x="0" y="0"/>
            <a:chExt cx="5867280" cy="6858000"/>
          </a:xfrm>
        </p:grpSpPr>
        <p:sp>
          <p:nvSpPr>
            <p:cNvPr id="1135"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6"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137" name=""/>
          <p:cNvGrpSpPr/>
          <p:nvPr/>
        </p:nvGrpSpPr>
        <p:grpSpPr>
          <a:xfrm>
            <a:off x="3632040" y="4889520"/>
            <a:ext cx="4876920" cy="318960"/>
            <a:chOff x="3632040" y="4889520"/>
            <a:chExt cx="4876920" cy="318960"/>
          </a:xfrm>
        </p:grpSpPr>
        <p:sp>
          <p:nvSpPr>
            <p:cNvPr id="1138"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9"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140" name="PlaceHolder 1"/>
          <p:cNvSpPr>
            <a:spLocks noGrp="1"/>
          </p:cNvSpPr>
          <p:nvPr>
            <p:ph type="dt" idx="40"/>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141" name="PlaceHolder 2"/>
          <p:cNvSpPr>
            <a:spLocks noGrp="1"/>
          </p:cNvSpPr>
          <p:nvPr>
            <p:ph type="ftr" idx="41"/>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42" name="PlaceHolder 3"/>
          <p:cNvSpPr>
            <a:spLocks noGrp="1"/>
          </p:cNvSpPr>
          <p:nvPr>
            <p:ph type="sldNum" idx="42"/>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E99AD-10A9-4FFF-9E88-0C764EA59BB2}"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1143"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8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83" name="PlaceHolder 3"/>
          <p:cNvSpPr>
            <a:spLocks noGrp="1"/>
          </p:cNvSpPr>
          <p:nvPr>
            <p:ph type="dt" idx="43"/>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1184" name="PlaceHolder 4"/>
          <p:cNvSpPr>
            <a:spLocks noGrp="1"/>
          </p:cNvSpPr>
          <p:nvPr>
            <p:ph type="ftr" idx="44"/>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1185" name="PlaceHolder 5"/>
          <p:cNvSpPr>
            <a:spLocks noGrp="1"/>
          </p:cNvSpPr>
          <p:nvPr>
            <p:ph type="sldNum" idx="45"/>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AD381-2A48-4EE0-ADF4-E1022EB45C0F}"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118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8" name=""/>
          <p:cNvGrpSpPr/>
          <p:nvPr/>
        </p:nvGrpSpPr>
        <p:grpSpPr>
          <a:xfrm>
            <a:off x="7920" y="5540400"/>
            <a:ext cx="1784520" cy="1246320"/>
            <a:chOff x="7920" y="5540400"/>
            <a:chExt cx="1784520" cy="1246320"/>
          </a:xfrm>
        </p:grpSpPr>
        <p:sp>
          <p:nvSpPr>
            <p:cNvPr id="118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98" name=""/>
            <p:cNvGrpSpPr/>
            <p:nvPr/>
          </p:nvGrpSpPr>
          <p:grpSpPr>
            <a:xfrm>
              <a:off x="7920" y="5540400"/>
              <a:ext cx="1784520" cy="1238400"/>
              <a:chOff x="7920" y="5540400"/>
              <a:chExt cx="1784520" cy="1238400"/>
            </a:xfrm>
          </p:grpSpPr>
          <p:grpSp>
            <p:nvGrpSpPr>
              <p:cNvPr id="1199" name=""/>
              <p:cNvGrpSpPr/>
              <p:nvPr/>
            </p:nvGrpSpPr>
            <p:grpSpPr>
              <a:xfrm>
                <a:off x="792000" y="5654520"/>
                <a:ext cx="870120" cy="1124280"/>
                <a:chOff x="792000" y="5654520"/>
                <a:chExt cx="870120" cy="1124280"/>
              </a:xfrm>
            </p:grpSpPr>
            <p:sp>
              <p:nvSpPr>
                <p:cNvPr id="120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0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06" name=""/>
              <p:cNvGrpSpPr/>
              <p:nvPr/>
            </p:nvGrpSpPr>
            <p:grpSpPr>
              <a:xfrm>
                <a:off x="7920" y="5540400"/>
                <a:ext cx="1784520" cy="1076400"/>
                <a:chOff x="7920" y="5540400"/>
                <a:chExt cx="1784520" cy="1076400"/>
              </a:xfrm>
            </p:grpSpPr>
            <p:sp>
              <p:nvSpPr>
                <p:cNvPr id="120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1215" name=""/>
          <p:cNvGrpSpPr/>
          <p:nvPr/>
        </p:nvGrpSpPr>
        <p:grpSpPr>
          <a:xfrm>
            <a:off x="8680320" y="2116080"/>
            <a:ext cx="385920" cy="4308480"/>
            <a:chOff x="8680320" y="2116080"/>
            <a:chExt cx="385920" cy="4308480"/>
          </a:xfrm>
        </p:grpSpPr>
        <p:sp>
          <p:nvSpPr>
            <p:cNvPr id="121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18" name=""/>
          <p:cNvGrpSpPr/>
          <p:nvPr/>
        </p:nvGrpSpPr>
        <p:grpSpPr>
          <a:xfrm>
            <a:off x="7171560" y="-87480"/>
            <a:ext cx="2427480" cy="2247120"/>
            <a:chOff x="7171560" y="-87480"/>
            <a:chExt cx="2427480" cy="2247120"/>
          </a:xfrm>
        </p:grpSpPr>
        <p:grpSp>
          <p:nvGrpSpPr>
            <p:cNvPr id="1219" name=""/>
            <p:cNvGrpSpPr/>
            <p:nvPr/>
          </p:nvGrpSpPr>
          <p:grpSpPr>
            <a:xfrm>
              <a:off x="7171560" y="-87480"/>
              <a:ext cx="2427480" cy="2247120"/>
              <a:chOff x="7171560" y="-87480"/>
              <a:chExt cx="2427480" cy="2247120"/>
            </a:xfrm>
          </p:grpSpPr>
          <p:sp>
            <p:nvSpPr>
              <p:cNvPr id="122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21" name=""/>
              <p:cNvGrpSpPr/>
              <p:nvPr/>
            </p:nvGrpSpPr>
            <p:grpSpPr>
              <a:xfrm>
                <a:off x="7171560" y="-87480"/>
                <a:ext cx="2427480" cy="2247120"/>
                <a:chOff x="7171560" y="-87480"/>
                <a:chExt cx="2427480" cy="2247120"/>
              </a:xfrm>
            </p:grpSpPr>
            <p:sp>
              <p:nvSpPr>
                <p:cNvPr id="122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3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1269" name="PlaceHolder 2"/>
          <p:cNvSpPr>
            <a:spLocks noGrp="1"/>
          </p:cNvSpPr>
          <p:nvPr>
            <p:ph type="dt" idx="46"/>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1270" name="PlaceHolder 3"/>
          <p:cNvSpPr>
            <a:spLocks noGrp="1"/>
          </p:cNvSpPr>
          <p:nvPr>
            <p:ph type="ftr" idx="4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1271" name="PlaceHolder 4"/>
          <p:cNvSpPr>
            <a:spLocks noGrp="1"/>
          </p:cNvSpPr>
          <p:nvPr>
            <p:ph type="sldNum" idx="4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BB3F3-E04F-49C4-9F38-DD6AE81CC5CC}"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1272" name=""/>
          <p:cNvGrpSpPr/>
          <p:nvPr/>
        </p:nvGrpSpPr>
        <p:grpSpPr>
          <a:xfrm>
            <a:off x="195120" y="235080"/>
            <a:ext cx="3787920" cy="1778040"/>
            <a:chOff x="195120" y="235080"/>
            <a:chExt cx="3787920" cy="1778040"/>
          </a:xfrm>
        </p:grpSpPr>
        <p:sp>
          <p:nvSpPr>
            <p:cNvPr id="127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76" name=""/>
            <p:cNvGrpSpPr/>
            <p:nvPr/>
          </p:nvGrpSpPr>
          <p:grpSpPr>
            <a:xfrm>
              <a:off x="195120" y="235080"/>
              <a:ext cx="3787920" cy="1716120"/>
              <a:chOff x="195120" y="235080"/>
              <a:chExt cx="3787920" cy="1716120"/>
            </a:xfrm>
          </p:grpSpPr>
          <p:sp>
            <p:nvSpPr>
              <p:cNvPr id="127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282" name=""/>
          <p:cNvGrpSpPr/>
          <p:nvPr/>
        </p:nvGrpSpPr>
        <p:grpSpPr>
          <a:xfrm>
            <a:off x="7797600" y="4318560"/>
            <a:ext cx="979920" cy="1159560"/>
            <a:chOff x="7797600" y="4318560"/>
            <a:chExt cx="979920" cy="1159560"/>
          </a:xfrm>
        </p:grpSpPr>
        <p:sp>
          <p:nvSpPr>
            <p:cNvPr id="128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86" name=""/>
            <p:cNvGrpSpPr/>
            <p:nvPr/>
          </p:nvGrpSpPr>
          <p:grpSpPr>
            <a:xfrm>
              <a:off x="7797600" y="4318560"/>
              <a:ext cx="979920" cy="1159560"/>
              <a:chOff x="7797600" y="4318560"/>
              <a:chExt cx="979920" cy="1159560"/>
            </a:xfrm>
          </p:grpSpPr>
          <p:sp>
            <p:nvSpPr>
              <p:cNvPr id="128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9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33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332"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333"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334"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39781-685F-4272-AE01-47216FB741E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372" name="PlaceHolder 2"/>
          <p:cNvSpPr>
            <a:spLocks noGrp="1"/>
          </p:cNvSpPr>
          <p:nvPr>
            <p:ph type="dt" idx="52"/>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373" name="PlaceHolder 3"/>
          <p:cNvSpPr>
            <a:spLocks noGrp="1"/>
          </p:cNvSpPr>
          <p:nvPr>
            <p:ph type="ftr" idx="53"/>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374" name="PlaceHolder 4"/>
          <p:cNvSpPr>
            <a:spLocks noGrp="1"/>
          </p:cNvSpPr>
          <p:nvPr>
            <p:ph type="sldNum" idx="54"/>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888BE-4FAF-4A8D-97E1-F63F6A6EFC8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411" name=""/>
          <p:cNvGrpSpPr/>
          <p:nvPr/>
        </p:nvGrpSpPr>
        <p:grpSpPr>
          <a:xfrm>
            <a:off x="3600" y="1422360"/>
            <a:ext cx="9143640" cy="5435640"/>
            <a:chOff x="3600" y="1422360"/>
            <a:chExt cx="9143640" cy="5435640"/>
          </a:xfrm>
        </p:grpSpPr>
        <p:grpSp>
          <p:nvGrpSpPr>
            <p:cNvPr id="1412" name=""/>
            <p:cNvGrpSpPr/>
            <p:nvPr/>
          </p:nvGrpSpPr>
          <p:grpSpPr>
            <a:xfrm>
              <a:off x="31680" y="1422360"/>
              <a:ext cx="9115560" cy="5435640"/>
              <a:chOff x="31680" y="1422360"/>
              <a:chExt cx="9115560" cy="5435640"/>
            </a:xfrm>
          </p:grpSpPr>
          <p:sp>
            <p:nvSpPr>
              <p:cNvPr id="1413"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14"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15"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16"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17"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18"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19"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20"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21"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22"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23"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24"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25"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426" name=""/>
            <p:cNvGrpSpPr/>
            <p:nvPr/>
          </p:nvGrpSpPr>
          <p:grpSpPr>
            <a:xfrm>
              <a:off x="3600" y="3639960"/>
              <a:ext cx="2193840" cy="2694240"/>
              <a:chOff x="3600" y="3639960"/>
              <a:chExt cx="2193840" cy="2694240"/>
            </a:xfrm>
          </p:grpSpPr>
          <p:sp>
            <p:nvSpPr>
              <p:cNvPr id="1427"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28"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29"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30"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31"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32"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33"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34"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35"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36"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37"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38"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39"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0"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1"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2"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3"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4"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45"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6"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7"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8"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9"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0"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1"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2"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3"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4"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5"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6"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7"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8"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9"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0"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1"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2"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3"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4"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5"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6"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7"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8"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9"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0"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1"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2"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3"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4"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5"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6"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7"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8"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9"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80"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1"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2"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3"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4"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5"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6"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7"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8"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9"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0"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1"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2"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3"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4"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5"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6"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7"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8"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9"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0"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501"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2"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3"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4"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5"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6"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7"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8"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9"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10"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11"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12"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13"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14"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15"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16"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517"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18"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19"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0"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1"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2"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3"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4"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5"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6"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7"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8"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9"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0"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1"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2"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3"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4"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5"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6"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7"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8"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9"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40"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41"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42"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43"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44"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45"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46"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47"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8"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9"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0"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1"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2"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3"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554"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555"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6"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557"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58"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9"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0"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61"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63" name="PlaceHolder 2"/>
          <p:cNvSpPr>
            <a:spLocks noGrp="1"/>
          </p:cNvSpPr>
          <p:nvPr>
            <p:ph type="dt" idx="55"/>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564" name="PlaceHolder 3"/>
          <p:cNvSpPr>
            <a:spLocks noGrp="1"/>
          </p:cNvSpPr>
          <p:nvPr>
            <p:ph type="ftr" idx="5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1565" name="PlaceHolder 4"/>
          <p:cNvSpPr>
            <a:spLocks noGrp="1"/>
          </p:cNvSpPr>
          <p:nvPr>
            <p:ph type="sldNum" idx="57"/>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CDE11-C2E6-49B5-8012-205FA5F0DCA7}"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566"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1"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2"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3"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4"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5"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7"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3"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5"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8"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0"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1"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5"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6"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28"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9"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0"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1"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2"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3"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4"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5"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6"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7"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8"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9"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2"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3"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4"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5"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6"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7"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8"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9"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57"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58"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59"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0"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1"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2"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3"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4"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5"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6"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7"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68"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9"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1"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2"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4"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8"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79"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0"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1"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2"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3"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4"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7"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8"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9"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2"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4"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5"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6"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8"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9"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2"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3"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6"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9"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0"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1"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3"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4"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6"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7"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8"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0"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4"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5"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6"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7"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8"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0"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1"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2"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4"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5"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6"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4"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5"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6"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7"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8"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9"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0"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1"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4"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5"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6"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7"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8"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2"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DEF11-04C3-4B12-8A93-49B620A2C1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603" name=""/>
          <p:cNvGrpSpPr/>
          <p:nvPr/>
        </p:nvGrpSpPr>
        <p:grpSpPr>
          <a:xfrm>
            <a:off x="3600" y="1422360"/>
            <a:ext cx="9143640" cy="5435640"/>
            <a:chOff x="3600" y="1422360"/>
            <a:chExt cx="9143640" cy="5435640"/>
          </a:xfrm>
        </p:grpSpPr>
        <p:grpSp>
          <p:nvGrpSpPr>
            <p:cNvPr id="1604" name=""/>
            <p:cNvGrpSpPr/>
            <p:nvPr/>
          </p:nvGrpSpPr>
          <p:grpSpPr>
            <a:xfrm>
              <a:off x="31680" y="1422360"/>
              <a:ext cx="9115560" cy="5435640"/>
              <a:chOff x="31680" y="1422360"/>
              <a:chExt cx="9115560" cy="5435640"/>
            </a:xfrm>
          </p:grpSpPr>
          <p:sp>
            <p:nvSpPr>
              <p:cNvPr id="1605"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06"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07"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08"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09"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10"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11"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12"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13"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14"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15"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16"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17"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618" name=""/>
            <p:cNvGrpSpPr/>
            <p:nvPr/>
          </p:nvGrpSpPr>
          <p:grpSpPr>
            <a:xfrm>
              <a:off x="3600" y="3639960"/>
              <a:ext cx="2193840" cy="2694240"/>
              <a:chOff x="3600" y="3639960"/>
              <a:chExt cx="2193840" cy="2694240"/>
            </a:xfrm>
          </p:grpSpPr>
          <p:sp>
            <p:nvSpPr>
              <p:cNvPr id="1619"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620"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21"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622"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623"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24"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25"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26"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27"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28"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29"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630"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31"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32"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33"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34"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35"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36"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637"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38"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39"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40"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41"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42"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43"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44"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45"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46"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47"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48"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49"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50"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51"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52"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53"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54"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55"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56"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57"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58"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659"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60"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61"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62"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63"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64"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65"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66"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67"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68"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69"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70"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71"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672"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73"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74"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75"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76"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77"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78"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79"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80"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81"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82"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3"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84"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85"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86"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87"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88"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89"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90"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91"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92"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693"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94"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95"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96"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97"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98"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99"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00"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01"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02"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03"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04"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05"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06"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07"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08"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09"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10"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11"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12"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13"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14"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15"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16"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17"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18"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19"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20"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21"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22"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23"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24"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25"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26"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27"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28"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29"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30"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31"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32"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33"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34"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35"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36"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37"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38"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39"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0"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1"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2"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3"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4"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5"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746"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747"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8"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49"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50"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1"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2"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53"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75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1755" name="PlaceHolder 2"/>
          <p:cNvSpPr>
            <a:spLocks noGrp="1"/>
          </p:cNvSpPr>
          <p:nvPr>
            <p:ph type="dt" idx="58"/>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1756" name="PlaceHolder 3"/>
          <p:cNvSpPr>
            <a:spLocks noGrp="1"/>
          </p:cNvSpPr>
          <p:nvPr>
            <p:ph type="ftr" idx="5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1757" name="PlaceHolder 4"/>
          <p:cNvSpPr>
            <a:spLocks noGrp="1"/>
          </p:cNvSpPr>
          <p:nvPr>
            <p:ph type="sldNum" idx="60"/>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9A4C8-442F-49CE-B6DF-6457AA565CFD}"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17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3" name=""/>
          <p:cNvGrpSpPr/>
          <p:nvPr/>
        </p:nvGrpSpPr>
        <p:grpSpPr>
          <a:xfrm>
            <a:off x="1071720" y="304920"/>
            <a:ext cx="7614720" cy="1106280"/>
            <a:chOff x="1071720" y="304920"/>
            <a:chExt cx="7614720" cy="1106280"/>
          </a:xfrm>
        </p:grpSpPr>
        <p:sp>
          <p:nvSpPr>
            <p:cNvPr id="514"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5"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6"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7"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8"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19"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0" name="PlaceHolder 2"/>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21"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22" name="PlaceHolder 4"/>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9D9A1-DA79-447A-B9DE-F1F1F7C05D3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23"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0" name=""/>
          <p:cNvGrpSpPr/>
          <p:nvPr/>
        </p:nvGrpSpPr>
        <p:grpSpPr>
          <a:xfrm>
            <a:off x="1658520" y="1600200"/>
            <a:ext cx="6837480" cy="3200400"/>
            <a:chOff x="1658520" y="1600200"/>
            <a:chExt cx="6837480" cy="3200400"/>
          </a:xfrm>
        </p:grpSpPr>
        <p:sp>
          <p:nvSpPr>
            <p:cNvPr id="561"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2"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3"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4"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5"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6"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67" name="PlaceHolder 1"/>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68"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9" name="PlaceHolder 3"/>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F93AE-85A2-40B9-A1F7-7B5E139E2E2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0"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07" name=""/>
          <p:cNvGrpSpPr/>
          <p:nvPr/>
        </p:nvGrpSpPr>
        <p:grpSpPr>
          <a:xfrm>
            <a:off x="0" y="0"/>
            <a:ext cx="9144000" cy="6858000"/>
            <a:chOff x="0" y="0"/>
            <a:chExt cx="9144000" cy="6858000"/>
          </a:xfrm>
        </p:grpSpPr>
        <p:sp>
          <p:nvSpPr>
            <p:cNvPr id="608"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10"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11" name=""/>
          <p:cNvGrpSpPr/>
          <p:nvPr/>
        </p:nvGrpSpPr>
        <p:grpSpPr>
          <a:xfrm>
            <a:off x="0" y="6019920"/>
            <a:ext cx="7848720" cy="857160"/>
            <a:chOff x="0" y="6019920"/>
            <a:chExt cx="7848720" cy="857160"/>
          </a:xfrm>
        </p:grpSpPr>
        <p:sp>
          <p:nvSpPr>
            <p:cNvPr id="612"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13" name=""/>
            <p:cNvGrpSpPr/>
            <p:nvPr/>
          </p:nvGrpSpPr>
          <p:grpSpPr>
            <a:xfrm>
              <a:off x="3946680" y="6019920"/>
              <a:ext cx="3902040" cy="857160"/>
              <a:chOff x="3946680" y="6019920"/>
              <a:chExt cx="3902040" cy="857160"/>
            </a:xfrm>
          </p:grpSpPr>
          <p:sp>
            <p:nvSpPr>
              <p:cNvPr id="614"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7"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8"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19"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20" name=""/>
          <p:cNvGrpSpPr/>
          <p:nvPr/>
        </p:nvGrpSpPr>
        <p:grpSpPr>
          <a:xfrm>
            <a:off x="627120" y="6021360"/>
            <a:ext cx="5684760" cy="849240"/>
            <a:chOff x="627120" y="6021360"/>
            <a:chExt cx="5684760" cy="849240"/>
          </a:xfrm>
        </p:grpSpPr>
        <p:sp>
          <p:nvSpPr>
            <p:cNvPr id="621"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2"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4"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5"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6"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62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29"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30"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31"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250AB-25C6-400F-A7D4-652408DC040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68" name=""/>
          <p:cNvGrpSpPr/>
          <p:nvPr/>
        </p:nvGrpSpPr>
        <p:grpSpPr>
          <a:xfrm>
            <a:off x="-6480" y="20520"/>
            <a:ext cx="9144000" cy="6858000"/>
            <a:chOff x="-6480" y="20520"/>
            <a:chExt cx="9144000" cy="6858000"/>
          </a:xfrm>
        </p:grpSpPr>
        <p:sp>
          <p:nvSpPr>
            <p:cNvPr id="669"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71"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2" name=""/>
          <p:cNvGrpSpPr/>
          <p:nvPr/>
        </p:nvGrpSpPr>
        <p:grpSpPr>
          <a:xfrm>
            <a:off x="-1440" y="6033960"/>
            <a:ext cx="7844400" cy="850680"/>
            <a:chOff x="-1440" y="6033960"/>
            <a:chExt cx="7844400" cy="850680"/>
          </a:xfrm>
        </p:grpSpPr>
        <p:sp>
          <p:nvSpPr>
            <p:cNvPr id="673"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4" name=""/>
            <p:cNvGrpSpPr/>
            <p:nvPr/>
          </p:nvGrpSpPr>
          <p:grpSpPr>
            <a:xfrm>
              <a:off x="3944880" y="6033960"/>
              <a:ext cx="3898080" cy="850680"/>
              <a:chOff x="3944880" y="6033960"/>
              <a:chExt cx="3898080" cy="850680"/>
            </a:xfrm>
          </p:grpSpPr>
          <p:sp>
            <p:nvSpPr>
              <p:cNvPr id="675"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80"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81" name=""/>
          <p:cNvGrpSpPr/>
          <p:nvPr/>
        </p:nvGrpSpPr>
        <p:grpSpPr>
          <a:xfrm>
            <a:off x="627120" y="6021360"/>
            <a:ext cx="5684760" cy="849240"/>
            <a:chOff x="627120" y="6021360"/>
            <a:chExt cx="5684760" cy="849240"/>
          </a:xfrm>
        </p:grpSpPr>
        <p:sp>
          <p:nvSpPr>
            <p:cNvPr id="682"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6"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88"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689" name="PlaceHolder 2"/>
          <p:cNvSpPr>
            <a:spLocks noGrp="1"/>
          </p:cNvSpPr>
          <p:nvPr>
            <p:ph type="dt" idx="16"/>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90" name="PlaceHolder 3"/>
          <p:cNvSpPr>
            <a:spLocks noGrp="1"/>
          </p:cNvSpPr>
          <p:nvPr>
            <p:ph type="sldNum" idx="17"/>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10D9C-AFA9-4400-AEFD-D6E61AFCF7F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91" name="PlaceHolder 4"/>
          <p:cNvSpPr>
            <a:spLocks noGrp="1"/>
          </p:cNvSpPr>
          <p:nvPr>
            <p:ph type="ftr" idx="18"/>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728" name=""/>
          <p:cNvGrpSpPr/>
          <p:nvPr/>
        </p:nvGrpSpPr>
        <p:grpSpPr>
          <a:xfrm>
            <a:off x="0" y="0"/>
            <a:ext cx="9144000" cy="6934320"/>
            <a:chOff x="0" y="0"/>
            <a:chExt cx="9144000" cy="6934320"/>
          </a:xfrm>
        </p:grpSpPr>
        <p:sp>
          <p:nvSpPr>
            <p:cNvPr id="729"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0"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1"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2"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3"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4"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5"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6"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7"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8"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39"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40"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1"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2"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3"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4"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5"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6"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74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749" name="PlaceHolder 3"/>
          <p:cNvSpPr>
            <a:spLocks noGrp="1"/>
          </p:cNvSpPr>
          <p:nvPr>
            <p:ph type="dt" idx="19"/>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50"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51" name="PlaceHolder 5"/>
          <p:cNvSpPr>
            <a:spLocks noGrp="1"/>
          </p:cNvSpPr>
          <p:nvPr>
            <p:ph type="sldNum" idx="21"/>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FA353-B118-4FFB-AD16-7CE13B3EB0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788" name=""/>
          <p:cNvGrpSpPr/>
          <p:nvPr/>
        </p:nvGrpSpPr>
        <p:grpSpPr>
          <a:xfrm>
            <a:off x="0" y="0"/>
            <a:ext cx="9144000" cy="6934320"/>
            <a:chOff x="0" y="0"/>
            <a:chExt cx="9144000" cy="6934320"/>
          </a:xfrm>
        </p:grpSpPr>
        <p:sp>
          <p:nvSpPr>
            <p:cNvPr id="789"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0"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1"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2"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3"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4"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5"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6"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7"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8"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99"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00"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1"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2"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3"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4"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5"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6"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07"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8" name="PlaceHolder 2"/>
          <p:cNvSpPr>
            <a:spLocks noGrp="1"/>
          </p:cNvSpPr>
          <p:nvPr>
            <p:ph type="dt" idx="22"/>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09"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10" name="PlaceHolder 4"/>
          <p:cNvSpPr>
            <a:spLocks noGrp="1"/>
          </p:cNvSpPr>
          <p:nvPr>
            <p:ph type="sldNum" idx="24"/>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1951C-8A35-4F40-BB82-A524E82A8C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847" name=""/>
          <p:cNvGrpSpPr/>
          <p:nvPr/>
        </p:nvGrpSpPr>
        <p:grpSpPr>
          <a:xfrm>
            <a:off x="1440" y="0"/>
            <a:ext cx="9149040" cy="6851520"/>
            <a:chOff x="1440" y="0"/>
            <a:chExt cx="9149040" cy="6851520"/>
          </a:xfrm>
        </p:grpSpPr>
        <p:sp>
          <p:nvSpPr>
            <p:cNvPr id="848"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9"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0"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51" name=""/>
            <p:cNvGrpSpPr/>
            <p:nvPr/>
          </p:nvGrpSpPr>
          <p:grpSpPr>
            <a:xfrm>
              <a:off x="457200" y="0"/>
              <a:ext cx="8093160" cy="6851520"/>
              <a:chOff x="457200" y="0"/>
              <a:chExt cx="8093160" cy="6851520"/>
            </a:xfrm>
          </p:grpSpPr>
          <p:sp>
            <p:nvSpPr>
              <p:cNvPr id="852"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4"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5"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6"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7"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8"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9"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0"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1"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2"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3"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4"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65"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6"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7"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8"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9"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0"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1"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2"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3"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4"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5"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76" name=""/>
            <p:cNvGrpSpPr/>
            <p:nvPr/>
          </p:nvGrpSpPr>
          <p:grpSpPr>
            <a:xfrm>
              <a:off x="1440" y="622440"/>
              <a:ext cx="9141120" cy="2493720"/>
              <a:chOff x="1440" y="622440"/>
              <a:chExt cx="9141120" cy="2493720"/>
            </a:xfrm>
          </p:grpSpPr>
          <p:sp>
            <p:nvSpPr>
              <p:cNvPr id="877"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8"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9"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0"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1"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82"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3"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885" name="PlaceHolder 2"/>
          <p:cNvSpPr>
            <a:spLocks noGrp="1"/>
          </p:cNvSpPr>
          <p:nvPr>
            <p:ph type="dt" idx="25"/>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886" name="PlaceHolder 3"/>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887" name="PlaceHolder 4"/>
          <p:cNvSpPr>
            <a:spLocks noGrp="1"/>
          </p:cNvSpPr>
          <p:nvPr>
            <p:ph type="sldNum" idx="27"/>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58235-2453-4CA7-9A11-A5328BD0C96B}"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888"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30.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7.jpeg"/><Relationship Id="rId3" Type="http://schemas.openxmlformats.org/officeDocument/2006/relationships/slideLayout" Target="../slideLayouts/slideLayout196.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2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image" Target="../media/image8.png"/><Relationship Id="rId7"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7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97.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jpeg"/><Relationship Id="rId3" Type="http://schemas.openxmlformats.org/officeDocument/2006/relationships/slideLayout" Target="../slideLayouts/slideLayout178.xml"/>
</Relationships>
</file>

<file path=ppt/slides/_rels/slide9.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4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795" name="PlaceHolder 1"/>
          <p:cNvSpPr>
            <a:spLocks noGrp="1"/>
          </p:cNvSpPr>
          <p:nvPr>
            <p:ph type="title"/>
          </p:nvPr>
        </p:nvSpPr>
        <p:spPr>
          <a:xfrm>
            <a:off x="755640" y="62064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79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7" name=""/>
          <p:cNvSpPr txBox="1"/>
          <p:nvPr/>
        </p:nvSpPr>
        <p:spPr>
          <a:xfrm>
            <a:off x="1547640" y="765000"/>
            <a:ext cx="5832720" cy="13780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Self Information Portrait</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1798" name="" descr=""/>
          <p:cNvPicPr/>
          <p:nvPr/>
        </p:nvPicPr>
        <p:blipFill>
          <a:blip r:embed="rId1"/>
          <a:stretch/>
        </p:blipFill>
        <p:spPr>
          <a:xfrm>
            <a:off x="2411280" y="2852640"/>
            <a:ext cx="3816360" cy="2862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32" name="PlaceHolder 2"/>
          <p:cNvSpPr>
            <a:spLocks noGrp="1"/>
          </p:cNvSpPr>
          <p:nvPr>
            <p:ph/>
          </p:nvPr>
        </p:nvSpPr>
        <p:spPr>
          <a:xfrm>
            <a:off x="457200" y="1981080"/>
            <a:ext cx="4037040" cy="4114800"/>
          </a:xfrm>
          <a:prstGeom prst="rect">
            <a:avLst/>
          </a:prstGeom>
          <a:noFill/>
          <a:ln w="0">
            <a:noFill/>
          </a:ln>
        </p:spPr>
        <p:txBody>
          <a:bodyPr lIns="90000" rIns="90000" tIns="46800" bIns="46800" anchor="t">
            <a:normAutofit/>
          </a:bodyPr>
          <a:p>
            <a:pPr marL="343080" indent="-343080">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earning styles: Learning style is an individual's unique approach to learning based on strengths, weaknesses, and preferences. </a:t>
            </a: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 career based on my learning style would be something active and I can do with my body. My number one choice would probably be a carpenter. I enjoy woodwork and find it amusing. Another career would be a surgeon. I would choose that because I like using my hands and I am interested in become a doctor.</a:t>
            </a:r>
            <a:endParaRPr b="0" lang="en-US" sz="1600" spc="-1" strike="noStrike">
              <a:solidFill>
                <a:srgbClr val="ffffff"/>
              </a:solidFill>
              <a:latin typeface="Tahoma"/>
            </a:endParaRPr>
          </a:p>
        </p:txBody>
      </p:sp>
      <p:sp>
        <p:nvSpPr>
          <p:cNvPr id="1833" name="PlaceHolder 3"/>
          <p:cNvSpPr>
            <a:spLocks noGrp="1"/>
          </p:cNvSpPr>
          <p:nvPr>
            <p:ph/>
          </p:nvPr>
        </p:nvSpPr>
        <p:spPr>
          <a:xfrm>
            <a:off x="4649760" y="1981080"/>
            <a:ext cx="4037040" cy="4114800"/>
          </a:xfrm>
          <a:prstGeom prst="rect">
            <a:avLst/>
          </a:prstGeom>
          <a:noFill/>
          <a:ln w="0">
            <a:noFill/>
          </a:ln>
        </p:spPr>
        <p:txBody>
          <a:bodyPr lIns="90000" rIns="90000" tIns="46800" bIns="46800" anchor="t">
            <a:normAutofit/>
          </a:bodyPr>
          <a:p>
            <a:pPr marL="343080" indent="-343080">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y learning style is mostly like a kinaesthetic learner. I learn best by doing things. I think I also have a learning style where a learn best by reading. I can understand things better when I read it over one or three times. I am good with my hands so I can learn things using my body easily.</a:t>
            </a:r>
            <a:endParaRPr b="0" lang="en-US" sz="1600" spc="-1" strike="noStrike">
              <a:solidFill>
                <a:srgbClr val="ffffff"/>
              </a:solidFill>
              <a:latin typeface="Tahoma"/>
            </a:endParaRPr>
          </a:p>
        </p:txBody>
      </p:sp>
      <p:sp>
        <p:nvSpPr>
          <p:cNvPr id="1834" name=""/>
          <p:cNvSpPr txBox="1"/>
          <p:nvPr/>
        </p:nvSpPr>
        <p:spPr>
          <a:xfrm>
            <a:off x="2195640" y="620640"/>
            <a:ext cx="4809960" cy="136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LEARNING STYLE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pic>
        <p:nvPicPr>
          <p:cNvPr id="1835" name="" descr="http://www.mccullagh.org/db9/1ds-15/kink-com-carpentry-shop.jpg"/>
          <p:cNvPicPr/>
          <p:nvPr/>
        </p:nvPicPr>
        <p:blipFill>
          <a:blip r:embed="rId2"/>
          <a:stretch/>
        </p:blipFill>
        <p:spPr>
          <a:xfrm>
            <a:off x="5003640" y="4221000"/>
            <a:ext cx="3313440" cy="2208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TABLE OF CONTENTS</a:t>
            </a:r>
            <a:endParaRPr b="0" lang="en-US" sz="3800" spc="-1" strike="noStrike">
              <a:solidFill>
                <a:srgbClr val="000000"/>
              </a:solidFill>
              <a:latin typeface="Verdana"/>
            </a:endParaRPr>
          </a:p>
        </p:txBody>
      </p:sp>
      <p:sp>
        <p:nvSpPr>
          <p:cNvPr id="180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GE 1--------------- TITLE PAGE</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GE 2--------------- SKILLS</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GE 3--------------- APTITUDES</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GE 4--------------- VALUES</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GE 5--------------- ATTITUDES</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GE 6--------------- EXPERIENCES</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GE 7--------------- INTELLIGENCES</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GE 8--------------- PERSONALITY</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GE 9--------------- LEARNING STYLES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802" name="PlaceHolder 2"/>
          <p:cNvSpPr>
            <a:spLocks noGrp="1"/>
          </p:cNvSpPr>
          <p:nvPr>
            <p:ph/>
          </p:nvPr>
        </p:nvSpPr>
        <p:spPr>
          <a:xfrm>
            <a:off x="457200" y="1600200"/>
            <a:ext cx="4038480" cy="4533840"/>
          </a:xfrm>
          <a:prstGeom prst="rect">
            <a:avLst/>
          </a:prstGeom>
          <a:noFill/>
          <a:ln w="0">
            <a:noFill/>
          </a:ln>
        </p:spPr>
        <p:txBody>
          <a:bodyPr lIns="90000" rIns="90000" tIns="46800" bIns="46800" anchor="t">
            <a:normAutofit/>
          </a:bodyPr>
          <a:p>
            <a:pPr marL="343080" indent="-343080">
              <a:lnSpc>
                <a:spcPct val="90000"/>
              </a:lnSpc>
              <a:spcBef>
                <a:spcPts val="400"/>
              </a:spcBef>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Arial"/>
              </a:rPr>
              <a:t>Skills: Proficiency, facility, or dexterity that is acquired or developed through training or experience. </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SzPct val="20592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Arial"/>
              </a:rPr>
              <a:t>I would like to say that I have some good skills. I am very active and I like sports. I am a good swimmer. Getting along with people is very easy for me. I am also a very good listener. I am also a very patient person. Also I am a numerical kind of person. I am good with numbers.</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SzPct val="20592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Arial"/>
              </a:rPr>
              <a:t>There are a lot of careers out there. The career I want to aim to get is to be a doctor. A general doctor to be exact. This would suit me because I am a patient person woth numerical skills.</a:t>
            </a:r>
            <a:endParaRPr b="0" lang="en-US" sz="1600" spc="-1" strike="noStrike">
              <a:solidFill>
                <a:srgbClr val="ffffff"/>
              </a:solidFill>
              <a:latin typeface="Arial"/>
            </a:endParaRPr>
          </a:p>
        </p:txBody>
      </p:sp>
      <p:sp>
        <p:nvSpPr>
          <p:cNvPr id="1803" name="PlaceHolder 3"/>
          <p:cNvSpPr>
            <a:spLocks noGrp="1"/>
          </p:cNvSpPr>
          <p:nvPr>
            <p:ph/>
          </p:nvPr>
        </p:nvSpPr>
        <p:spPr>
          <a:xfrm>
            <a:off x="4648320" y="1600200"/>
            <a:ext cx="403848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04" name=""/>
          <p:cNvSpPr txBox="1"/>
          <p:nvPr/>
        </p:nvSpPr>
        <p:spPr>
          <a:xfrm>
            <a:off x="3132000" y="115920"/>
            <a:ext cx="2919600" cy="136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4"/>
                  <a:srcRect/>
                  <a:tile tx="0" ty="0" sx="100000" sy="100000" algn="ctr"/>
                </a:blipFill>
                <a:latin typeface="Arial Black"/>
              </a:rPr>
              <a:t>SKILLS</a:t>
            </a:r>
            <a:endParaRPr b="0" lang="en-US" sz="1800" spc="1" strike="noStrike">
              <a:ln w="9360">
                <a:solidFill>
                  <a:srgbClr val="000000"/>
                </a:solidFill>
                <a:miter/>
              </a:ln>
              <a:blipFill rotWithShape="0">
                <a:blip r:embed="rId5"/>
                <a:srcRect/>
                <a:tile tx="0" ty="0" sx="100000" sy="100000" algn="ctr"/>
              </a:blipFill>
              <a:latin typeface="Arial Black"/>
              <a:ea typeface="Arial Black"/>
            </a:endParaRPr>
          </a:p>
        </p:txBody>
      </p:sp>
      <p:pic>
        <p:nvPicPr>
          <p:cNvPr id="1805" name="" descr="http://pdp.bournemouth.ac.uk/images/transferable_skills.gif"/>
          <p:cNvPicPr/>
          <p:nvPr/>
        </p:nvPicPr>
        <p:blipFill>
          <a:blip r:embed="rId6"/>
          <a:stretch/>
        </p:blipFill>
        <p:spPr>
          <a:xfrm>
            <a:off x="5003640" y="2349360"/>
            <a:ext cx="3456000" cy="3048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807"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lnSpc>
                <a:spcPct val="9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titude: your inherent capacity, talent or ability to do something. Having a high aptitude for something means you are good at doing that something.</a:t>
            </a:r>
            <a:endParaRPr b="0" lang="en-US" sz="16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believe that my aptitudes varied. I think I am good at making decisions naturally. I believe that I have an aptitude for swimming. When I first went into a pool swimming came naturally to me.</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believe a good career based on my aptitude would be to be a swimmer. Maybe to be a pro swimmer one day. I would also really like to be able to go to the Olympics or some other kind of world event.</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08" name=""/>
          <p:cNvSpPr txBox="1"/>
          <p:nvPr/>
        </p:nvSpPr>
        <p:spPr>
          <a:xfrm rot="19983600">
            <a:off x="2124000" y="0"/>
            <a:ext cx="4896000" cy="1552680"/>
          </a:xfrm>
          <a:prstGeom prst="rect">
            <a:avLst/>
          </a:prstGeom>
        </p:spPr>
        <p:txBody>
          <a:bodyPr wrap="none" lIns="90000" rIns="90000" tIns="46800" bIns="46800" anchor="t" anchorCtr="1">
            <a:prstTxWarp prst="textDeflateBottom">
              <a:avLst>
                <a:gd name="adj" fmla="val 7812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APTITUDES</a:t>
            </a:r>
            <a:endPar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pic>
        <p:nvPicPr>
          <p:cNvPr id="1809" name="" descr=""/>
          <p:cNvPicPr/>
          <p:nvPr/>
        </p:nvPicPr>
        <p:blipFill>
          <a:blip r:embed="rId1"/>
          <a:stretch/>
        </p:blipFill>
        <p:spPr>
          <a:xfrm>
            <a:off x="689040" y="1600200"/>
            <a:ext cx="3575160" cy="4530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8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Values: relative worth, merit, or importance, something that is important to you.</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I value a lot of things. The number one thing I value is my family. If my family weren't wasn’t with me all these years I wouldn’t be the person I am today. I also treasure all the friends I have. I will always value every single one that have come and gone. The person I value the most in the world is my mother. She tries so hard to protect and raise us. When I am an adult I would like for her to take a break and I would support her.</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A career based on my values would probably be some kind of social caregiver. A social worker would be a good start, but im not that intrested in it.</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                                                                          </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                                                                          </a:t>
            </a:r>
            <a:r>
              <a:rPr b="0" lang="en-CA" sz="1800" spc="-1" strike="noStrike">
                <a:solidFill>
                  <a:srgbClr val="ffffff"/>
                </a:solidFill>
                <a:latin typeface="Arial"/>
              </a:rPr>
              <a:t>represents family.    </a:t>
            </a:r>
            <a:endParaRPr b="0" lang="en-US" sz="1800" spc="-1" strike="noStrike">
              <a:solidFill>
                <a:srgbClr val="ffffff"/>
              </a:solidFill>
              <a:latin typeface="Arial"/>
            </a:endParaRPr>
          </a:p>
        </p:txBody>
      </p:sp>
      <p:sp>
        <p:nvSpPr>
          <p:cNvPr id="1812" name=""/>
          <p:cNvSpPr txBox="1"/>
          <p:nvPr/>
        </p:nvSpPr>
        <p:spPr>
          <a:xfrm>
            <a:off x="2484360" y="333360"/>
            <a:ext cx="404028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VALUE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1813" name="" descr="http://z.about.com/d/animatedtv/1/7/c/K/FamilyGuyParty.jpg"/>
          <p:cNvPicPr/>
          <p:nvPr/>
        </p:nvPicPr>
        <p:blipFill>
          <a:blip r:embed="rId1"/>
          <a:stretch/>
        </p:blipFill>
        <p:spPr>
          <a:xfrm>
            <a:off x="1258920" y="4575240"/>
            <a:ext cx="4105080" cy="2282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815"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titude: manner, disposition, feeling, position, etc., with regard to a person or thing </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 good career based on my attitudes would maybe be some kind of instructor. A teacher is the first thing that would suit me based on my attitude because I like to help others and am a positive person.</a:t>
            </a:r>
            <a:endParaRPr b="0" lang="en-US" sz="1800" spc="-1" strike="noStrike">
              <a:solidFill>
                <a:srgbClr val="ffffff"/>
              </a:solidFill>
              <a:latin typeface="Times New Roman"/>
            </a:endParaRPr>
          </a:p>
        </p:txBody>
      </p:sp>
      <p:sp>
        <p:nvSpPr>
          <p:cNvPr id="1816"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imes New Roman"/>
              </a:rPr>
              <a:t>I would say that I have a positive attitude. I am cheerful of things and for people. I like to look on the bright side of things. Also I am a friendly person, and I make friends easily. I also think og my self as a helpful person. If someone doenst understand something I try to help them understand. Plus if they ask my about something I would try my best to help.</a:t>
            </a:r>
            <a:endParaRPr b="0" lang="en-US" sz="1800" spc="-1" strike="noStrike">
              <a:solidFill>
                <a:srgbClr val="ffffff"/>
              </a:solidFill>
              <a:latin typeface="Times New Roman"/>
            </a:endParaRPr>
          </a:p>
        </p:txBody>
      </p:sp>
      <p:sp>
        <p:nvSpPr>
          <p:cNvPr id="1817" name=""/>
          <p:cNvSpPr txBox="1"/>
          <p:nvPr/>
        </p:nvSpPr>
        <p:spPr>
          <a:xfrm>
            <a:off x="2411280" y="476280"/>
            <a:ext cx="3888000" cy="107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ATTITUDE</a:t>
            </a:r>
            <a:endPar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pic>
        <p:nvPicPr>
          <p:cNvPr id="1818" name="" descr="http://lifeinthenhs.files.wordpress.com/2009/03/teacher1.jpg"/>
          <p:cNvPicPr/>
          <p:nvPr/>
        </p:nvPicPr>
        <p:blipFill>
          <a:blip r:embed="rId3"/>
          <a:stretch/>
        </p:blipFill>
        <p:spPr>
          <a:xfrm>
            <a:off x="2700360" y="4603680"/>
            <a:ext cx="2303280" cy="2254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20" name="PlaceHolder 2"/>
          <p:cNvSpPr>
            <a:spLocks noGrp="1"/>
          </p:cNvSpPr>
          <p:nvPr>
            <p:ph/>
          </p:nvPr>
        </p:nvSpPr>
        <p:spPr>
          <a:xfrm>
            <a:off x="457200" y="1600200"/>
            <a:ext cx="8229600" cy="3124080"/>
          </a:xfrm>
          <a:prstGeom prst="rect">
            <a:avLst/>
          </a:prstGeom>
          <a:noFill/>
          <a:ln w="0">
            <a:noFill/>
          </a:ln>
        </p:spPr>
        <p:txBody>
          <a:bodyPr lIns="90000" rIns="90000" tIns="46800" bIns="46800" anchor="t">
            <a:normAutofit/>
          </a:bodyPr>
          <a:p>
            <a:pPr marL="343080" indent="-343080">
              <a:lnSpc>
                <a:spcPct val="9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Verdana"/>
              </a:rPr>
              <a:t>Experience: a particular instance of personally encountering or undergoing something </a:t>
            </a:r>
            <a:endParaRPr b="0" lang="en-US" sz="1400" spc="-1" strike="noStrike">
              <a:solidFill>
                <a:srgbClr val="ffffff"/>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lnSpc>
                <a:spcPct val="9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Verdana"/>
              </a:rPr>
              <a:t>I have had many experiences in my life. Some were harsh and unfair and some were good. One thing that I remember was 3 years ago. It was when I first stepped into high school. Everything felt new and overwhelming. It kind of felt lonely because every single one of my friends that I knew went to a different high school. It was frightening at first but I started to make friends pretty quickly. That experience taught me that no matter how bad things seem it would get better over time.</a:t>
            </a:r>
            <a:endParaRPr b="0" lang="en-US" sz="1400" spc="-1" strike="noStrike">
              <a:solidFill>
                <a:srgbClr val="ffffff"/>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lnSpc>
                <a:spcPct val="9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Verdana"/>
              </a:rPr>
              <a:t>A good job out of my experiences probably would be some sort of counslor. I think so bacause ive been through a lot of things in my life and I would understand some of the feelings people have. Especially a high Scholl student.</a:t>
            </a:r>
            <a:endParaRPr b="0" lang="en-US" sz="1400" spc="-1" strike="noStrike">
              <a:solidFill>
                <a:srgbClr val="ffffff"/>
              </a:solidFill>
              <a:latin typeface="Verdana"/>
            </a:endParaRPr>
          </a:p>
        </p:txBody>
      </p:sp>
      <p:sp>
        <p:nvSpPr>
          <p:cNvPr id="1821" name=""/>
          <p:cNvSpPr txBox="1"/>
          <p:nvPr/>
        </p:nvSpPr>
        <p:spPr>
          <a:xfrm>
            <a:off x="1763640" y="260280"/>
            <a:ext cx="5400720" cy="1244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ff"/>
                    </a:gs>
                    <a:gs pos="100000">
                      <a:srgbClr val="ffffff"/>
                    </a:gs>
                  </a:gsLst>
                  <a:lin ang="5400000"/>
                </a:gradFill>
                <a:latin typeface="Times New Roman"/>
              </a:rPr>
              <a:t>EXPERIENCES</a:t>
            </a:r>
            <a:endParaRPr b="0" lang="en-US" sz="18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pic>
        <p:nvPicPr>
          <p:cNvPr id="1822" name="" descr="http://www.clipartheaven.com/clipart/education_&amp;_schools/cartoons/counselor%27s_office_1.gif"/>
          <p:cNvPicPr/>
          <p:nvPr/>
        </p:nvPicPr>
        <p:blipFill>
          <a:blip r:embed="rId1"/>
          <a:stretch/>
        </p:blipFill>
        <p:spPr>
          <a:xfrm>
            <a:off x="2627280" y="4292640"/>
            <a:ext cx="4105440" cy="2565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24" name="PlaceHolder 2"/>
          <p:cNvSpPr>
            <a:spLocks noGrp="1"/>
          </p:cNvSpPr>
          <p:nvPr>
            <p:ph/>
          </p:nvPr>
        </p:nvSpPr>
        <p:spPr>
          <a:xfrm>
            <a:off x="685800" y="2833200"/>
            <a:ext cx="7696080" cy="2652840"/>
          </a:xfrm>
          <a:prstGeom prst="rect">
            <a:avLst/>
          </a:prstGeom>
          <a:noFill/>
          <a:ln w="0">
            <a:noFill/>
          </a:ln>
        </p:spPr>
        <p:txBody>
          <a:bodyPr lIns="90000" rIns="90000" tIns="46800" bIns="46800" anchor="t">
            <a:normAutofit/>
          </a:bodyPr>
          <a:p>
            <a:pPr marL="343080" indent="-343080">
              <a:lnSpc>
                <a:spcPct val="80000"/>
              </a:lnSpc>
              <a:spcBef>
                <a:spcPts val="32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mic Sans MS"/>
              </a:rPr>
              <a:t>Intelligence: capacity for learning, reasoning, understanding, and similar forms of mental activity; aptitude in grasping truths, relationships, facts, meanings, etc. </a:t>
            </a:r>
            <a:endParaRPr b="0" lang="en-US" sz="1300" spc="-1" strike="noStrike">
              <a:solidFill>
                <a:srgbClr val="000000"/>
              </a:solidFill>
              <a:latin typeface="Comic Sans MS"/>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omic Sans MS"/>
            </a:endParaRPr>
          </a:p>
          <a:p>
            <a:pPr marL="343080" indent="-343080">
              <a:lnSpc>
                <a:spcPct val="80000"/>
              </a:lnSpc>
              <a:spcBef>
                <a:spcPts val="32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mic Sans MS"/>
              </a:rPr>
              <a:t>My intelligence is more of a mathematical than artistic. I prefer to do science and math over art. I enjoy doing math problems sometimes. I am also very interested in biology. I like learning about the human body and other sorts of things related to that. I also like space and I have a little bit of intelligence in the area of astronomy.</a:t>
            </a:r>
            <a:endParaRPr b="0" lang="en-US" sz="1300" spc="-1" strike="noStrike">
              <a:solidFill>
                <a:srgbClr val="000000"/>
              </a:solidFill>
              <a:latin typeface="Comic Sans MS"/>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omic Sans MS"/>
            </a:endParaRPr>
          </a:p>
          <a:p>
            <a:pPr marL="343080" indent="-343080">
              <a:lnSpc>
                <a:spcPct val="80000"/>
              </a:lnSpc>
              <a:spcBef>
                <a:spcPts val="32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mic Sans MS"/>
              </a:rPr>
              <a:t>A good careers suited for my intelligence is most likely a doctor. I would really like to be a doctor it is my dream job. Another job that sounds interesting and would suit me would be an astronomer. It sounds amazing enough just hearing about the things in space but would be great to also discover them.</a:t>
            </a:r>
            <a:endParaRPr b="0" lang="en-US" sz="1300" spc="-1" strike="noStrike">
              <a:solidFill>
                <a:srgbClr val="000000"/>
              </a:solidFill>
              <a:latin typeface="Comic Sans MS"/>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omic Sans MS"/>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omic Sans MS"/>
            </a:endParaRPr>
          </a:p>
        </p:txBody>
      </p:sp>
      <p:sp>
        <p:nvSpPr>
          <p:cNvPr id="1825" name=""/>
          <p:cNvSpPr txBox="1"/>
          <p:nvPr/>
        </p:nvSpPr>
        <p:spPr>
          <a:xfrm>
            <a:off x="2124000" y="0"/>
            <a:ext cx="4853160" cy="129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dcebf5"/>
                    </a:gs>
                    <a:gs pos="100000">
                      <a:srgbClr val="55261c"/>
                    </a:gs>
                  </a:gsLst>
                  <a:lin ang="5400000"/>
                </a:gradFill>
                <a:latin typeface="Arial Black"/>
              </a:rPr>
              <a:t>INTELLIGENCES</a:t>
            </a:r>
            <a:endParaRPr b="0" lang="en-US" sz="18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pic>
        <p:nvPicPr>
          <p:cNvPr id="1826" name="" descr=""/>
          <p:cNvPicPr/>
          <p:nvPr/>
        </p:nvPicPr>
        <p:blipFill>
          <a:blip r:embed="rId1"/>
          <a:stretch/>
        </p:blipFill>
        <p:spPr>
          <a:xfrm>
            <a:off x="0" y="981000"/>
            <a:ext cx="1898640" cy="1844640"/>
          </a:xfrm>
          <a:prstGeom prst="rect">
            <a:avLst/>
          </a:prstGeom>
          <a:ln w="0">
            <a:noFill/>
          </a:ln>
        </p:spPr>
      </p:pic>
      <p:pic>
        <p:nvPicPr>
          <p:cNvPr id="1827" name="" descr="http://www.computerfreewallpapers.com/images/wallpapers/Misconstrue-Space-Art-681299.jpeg"/>
          <p:cNvPicPr/>
          <p:nvPr/>
        </p:nvPicPr>
        <p:blipFill>
          <a:blip r:embed="rId2"/>
          <a:stretch/>
        </p:blipFill>
        <p:spPr>
          <a:xfrm>
            <a:off x="6084720" y="4941720"/>
            <a:ext cx="2195640" cy="1581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8"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Personality: the visible aspect of one's character as it impresses others</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I have a enthusiastic personality. I am very cheerful and look forward to a lot of things. I believe that I am kind, caring, thoughtful and eager to please. I also am a patient person. If I have to wait for something  I can wait.</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 good job that suits my personality would be a a positive environment where I could be eager to learn. Maybe a some sort of couch would do, or something along that line. Such  as a P.E teacher</a:t>
            </a:r>
            <a:endParaRPr b="0" lang="en-US" sz="1600" spc="-1" strike="noStrike">
              <a:solidFill>
                <a:srgbClr val="003366"/>
              </a:solidFill>
              <a:latin typeface="Arial"/>
            </a:endParaRPr>
          </a:p>
        </p:txBody>
      </p:sp>
      <p:sp>
        <p:nvSpPr>
          <p:cNvPr id="1829" name=""/>
          <p:cNvSpPr txBox="1"/>
          <p:nvPr/>
        </p:nvSpPr>
        <p:spPr>
          <a:xfrm>
            <a:off x="1763640" y="333360"/>
            <a:ext cx="4537080" cy="1224000"/>
          </a:xfrm>
          <a:prstGeom prst="rect">
            <a:avLst/>
          </a:prstGeom>
        </p:spPr>
        <p:txBody>
          <a:bodyPr wrap="none" lIns="90000" rIns="90000" tIns="46800" bIns="46800" anchor="t" anchorCtr="1">
            <a:prstTxWarp prst="textFadeUp">
              <a:avLst>
                <a:gd name="adj" fmla="val 804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PERSONALITY</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pic>
        <p:nvPicPr>
          <p:cNvPr id="1830" name="" descr=""/>
          <p:cNvPicPr/>
          <p:nvPr/>
        </p:nvPicPr>
        <p:blipFill>
          <a:blip r:embed="rId1"/>
          <a:stretch/>
        </p:blipFill>
        <p:spPr>
          <a:xfrm>
            <a:off x="5580000" y="3213000"/>
            <a:ext cx="2376720" cy="1927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2T02:31:22Z</dcterms:created>
  <dc:creator>Hasan</dc:creator>
  <dc:description/>
  <dc:language>en-US</dc:language>
  <cp:lastModifiedBy>john.deguzman</cp:lastModifiedBy>
  <dcterms:modified xsi:type="dcterms:W3CDTF">2010-02-25T22:08:12Z</dcterms:modified>
  <cp:revision>3</cp:revision>
  <dc:subject/>
  <dc:title>Slide 1</dc:title>
</cp:coreProperties>
</file>