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7.jpeg" ContentType="image/jpeg"/>
  <Override PartName="/ppt/media/image11.jpeg" ContentType="image/jpeg"/>
  <Override PartName="/ppt/media/image16.gif" ContentType="image/gif"/>
  <Override PartName="/ppt/media/image2.png" ContentType="image/png"/>
  <Override PartName="/ppt/media/image15.jpeg" ContentType="image/jpeg"/>
  <Override PartName="/ppt/media/image14.wmf" ContentType="image/x-wmf"/>
  <Override PartName="/ppt/media/image5.jpeg" ContentType="image/jpeg"/>
  <Override PartName="/ppt/media/image9.wmf" ContentType="image/x-wmf"/>
  <Override PartName="/ppt/media/image10.jpeg" ContentType="image/jpeg"/>
  <Override PartName="/ppt/media/image1.png" ContentType="image/png"/>
  <Override PartName="/ppt/media/image17.jpeg" ContentType="image/jpeg"/>
  <Override PartName="/ppt/media/image3.png" ContentType="image/png"/>
  <Override PartName="/ppt/media/image4.png" ContentType="image/png"/>
  <Override PartName="/ppt/media/image6.jpeg" ContentType="image/jpeg"/>
  <Override PartName="/ppt/media/image8.png" ContentType="image/pn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sldIdLst>
    <p:sldId id="256" r:id="rId22"/>
    <p:sldId id="257" r:id="rId23"/>
    <p:sldId id="258" r:id="rId24"/>
    <p:sldId id="259" r:id="rId25"/>
    <p:sldId id="260" r:id="rId26"/>
    <p:sldId id="261" r:id="rId27"/>
    <p:sldId id="262" r:id="rId28"/>
    <p:sldId id="263" r:id="rId29"/>
    <p:sldId id="264" r:id="rId30"/>
    <p:sldId id="265"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949160C7-43B3-4162-B708-B6F248AE7C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7BA0D28-9447-40FF-B654-72FEB8D127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9DABA7-7020-4C0E-B980-5CA1578C8C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84ED97-5E89-4255-96DE-9D49DDE9B8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8EFFD0-9481-4E99-B989-3CA0924597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4A2D89-BE53-42F1-83CA-8B0CAFF6B9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B2B20E-238F-4CE1-972A-44D0AA245A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67B886-0F65-45FE-BB36-7AD74DF88D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67E408-17B2-4653-BF81-9B91B0E227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971115-E18F-4B5C-A6BC-1E4D13ABA3F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EDAD900-4D5C-47F8-9A7B-38B1F0CE18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7A5421C-72DA-4743-9D11-895DA6C6E7F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607CE1FB-9A10-47AE-8903-A102D500375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1143B57-0B41-4292-9B8F-79398EFBC84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0DF51EB-D9A8-4B55-8889-DFA66B80617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7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92D8EB8-37E3-4268-81BA-BB5C9B97423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4430DE6-9C78-4EED-B78F-19A7AF3207A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F91EED8-A86A-4663-A09B-5FFB0A38AFF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7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7B4B10-07D5-450D-809F-BDD1E0EC6EE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269C4F-E7A9-4415-8BB6-5716C3FD4E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3B3B08A-1579-43D7-A049-08B6CBADEB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623F5A1-7A13-4322-8F13-D24609FA950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013DD69-47AC-4149-8066-0029E0C4FB3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26C76E8F-5F39-4597-BA49-9468D41260B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81B7E7D-75F2-4E86-9A49-D560AD417B5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4CA92F6-01D5-4034-910D-EB07AF6E9F0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2717415-F7EC-4310-BC64-C32B9CD4380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A933511-7938-494E-8956-F1C67499A0A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BD3FA0-7EC0-488F-916E-C80F0320D0D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CF89733-8C7E-4D2A-8539-F6B2B18AEA4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79711DE-AB32-4DF0-98A8-CD0D828DBEF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59E310-2F48-4085-8748-CD63F1F792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2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AA9865-E8D7-4881-98A1-B6F2E8153F2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2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2680B6-3728-44D3-AAFC-66AC896A3FF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EEF4C8-C2EC-4E48-A539-E68B53993C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1780D4A-1A0D-42E4-A8C7-6F098314C11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416D652-1A1F-41E7-91AE-9D74C7E1BF7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44C2F32-976E-41BC-8081-5A68AEE8938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4FD0F6E-FC1D-492C-A164-D80A6F64B2D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ACD92BA-7A7D-4EE9-BC52-5DACBA8A189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44A45C3-6F64-4827-83E5-BC9C3A010D7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749B702-5B72-4BFF-8CCE-A3548A4176C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32391ED-6F1C-4930-89A5-89DABCFAEA7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3D2CF7B-BA0D-4949-83F7-E18A6D4DE34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1F77F77-B132-4C65-BEB7-619060D5E0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615309-0C9F-4F06-9ACE-87C7ADB696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2AC803A-33E0-4979-B97F-90FA1298D5F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9F2DA8D-5210-43E1-9D65-BE3639E16AE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7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B34CA6A-2C51-4499-9B1C-C369D9E9011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F3E25FC-B303-4038-9D55-D0E37D90C58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D6C7C91-E223-42D5-AE22-DF11C293631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83896B6-ABD0-4946-99ED-B3C89FEBA5A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21D20AD-70E5-4884-8FBE-7C022697AAB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59C2E02-95A8-494A-851C-66257399D0D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7063EEB-C9A6-4FCA-846B-BB369BEFFCC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DDBD2D4-0AC1-4B5F-92FC-A895368A4A5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A0518-B48E-4288-8194-C8547D2514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EEC23B2-133C-4A00-BD32-4B7A782F38E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01D3AD7-2C38-407A-9DF3-E949D390E45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A2CC4AA-7ED9-4765-9253-CECC18B7898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89B4418-E0B1-4427-9146-A05B4EDB1C3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BB5DE10-D245-48AE-B25E-7040A51A02A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2D8FAE9-E718-4CC2-A288-C237E6A01B4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3A048FB-F6FF-4669-A285-4FF4A881207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0F8799E-1556-4837-A253-6CD707CC9FA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D761D97-DF0D-42F2-9F15-57F78498EBC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75F0CE9-46D9-4845-BBA3-4F93FB3FCBF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570E7E-FDE7-45FB-A0B9-83310E300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A98E5B6-E4E2-4E26-BEE9-319DC120FA2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7D05DAA-58D1-4878-ABE6-D399745E5EE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D6029BE-AE41-4711-9AE2-4B96F2B1276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309270E-E826-4AC7-ADCA-EE72F730853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FD95C45-35A3-4E79-A5D0-5FB4C8C61A2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913FAD4-772A-4E97-A9EC-83090DF7713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F958DF0-1D9A-40BB-868D-061CE14BB30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257C241-1A8E-48F5-9065-4D9FE46678E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78F4A76-32EB-49D0-8878-78373FE3F87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88FBB4C-F2CD-47CA-939D-5E17D6094A6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64BA92-29E6-483B-B279-59C6A30100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2D906DA-C1E3-45B2-A5F9-F7A32BD65A1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993D54D-E416-4E59-9A6A-A3B3E76290F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4FFD728-83F0-4A4E-A2BC-2FB4330B0EC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CB5FC8F-908B-41F5-B382-2F789C349D6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97A6236-8CBC-4B1E-BDAD-DBF355EEA32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0389F2C-55E4-431C-98D6-F85CEC3D863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C8108AD-51B0-4FC7-85C7-29B96685E8F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2BAFC4B-A2A0-495C-8D3B-F11957F0B1A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5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7E31DF3-CEE2-4C36-8945-C3D003EA9CE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60A705A-B80E-4C8B-93A7-819D34BEEF4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712F3A-6C20-4C70-BB66-29B5F64EE6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6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2FC3967-4A43-4418-9C4F-BFDB2AF59EA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6304E21-E9F6-432D-9819-1A8798C39DB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D36F5C5-E69E-4CD9-9DA7-E8E2BB708DD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C919F0B-924E-486B-87A2-764E328B1BC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10FCDBA-1025-4764-8DC9-E8499B07A98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F3E1C3C-F419-4C51-9863-BA8F592B070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28F857B-D7F5-4B10-9F80-4A4484C69C2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2389E86-40D1-4E43-8DE4-84B8BC075D0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0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A3ECDEF-1472-4D26-A18D-F177C6B52AD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0004F2A-FD46-496E-8AE6-CDF8E242B89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49865-FBFA-445B-83D3-3B431D991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851354C-A9B9-4AD2-A946-154A230313E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58E5671-EB4D-4430-8F36-5E20FAA6BEC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2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FEB8595-EBBF-4A53-9683-3DE7E4B8271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97E4414-6CCD-44B1-BCA8-04EC88CE9EE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3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B927C90-ADF1-46C3-B2BA-1E4DD944425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3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09C2084-330C-44DC-9750-4D57C86DD70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4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E8CFFBB-8224-4D4C-B476-C9145C22B1D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4E11368-2863-4171-8C4E-2C15EA640CD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8D07895-4AAA-4683-9AB5-D098247D652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4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E5181F7-2E82-4102-A2DD-0A9B7515264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8226AAD8-3C1A-4541-9756-EDD18B87B1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FDC0E-2785-4452-AD0E-B7C032306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4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A4A2964-8218-4BED-A613-81EE5095D3D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5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536BF9A-7308-4BCE-BE26-F02FF84327E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5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3A65F35-41F7-4285-94DD-0175A90BA17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91054A4-FA42-4CD1-A575-176431480C4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6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52E6DF8-56B2-4FCC-8381-A0A5F9F6C54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893D4A0-B99E-4F1E-B7B6-AF51B12CE76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7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36CCAB4-D2D5-4D43-BC72-DDBB69ECAC0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7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4920A36-5846-460C-B03D-B1680507A16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5814CCC-C717-4CDC-A332-7BF4E4900BA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6993E63-49C5-49BF-A2A8-C54D4228B93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610EE-2732-44E2-BEA6-9A8DE08E6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CA16CCE-FA44-4775-A58B-00EB55C14EA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11DDC80-58BF-4FAF-A684-78EF224AE8A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F715266-B125-4419-88B3-D8859554984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9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FAA22DC-FEC6-4039-B157-88FB08F432D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9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00964F3-2425-4F7D-89CE-0D95C98B806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0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1F2AD4D-55AD-46EB-ACA6-7FB9FEE33ADD}"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0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CC18348-47FB-4CD9-8117-AF2EA32714D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1A515E9A-9D13-482F-A452-E51A779E555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6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A5811FA-9839-43D9-9473-7A4F1056012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7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3FF7351-D71E-4C86-B403-7C4F3D62CD1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C222BF-0A41-460A-8530-1E35223361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7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E8B7435-749F-4B77-AE31-E90DD38035D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922A228-0F80-4784-AA99-F5AFBD8D526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73D3539-6BCB-4225-B56A-17E42B8290B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7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3C528E9-5CC0-4462-8752-DEBD5808378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8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4B7B28D-0DDF-49C7-A48F-7E066E604F4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8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0C2A306-AC0C-4685-ABF9-59DC70AB6A8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8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EFC7163-1442-4669-A19D-E0C27E74327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9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F54DDC6-776D-46B2-B4AC-6CB7492E2BB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9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940F2D08-EB25-4F98-9D6D-D3811F8752A3}"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CD4098D-1CCC-493A-9D67-582B4254EE15}"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11928F-B917-4E3D-874D-3C66B50FE9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131DE78-AE9B-4D28-8346-9A0DD1C7129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E5ED1B4-EB98-4C13-8D67-D53BAD17EF8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6B8D566-48BE-4739-BE1E-B9E2103884E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8C0B027-F41D-4A9F-9643-C15FDFAEBD3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832F480-67F9-4F50-854B-ECAFB1ED871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D87E7FC-9F7D-454E-BFE9-469CF8D3350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7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8D60B16-3DD3-401E-B14E-4EA90839613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7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A18F330-2B26-4C44-9DE3-294AA1C7EF3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8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89CBE47-50DB-4F09-9AF5-5FC98A80BCD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8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6173D8D4-25E3-4C09-A520-C0EC08A3C812}"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3CD6E9-79CE-434A-A766-F51925A3C9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8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92F9CB1-3F68-41BF-8AA8-2BD4C27C680B}"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5D359E-DF51-46DC-A010-909D6796D8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BF2629-0C0C-4301-B89A-F8985A32B7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4DFABB-7626-4FF5-AC25-463F8DC8CE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DA2545-8F4C-4D4F-984F-AEABFC7C95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D849BB-FA07-4EB7-88EF-7E19D97126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C3148599-44DB-4DF2-85DA-CB93C3A9C9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9C1732-01F1-42CE-93C2-8DE37E2CB7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85B363-B246-4857-A6D5-CD5E55D22E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B53193-7A4A-4D1B-8606-014CB2FB24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31DA9C-D3F0-42FA-B7C3-22568D30B9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3115C0-469D-4295-987B-5DCE9D57D8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924340-AB25-4EDD-815A-C8FA0AD6E3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78DC0C-2096-4F48-A8FD-0ED4FFE22A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EF3724-64DD-4923-BF3B-2F136C20A7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1B852E-2CDA-4E0E-A07F-29E3C6B98F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3FB3BB-90D4-4F48-A403-073B9A3DB4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31C3271-4F8B-4E3D-9E46-35B93F866E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537BB3-FAE4-45D8-8ED3-FEB81EE05D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C5404D-6B2E-450F-9D1D-1248CB88F1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D5A8B5-D9C9-40B2-8675-CD096E971D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6600B3-86D3-43E0-912E-3E8FAED34E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6EA6E8-8213-4EA1-8D7E-46964EA33F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FAE9B3-6AA8-4F57-9601-0FB196F801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A91AA7-CE8E-401E-AC4D-07625ABC12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3D9D48-DEAF-44A9-B2F6-8DA8AA10C6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F72F18-F1E8-47BB-B8A3-5351BA9F7B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4A8135-2B2D-4822-83F3-83636E53D9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19D42D8-900D-4E85-8D0D-9573DB49DF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194E36-4C19-4D8F-A448-ADF3D40412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B6275E-66D7-43FC-8C02-233F690AE4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88B874-EC1D-41C4-9943-77A1FF4493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D24713-8F76-4FA0-A578-DBDD898647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F6448E-6021-4E6D-989C-B32AA6D563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737F3E-3E0A-40D9-BD0D-0ABAD548BE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6D13E8-6B0C-4925-8C18-4A3444BC91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497F5C-936C-4C14-ABB4-57B29DB647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18FB7E-4BE4-441B-BEAC-EBCBA9E180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795FF6-001A-41A6-8633-25F298691D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11EC2C3B-FF9F-4BD9-B2C5-460DDA0BFC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E49EC0-EDE1-44B4-B73D-6CBC6765DA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02857F0A-FE50-4BB1-A44E-A8231BE11B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998B2EF-0E1E-4F59-BF2A-DA85325412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563123C-0A0B-4D96-8406-4406426AFD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CE418BC-A391-4AED-B025-066194D3DB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E2F9B6C-A03E-4857-AE80-210A23AC7D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BC16CED-0D45-4AC7-9529-1CF5041FD9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51140CE-71FF-4AAB-995C-0D91489B6C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42889A4-C25E-4F70-8713-5E73DE1A67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F8F74E9-C4CD-4323-AF53-E2AA88A170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F4A32A3-3F59-4AD5-A2B1-9C3D262E72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C645141-E9F6-48DC-8165-563CA19AFC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B96BD98C-EA2E-470C-A64C-65D6704100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980D36AC-1100-468B-858B-4D2196FD69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BC1F40-200D-469A-9A5B-A5943AD978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2EA50A-334E-4DC7-8B9D-845F24D3FB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9D3006-AE9A-4990-854B-DEA2C6FB99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8241A5-2E19-4DC5-897D-EE091ADBCD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8793C7-2EFA-4B36-B26D-E9FAA16A53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0C94C5-23E5-44BC-8E9D-7F8D02271B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0DBB72-7485-415E-AC55-6B61CB9F6F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6DC668D-0A71-46D6-A311-C071CF7389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806A28-211D-4E37-A798-44FA72CB51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89026D-57F7-47CD-A76D-8FDA40AB82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EBED9E-E452-436A-B548-E3C2B5CDF6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3F1F44-6A20-4E4E-B774-C442DFFE68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8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1E6D8A-1634-49DC-9E9F-954D6B030D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5863B8-8CDE-48BD-950E-043021EF37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B36A57-8C48-4E07-9F06-573701D5E8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A0E54B-D51C-4C25-A602-14C170D17A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39D94F-2197-42C4-9F16-73194E8CCB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231E32-CC2A-4F3A-967D-9911CCB5C6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B770C71-D362-4C31-9DAE-BB4FFB68A4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0A18C1-6D77-4B83-B4EC-846B210EC3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9B2D7C-5C0E-4D31-9C04-BD5DD23F3B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F02CFE-5D19-4B5B-A98F-DE57AF7E3E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E9C44E-154A-4E03-BF9C-46B07A7B6E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3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35A478-3CA5-478F-9C55-52383CFF51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1267BF-B81B-41A7-A293-6269878E74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4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BBFB88-B0F6-494C-89E6-C03BF9DF045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430B99-DCE7-43AA-ADA4-4879537088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D19EEB-43A5-4C02-B0AB-6C5635993B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F1DC90-716D-4953-916F-79A6D7CC46E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5.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5.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8D42A-D963-4049-8216-AAEC11A2A0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925" name=""/>
          <p:cNvGrpSpPr/>
          <p:nvPr/>
        </p:nvGrpSpPr>
        <p:grpSpPr>
          <a:xfrm>
            <a:off x="0" y="0"/>
            <a:ext cx="9148320" cy="6851520"/>
            <a:chOff x="0" y="0"/>
            <a:chExt cx="9148320" cy="6851520"/>
          </a:xfrm>
        </p:grpSpPr>
        <p:sp>
          <p:nvSpPr>
            <p:cNvPr id="926"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8"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29" name=""/>
            <p:cNvGrpSpPr/>
            <p:nvPr/>
          </p:nvGrpSpPr>
          <p:grpSpPr>
            <a:xfrm>
              <a:off x="455400" y="0"/>
              <a:ext cx="8092440" cy="6851520"/>
              <a:chOff x="455400" y="0"/>
              <a:chExt cx="8092440" cy="6851520"/>
            </a:xfrm>
          </p:grpSpPr>
          <p:sp>
            <p:nvSpPr>
              <p:cNvPr id="930"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2"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1"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2"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43"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5"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54" name=""/>
            <p:cNvGrpSpPr/>
            <p:nvPr/>
          </p:nvGrpSpPr>
          <p:grpSpPr>
            <a:xfrm>
              <a:off x="0" y="622440"/>
              <a:ext cx="9140760" cy="2493720"/>
              <a:chOff x="0" y="622440"/>
              <a:chExt cx="9140760" cy="2493720"/>
            </a:xfrm>
          </p:grpSpPr>
          <p:sp>
            <p:nvSpPr>
              <p:cNvPr id="955"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0"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963" name="PlaceHolder 2"/>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964"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965" name="PlaceHolder 4"/>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A4130-500E-4E3A-A81B-D00F33772257}"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00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004"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5"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007"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008"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7207D-A9A8-424C-B8BD-41CD4A6A676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046" name="PlaceHolder 2"/>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047"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048" name="PlaceHolder 4"/>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FCA07-B473-45C1-B610-CD2313E3455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049"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6" name=""/>
          <p:cNvGrpSpPr/>
          <p:nvPr/>
        </p:nvGrpSpPr>
        <p:grpSpPr>
          <a:xfrm>
            <a:off x="0" y="0"/>
            <a:ext cx="7620120" cy="6858000"/>
            <a:chOff x="0" y="0"/>
            <a:chExt cx="7620120" cy="6858000"/>
          </a:xfrm>
        </p:grpSpPr>
        <p:grpSp>
          <p:nvGrpSpPr>
            <p:cNvPr id="1087" name=""/>
            <p:cNvGrpSpPr/>
            <p:nvPr/>
          </p:nvGrpSpPr>
          <p:grpSpPr>
            <a:xfrm>
              <a:off x="0" y="0"/>
              <a:ext cx="3200400" cy="6858000"/>
              <a:chOff x="0" y="0"/>
              <a:chExt cx="3200400" cy="6858000"/>
            </a:xfrm>
          </p:grpSpPr>
          <p:sp>
            <p:nvSpPr>
              <p:cNvPr id="1088"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9"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grpSp>
          <p:nvGrpSpPr>
            <p:cNvPr id="1090" name=""/>
            <p:cNvGrpSpPr/>
            <p:nvPr/>
          </p:nvGrpSpPr>
          <p:grpSpPr>
            <a:xfrm>
              <a:off x="228600" y="1981080"/>
              <a:ext cx="7391520" cy="319320"/>
              <a:chOff x="228600" y="1981080"/>
              <a:chExt cx="7391520" cy="319320"/>
            </a:xfrm>
          </p:grpSpPr>
          <p:sp>
            <p:nvSpPr>
              <p:cNvPr id="1091"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2"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09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094"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095" name="PlaceHolder 3"/>
          <p:cNvSpPr>
            <a:spLocks noGrp="1"/>
          </p:cNvSpPr>
          <p:nvPr>
            <p:ph type="dt" idx="37"/>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96" name="PlaceHolder 4"/>
          <p:cNvSpPr>
            <a:spLocks noGrp="1"/>
          </p:cNvSpPr>
          <p:nvPr>
            <p:ph type="ftr" idx="38"/>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97" name="PlaceHolder 5"/>
          <p:cNvSpPr>
            <a:spLocks noGrp="1"/>
          </p:cNvSpPr>
          <p:nvPr>
            <p:ph type="sldNum" idx="3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9B2D1-E9B8-4F82-9665-0E83BE6BC1E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4" name=""/>
          <p:cNvGrpSpPr/>
          <p:nvPr/>
        </p:nvGrpSpPr>
        <p:grpSpPr>
          <a:xfrm>
            <a:off x="0" y="0"/>
            <a:ext cx="5867280" cy="6858000"/>
            <a:chOff x="0" y="0"/>
            <a:chExt cx="5867280" cy="6858000"/>
          </a:xfrm>
        </p:grpSpPr>
        <p:sp>
          <p:nvSpPr>
            <p:cNvPr id="1135"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6"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37" name=""/>
          <p:cNvGrpSpPr/>
          <p:nvPr/>
        </p:nvGrpSpPr>
        <p:grpSpPr>
          <a:xfrm>
            <a:off x="3632040" y="4889520"/>
            <a:ext cx="4876920" cy="318960"/>
            <a:chOff x="3632040" y="4889520"/>
            <a:chExt cx="4876920" cy="318960"/>
          </a:xfrm>
        </p:grpSpPr>
        <p:sp>
          <p:nvSpPr>
            <p:cNvPr id="1138"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9"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40" name="PlaceHolder 1"/>
          <p:cNvSpPr>
            <a:spLocks noGrp="1"/>
          </p:cNvSpPr>
          <p:nvPr>
            <p:ph type="dt" idx="40"/>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41" name="PlaceHolder 2"/>
          <p:cNvSpPr>
            <a:spLocks noGrp="1"/>
          </p:cNvSpPr>
          <p:nvPr>
            <p:ph type="ftr" idx="41"/>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42" name="PlaceHolder 3"/>
          <p:cNvSpPr>
            <a:spLocks noGrp="1"/>
          </p:cNvSpPr>
          <p:nvPr>
            <p:ph type="sldNum" idx="4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565BC-3D9A-4396-A8CF-FC018D81AA9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1143"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8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83" name="PlaceHolder 3"/>
          <p:cNvSpPr>
            <a:spLocks noGrp="1"/>
          </p:cNvSpPr>
          <p:nvPr>
            <p:ph type="dt" idx="43"/>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184" name="PlaceHolder 4"/>
          <p:cNvSpPr>
            <a:spLocks noGrp="1"/>
          </p:cNvSpPr>
          <p:nvPr>
            <p:ph type="ftr" idx="44"/>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185" name="PlaceHolder 5"/>
          <p:cNvSpPr>
            <a:spLocks noGrp="1"/>
          </p:cNvSpPr>
          <p:nvPr>
            <p:ph type="sldNum" idx="45"/>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4AF55-F280-4D47-97EB-9165A5A75655}"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118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8" name=""/>
          <p:cNvGrpSpPr/>
          <p:nvPr/>
        </p:nvGrpSpPr>
        <p:grpSpPr>
          <a:xfrm>
            <a:off x="7920" y="5540400"/>
            <a:ext cx="1784520" cy="1246320"/>
            <a:chOff x="7920" y="5540400"/>
            <a:chExt cx="1784520" cy="1246320"/>
          </a:xfrm>
        </p:grpSpPr>
        <p:sp>
          <p:nvSpPr>
            <p:cNvPr id="118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98" name=""/>
            <p:cNvGrpSpPr/>
            <p:nvPr/>
          </p:nvGrpSpPr>
          <p:grpSpPr>
            <a:xfrm>
              <a:off x="7920" y="5540400"/>
              <a:ext cx="1784520" cy="1238400"/>
              <a:chOff x="7920" y="5540400"/>
              <a:chExt cx="1784520" cy="1238400"/>
            </a:xfrm>
          </p:grpSpPr>
          <p:grpSp>
            <p:nvGrpSpPr>
              <p:cNvPr id="1199" name=""/>
              <p:cNvGrpSpPr/>
              <p:nvPr/>
            </p:nvGrpSpPr>
            <p:grpSpPr>
              <a:xfrm>
                <a:off x="792000" y="5654520"/>
                <a:ext cx="870120" cy="1124280"/>
                <a:chOff x="792000" y="5654520"/>
                <a:chExt cx="870120" cy="1124280"/>
              </a:xfrm>
            </p:grpSpPr>
            <p:sp>
              <p:nvSpPr>
                <p:cNvPr id="120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06" name=""/>
              <p:cNvGrpSpPr/>
              <p:nvPr/>
            </p:nvGrpSpPr>
            <p:grpSpPr>
              <a:xfrm>
                <a:off x="7920" y="5540400"/>
                <a:ext cx="1784520" cy="1076400"/>
                <a:chOff x="7920" y="5540400"/>
                <a:chExt cx="1784520" cy="1076400"/>
              </a:xfrm>
            </p:grpSpPr>
            <p:sp>
              <p:nvSpPr>
                <p:cNvPr id="120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1215" name=""/>
          <p:cNvGrpSpPr/>
          <p:nvPr/>
        </p:nvGrpSpPr>
        <p:grpSpPr>
          <a:xfrm>
            <a:off x="8680320" y="2116080"/>
            <a:ext cx="385920" cy="4308480"/>
            <a:chOff x="8680320" y="2116080"/>
            <a:chExt cx="385920" cy="4308480"/>
          </a:xfrm>
        </p:grpSpPr>
        <p:sp>
          <p:nvSpPr>
            <p:cNvPr id="121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18" name=""/>
          <p:cNvGrpSpPr/>
          <p:nvPr/>
        </p:nvGrpSpPr>
        <p:grpSpPr>
          <a:xfrm>
            <a:off x="7171560" y="-87480"/>
            <a:ext cx="2427480" cy="2247120"/>
            <a:chOff x="7171560" y="-87480"/>
            <a:chExt cx="2427480" cy="2247120"/>
          </a:xfrm>
        </p:grpSpPr>
        <p:grpSp>
          <p:nvGrpSpPr>
            <p:cNvPr id="1219" name=""/>
            <p:cNvGrpSpPr/>
            <p:nvPr/>
          </p:nvGrpSpPr>
          <p:grpSpPr>
            <a:xfrm>
              <a:off x="7171560" y="-87480"/>
              <a:ext cx="2427480" cy="2247120"/>
              <a:chOff x="7171560" y="-87480"/>
              <a:chExt cx="2427480" cy="2247120"/>
            </a:xfrm>
          </p:grpSpPr>
          <p:sp>
            <p:nvSpPr>
              <p:cNvPr id="122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21" name=""/>
              <p:cNvGrpSpPr/>
              <p:nvPr/>
            </p:nvGrpSpPr>
            <p:grpSpPr>
              <a:xfrm>
                <a:off x="7171560" y="-87480"/>
                <a:ext cx="2427480" cy="2247120"/>
                <a:chOff x="7171560" y="-87480"/>
                <a:chExt cx="2427480" cy="2247120"/>
              </a:xfrm>
            </p:grpSpPr>
            <p:sp>
              <p:nvSpPr>
                <p:cNvPr id="122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3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269" name="PlaceHolder 2"/>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270"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271" name="PlaceHolder 4"/>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6D884-E9DE-4770-9B2D-3A0FF3E4DCC4}"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1272" name=""/>
          <p:cNvGrpSpPr/>
          <p:nvPr/>
        </p:nvGrpSpPr>
        <p:grpSpPr>
          <a:xfrm>
            <a:off x="195120" y="235080"/>
            <a:ext cx="3787920" cy="1778040"/>
            <a:chOff x="195120" y="235080"/>
            <a:chExt cx="3787920" cy="1778040"/>
          </a:xfrm>
        </p:grpSpPr>
        <p:sp>
          <p:nvSpPr>
            <p:cNvPr id="127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76" name=""/>
            <p:cNvGrpSpPr/>
            <p:nvPr/>
          </p:nvGrpSpPr>
          <p:grpSpPr>
            <a:xfrm>
              <a:off x="195120" y="235080"/>
              <a:ext cx="3787920" cy="1716120"/>
              <a:chOff x="195120" y="235080"/>
              <a:chExt cx="3787920" cy="1716120"/>
            </a:xfrm>
          </p:grpSpPr>
          <p:sp>
            <p:nvSpPr>
              <p:cNvPr id="127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282" name=""/>
          <p:cNvGrpSpPr/>
          <p:nvPr/>
        </p:nvGrpSpPr>
        <p:grpSpPr>
          <a:xfrm>
            <a:off x="7797600" y="4318560"/>
            <a:ext cx="979920" cy="1159560"/>
            <a:chOff x="7797600" y="4318560"/>
            <a:chExt cx="979920" cy="1159560"/>
          </a:xfrm>
        </p:grpSpPr>
        <p:sp>
          <p:nvSpPr>
            <p:cNvPr id="128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86" name=""/>
            <p:cNvGrpSpPr/>
            <p:nvPr/>
          </p:nvGrpSpPr>
          <p:grpSpPr>
            <a:xfrm>
              <a:off x="7797600" y="4318560"/>
              <a:ext cx="979920" cy="1159560"/>
              <a:chOff x="7797600" y="4318560"/>
              <a:chExt cx="979920" cy="1159560"/>
            </a:xfrm>
          </p:grpSpPr>
          <p:sp>
            <p:nvSpPr>
              <p:cNvPr id="128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9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33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32"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333"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34"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4A332-1ECE-4BA5-814B-9C3F0A4F67B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372" name="PlaceHolder 2"/>
          <p:cNvSpPr>
            <a:spLocks noGrp="1"/>
          </p:cNvSpPr>
          <p:nvPr>
            <p:ph type="dt" idx="52"/>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373" name="PlaceHolder 3"/>
          <p:cNvSpPr>
            <a:spLocks noGrp="1"/>
          </p:cNvSpPr>
          <p:nvPr>
            <p:ph type="ftr" idx="53"/>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74" name="PlaceHolder 4"/>
          <p:cNvSpPr>
            <a:spLocks noGrp="1"/>
          </p:cNvSpPr>
          <p:nvPr>
            <p:ph type="sldNum" idx="54"/>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78E33-E983-472E-A267-3E9A1A54070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411" name=""/>
          <p:cNvGrpSpPr/>
          <p:nvPr/>
        </p:nvGrpSpPr>
        <p:grpSpPr>
          <a:xfrm>
            <a:off x="3600" y="1422360"/>
            <a:ext cx="9143640" cy="5435640"/>
            <a:chOff x="3600" y="1422360"/>
            <a:chExt cx="9143640" cy="5435640"/>
          </a:xfrm>
        </p:grpSpPr>
        <p:grpSp>
          <p:nvGrpSpPr>
            <p:cNvPr id="1412" name=""/>
            <p:cNvGrpSpPr/>
            <p:nvPr/>
          </p:nvGrpSpPr>
          <p:grpSpPr>
            <a:xfrm>
              <a:off x="31680" y="1422360"/>
              <a:ext cx="9115560" cy="5435640"/>
              <a:chOff x="31680" y="1422360"/>
              <a:chExt cx="9115560" cy="5435640"/>
            </a:xfrm>
          </p:grpSpPr>
          <p:sp>
            <p:nvSpPr>
              <p:cNvPr id="1413"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4"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5"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6"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7"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8"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9"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0"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1"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2"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3"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4"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5"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426" name=""/>
            <p:cNvGrpSpPr/>
            <p:nvPr/>
          </p:nvGrpSpPr>
          <p:grpSpPr>
            <a:xfrm>
              <a:off x="3600" y="3639960"/>
              <a:ext cx="2193840" cy="2694240"/>
              <a:chOff x="3600" y="3639960"/>
              <a:chExt cx="2193840" cy="2694240"/>
            </a:xfrm>
          </p:grpSpPr>
          <p:sp>
            <p:nvSpPr>
              <p:cNvPr id="1427"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28"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9"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30"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31"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2"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3"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4"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5"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6"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7"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38"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9"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0"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1"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2"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3"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4"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45"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6"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7"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8"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9"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0"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1"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2"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3"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4"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5"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6"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7"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8"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9"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0"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1"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2"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3"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4"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5"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6"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7"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8"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9"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0"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1"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2"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3"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4"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5"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6"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7"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8"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9"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80"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1"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2"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3"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4"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5"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6"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7"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8"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9"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0"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2"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3"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4"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5"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6"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7"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8"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9"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0"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01"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2"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3"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4"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5"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6"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7"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8"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9"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0"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1"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2"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3"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4"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5"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6"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17"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8"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9"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0"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1"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2"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3"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4"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5"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6"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7"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8"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9"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0"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1"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2"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3"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4"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5"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6"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7"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8"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9"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0"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1"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2"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3"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4"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5"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6"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7"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54"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55"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57"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8"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9"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0"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61"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63" name="PlaceHolder 2"/>
          <p:cNvSpPr>
            <a:spLocks noGrp="1"/>
          </p:cNvSpPr>
          <p:nvPr>
            <p:ph type="dt" idx="55"/>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64" name="PlaceHolder 3"/>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65" name="PlaceHolder 4"/>
          <p:cNvSpPr>
            <a:spLocks noGrp="1"/>
          </p:cNvSpPr>
          <p:nvPr>
            <p:ph type="sldNum" idx="57"/>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DF38E-0418-4DA8-A4F6-BC5F206470C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66"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8FE5E-2C97-453F-921F-52D5C75AE6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603" name=""/>
          <p:cNvGrpSpPr/>
          <p:nvPr/>
        </p:nvGrpSpPr>
        <p:grpSpPr>
          <a:xfrm>
            <a:off x="3600" y="1422360"/>
            <a:ext cx="9143640" cy="5435640"/>
            <a:chOff x="3600" y="1422360"/>
            <a:chExt cx="9143640" cy="5435640"/>
          </a:xfrm>
        </p:grpSpPr>
        <p:grpSp>
          <p:nvGrpSpPr>
            <p:cNvPr id="1604" name=""/>
            <p:cNvGrpSpPr/>
            <p:nvPr/>
          </p:nvGrpSpPr>
          <p:grpSpPr>
            <a:xfrm>
              <a:off x="31680" y="1422360"/>
              <a:ext cx="9115560" cy="5435640"/>
              <a:chOff x="31680" y="1422360"/>
              <a:chExt cx="9115560" cy="5435640"/>
            </a:xfrm>
          </p:grpSpPr>
          <p:sp>
            <p:nvSpPr>
              <p:cNvPr id="1605"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06"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07"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08"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09"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0"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1"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2"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3"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4"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5"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6"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7"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618" name=""/>
            <p:cNvGrpSpPr/>
            <p:nvPr/>
          </p:nvGrpSpPr>
          <p:grpSpPr>
            <a:xfrm>
              <a:off x="3600" y="3639960"/>
              <a:ext cx="2193840" cy="2694240"/>
              <a:chOff x="3600" y="3639960"/>
              <a:chExt cx="2193840" cy="2694240"/>
            </a:xfrm>
          </p:grpSpPr>
          <p:sp>
            <p:nvSpPr>
              <p:cNvPr id="1619"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20"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1"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22"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23"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4"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5"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6"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7"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8"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9"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30"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1"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2"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3"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4"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5"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6"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37"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8"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9"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0"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1"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2"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3"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4"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5"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6"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7"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8"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9"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0"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1"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2"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3"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4"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5"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6"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7"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8"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59"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0"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1"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2"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3"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4"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5"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6"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7"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8"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9"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0"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1"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72"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3"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4"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5"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6"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7"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8"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9"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0"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1"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2"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4"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5"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6"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7"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8"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9"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0"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1"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2"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93"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4"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5"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6"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7"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8"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9"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0"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1"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2"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3"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4"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5"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6"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7"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8"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09"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0"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1"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2"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3"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4"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5"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6"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7"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8"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9"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0"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1"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2"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3"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4"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5"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6"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7"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8"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9"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0"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1"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2"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3"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4"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5"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6"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7"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8"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9"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746"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47"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49"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50"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53"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75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1755" name="PlaceHolder 2"/>
          <p:cNvSpPr>
            <a:spLocks noGrp="1"/>
          </p:cNvSpPr>
          <p:nvPr>
            <p:ph type="dt" idx="58"/>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756" name="PlaceHolder 3"/>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57" name="PlaceHolder 4"/>
          <p:cNvSpPr>
            <a:spLocks noGrp="1"/>
          </p:cNvSpPr>
          <p:nvPr>
            <p:ph type="sldNum" idx="60"/>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E8102-6EC3-41DE-BAE8-D0CA5E6D1937}"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17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3" name=""/>
          <p:cNvGrpSpPr/>
          <p:nvPr/>
        </p:nvGrpSpPr>
        <p:grpSpPr>
          <a:xfrm>
            <a:off x="1071720" y="304920"/>
            <a:ext cx="7614720" cy="1106280"/>
            <a:chOff x="1071720" y="304920"/>
            <a:chExt cx="7614720" cy="1106280"/>
          </a:xfrm>
        </p:grpSpPr>
        <p:sp>
          <p:nvSpPr>
            <p:cNvPr id="514"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1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0"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1"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22"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8C6DC-0DE4-45B6-8917-A7FCE120AA2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23"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0" name=""/>
          <p:cNvGrpSpPr/>
          <p:nvPr/>
        </p:nvGrpSpPr>
        <p:grpSpPr>
          <a:xfrm>
            <a:off x="1658520" y="1600200"/>
            <a:ext cx="6837480" cy="3200400"/>
            <a:chOff x="1658520" y="1600200"/>
            <a:chExt cx="6837480" cy="3200400"/>
          </a:xfrm>
        </p:grpSpPr>
        <p:sp>
          <p:nvSpPr>
            <p:cNvPr id="561"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67"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8"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9"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1CEB5-376F-41B0-9195-A54696CF561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0"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07" name=""/>
          <p:cNvGrpSpPr/>
          <p:nvPr/>
        </p:nvGrpSpPr>
        <p:grpSpPr>
          <a:xfrm>
            <a:off x="0" y="0"/>
            <a:ext cx="9144000" cy="6858000"/>
            <a:chOff x="0" y="0"/>
            <a:chExt cx="9144000" cy="6858000"/>
          </a:xfrm>
        </p:grpSpPr>
        <p:sp>
          <p:nvSpPr>
            <p:cNvPr id="608"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0"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1" name=""/>
          <p:cNvGrpSpPr/>
          <p:nvPr/>
        </p:nvGrpSpPr>
        <p:grpSpPr>
          <a:xfrm>
            <a:off x="0" y="6019920"/>
            <a:ext cx="7848720" cy="857160"/>
            <a:chOff x="0" y="6019920"/>
            <a:chExt cx="7848720" cy="857160"/>
          </a:xfrm>
        </p:grpSpPr>
        <p:sp>
          <p:nvSpPr>
            <p:cNvPr id="612"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3" name=""/>
            <p:cNvGrpSpPr/>
            <p:nvPr/>
          </p:nvGrpSpPr>
          <p:grpSpPr>
            <a:xfrm>
              <a:off x="3946680" y="6019920"/>
              <a:ext cx="3902040" cy="857160"/>
              <a:chOff x="3946680" y="6019920"/>
              <a:chExt cx="3902040" cy="857160"/>
            </a:xfrm>
          </p:grpSpPr>
          <p:sp>
            <p:nvSpPr>
              <p:cNvPr id="614"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9"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20" name=""/>
          <p:cNvGrpSpPr/>
          <p:nvPr/>
        </p:nvGrpSpPr>
        <p:grpSpPr>
          <a:xfrm>
            <a:off x="627120" y="6021360"/>
            <a:ext cx="5684760" cy="849240"/>
            <a:chOff x="627120" y="6021360"/>
            <a:chExt cx="5684760" cy="849240"/>
          </a:xfrm>
        </p:grpSpPr>
        <p:sp>
          <p:nvSpPr>
            <p:cNvPr id="621"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2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29"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30"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31"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DAF1B-3E01-4AFC-B2D0-098C2FD052B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68" name=""/>
          <p:cNvGrpSpPr/>
          <p:nvPr/>
        </p:nvGrpSpPr>
        <p:grpSpPr>
          <a:xfrm>
            <a:off x="-6480" y="20520"/>
            <a:ext cx="9144000" cy="6858000"/>
            <a:chOff x="-6480" y="20520"/>
            <a:chExt cx="9144000" cy="6858000"/>
          </a:xfrm>
        </p:grpSpPr>
        <p:sp>
          <p:nvSpPr>
            <p:cNvPr id="669"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71"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2" name=""/>
          <p:cNvGrpSpPr/>
          <p:nvPr/>
        </p:nvGrpSpPr>
        <p:grpSpPr>
          <a:xfrm>
            <a:off x="-1440" y="6033960"/>
            <a:ext cx="7844400" cy="850680"/>
            <a:chOff x="-1440" y="6033960"/>
            <a:chExt cx="7844400" cy="850680"/>
          </a:xfrm>
        </p:grpSpPr>
        <p:sp>
          <p:nvSpPr>
            <p:cNvPr id="673"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4" name=""/>
            <p:cNvGrpSpPr/>
            <p:nvPr/>
          </p:nvGrpSpPr>
          <p:grpSpPr>
            <a:xfrm>
              <a:off x="3944880" y="6033960"/>
              <a:ext cx="3898080" cy="850680"/>
              <a:chOff x="3944880" y="6033960"/>
              <a:chExt cx="3898080" cy="850680"/>
            </a:xfrm>
          </p:grpSpPr>
          <p:sp>
            <p:nvSpPr>
              <p:cNvPr id="675"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0"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81" name=""/>
          <p:cNvGrpSpPr/>
          <p:nvPr/>
        </p:nvGrpSpPr>
        <p:grpSpPr>
          <a:xfrm>
            <a:off x="627120" y="6021360"/>
            <a:ext cx="5684760" cy="849240"/>
            <a:chOff x="627120" y="6021360"/>
            <a:chExt cx="5684760" cy="849240"/>
          </a:xfrm>
        </p:grpSpPr>
        <p:sp>
          <p:nvSpPr>
            <p:cNvPr id="68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8"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689"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90" name="PlaceHolder 3"/>
          <p:cNvSpPr>
            <a:spLocks noGrp="1"/>
          </p:cNvSpPr>
          <p:nvPr>
            <p:ph type="sldNum" idx="17"/>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AF7C9-F236-465B-8000-8E064405081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91" name="PlaceHolder 4"/>
          <p:cNvSpPr>
            <a:spLocks noGrp="1"/>
          </p:cNvSpPr>
          <p:nvPr>
            <p:ph type="ftr" idx="1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728" name=""/>
          <p:cNvGrpSpPr/>
          <p:nvPr/>
        </p:nvGrpSpPr>
        <p:grpSpPr>
          <a:xfrm>
            <a:off x="0" y="0"/>
            <a:ext cx="9144000" cy="6934320"/>
            <a:chOff x="0" y="0"/>
            <a:chExt cx="9144000" cy="6934320"/>
          </a:xfrm>
        </p:grpSpPr>
        <p:sp>
          <p:nvSpPr>
            <p:cNvPr id="729"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39"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40"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74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749"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50"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51"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3BEE7-4D21-4700-92C4-079F92CA51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788" name=""/>
          <p:cNvGrpSpPr/>
          <p:nvPr/>
        </p:nvGrpSpPr>
        <p:grpSpPr>
          <a:xfrm>
            <a:off x="0" y="0"/>
            <a:ext cx="9144000" cy="6934320"/>
            <a:chOff x="0" y="0"/>
            <a:chExt cx="9144000" cy="6934320"/>
          </a:xfrm>
        </p:grpSpPr>
        <p:sp>
          <p:nvSpPr>
            <p:cNvPr id="789"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9"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0"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3"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8" name="PlaceHolder 2"/>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09"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10" name="PlaceHolder 4"/>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637E9-BFA5-434F-82F5-A0324981CA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847" name=""/>
          <p:cNvGrpSpPr/>
          <p:nvPr/>
        </p:nvGrpSpPr>
        <p:grpSpPr>
          <a:xfrm>
            <a:off x="1440" y="0"/>
            <a:ext cx="9149040" cy="6851520"/>
            <a:chOff x="1440" y="0"/>
            <a:chExt cx="9149040" cy="6851520"/>
          </a:xfrm>
        </p:grpSpPr>
        <p:sp>
          <p:nvSpPr>
            <p:cNvPr id="848"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1" name=""/>
            <p:cNvGrpSpPr/>
            <p:nvPr/>
          </p:nvGrpSpPr>
          <p:grpSpPr>
            <a:xfrm>
              <a:off x="457200" y="0"/>
              <a:ext cx="8093160" cy="6851520"/>
              <a:chOff x="457200" y="0"/>
              <a:chExt cx="8093160" cy="6851520"/>
            </a:xfrm>
          </p:grpSpPr>
          <p:sp>
            <p:nvSpPr>
              <p:cNvPr id="852"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65"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6" name=""/>
            <p:cNvGrpSpPr/>
            <p:nvPr/>
          </p:nvGrpSpPr>
          <p:grpSpPr>
            <a:xfrm>
              <a:off x="1440" y="622440"/>
              <a:ext cx="9141120" cy="2493720"/>
              <a:chOff x="1440" y="622440"/>
              <a:chExt cx="9141120" cy="2493720"/>
            </a:xfrm>
          </p:grpSpPr>
          <p:sp>
            <p:nvSpPr>
              <p:cNvPr id="877"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82"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885" name="PlaceHolder 2"/>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886" name="PlaceHolder 3"/>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887" name="PlaceHolder 4"/>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A8E75-B9A0-4045-984C-FEF5A96D975C}"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888"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30.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7.jpeg"/><Relationship Id="rId3" Type="http://schemas.openxmlformats.org/officeDocument/2006/relationships/slideLayout" Target="../slideLayouts/slideLayout196.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2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7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jpeg"/><Relationship Id="rId3" Type="http://schemas.openxmlformats.org/officeDocument/2006/relationships/slideLayout" Target="../slideLayouts/slideLayout178.xml"/>
</Relationships>
</file>

<file path=ppt/slides/_rels/slide9.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755640" y="62064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7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7" name=""/>
          <p:cNvSpPr txBox="1"/>
          <p:nvPr/>
        </p:nvSpPr>
        <p:spPr>
          <a:xfrm>
            <a:off x="1547640" y="765000"/>
            <a:ext cx="5832720" cy="1378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elf Information Portrai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798" name="" descr=""/>
          <p:cNvPicPr/>
          <p:nvPr/>
        </p:nvPicPr>
        <p:blipFill>
          <a:blip r:embed="rId1"/>
          <a:stretch/>
        </p:blipFill>
        <p:spPr>
          <a:xfrm>
            <a:off x="2411280" y="2852640"/>
            <a:ext cx="3816360" cy="286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32" name="PlaceHolder 2"/>
          <p:cNvSpPr>
            <a:spLocks noGrp="1"/>
          </p:cNvSpPr>
          <p:nvPr>
            <p:ph/>
          </p:nvPr>
        </p:nvSpPr>
        <p:spPr>
          <a:xfrm>
            <a:off x="457200" y="1981080"/>
            <a:ext cx="4037040" cy="4114800"/>
          </a:xfrm>
          <a:prstGeom prst="rect">
            <a:avLst/>
          </a:prstGeom>
          <a:noFill/>
          <a:ln w="0">
            <a:noFill/>
          </a:ln>
        </p:spPr>
        <p:txBody>
          <a:bodyPr lIns="90000" rIns="90000" tIns="46800" bIns="46800" anchor="t">
            <a:normAutofit/>
          </a:bodyPr>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earning styles: Learning style is an individual's unique approach to learning based on strengths, weaknesses, and preferences. </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career based on my learning style would be something active and I can do with my body. My number one choice would probably be a carpenter. I enjoy woodwork and find it amusing. Another career would be a surgeon. I would choose that because I like using my hands and I am interested in become a doctor.</a:t>
            </a:r>
            <a:endParaRPr b="0" lang="en-US" sz="1600" spc="-1" strike="noStrike">
              <a:solidFill>
                <a:srgbClr val="ffffff"/>
              </a:solidFill>
              <a:latin typeface="Tahoma"/>
            </a:endParaRPr>
          </a:p>
        </p:txBody>
      </p:sp>
      <p:sp>
        <p:nvSpPr>
          <p:cNvPr id="1833" name="PlaceHolder 3"/>
          <p:cNvSpPr>
            <a:spLocks noGrp="1"/>
          </p:cNvSpPr>
          <p:nvPr>
            <p:ph/>
          </p:nvPr>
        </p:nvSpPr>
        <p:spPr>
          <a:xfrm>
            <a:off x="4649760" y="1981080"/>
            <a:ext cx="4037040" cy="4114800"/>
          </a:xfrm>
          <a:prstGeom prst="rect">
            <a:avLst/>
          </a:prstGeom>
          <a:noFill/>
          <a:ln w="0">
            <a:noFill/>
          </a:ln>
        </p:spPr>
        <p:txBody>
          <a:bodyPr lIns="90000" rIns="90000" tIns="46800" bIns="46800" anchor="t">
            <a:normAutofit/>
          </a:bodyPr>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learning style is mostly like a kinaesthetic learner. I learn best by doing things. I think I also have a learning style where a learn best by reading. I can understand things better when I read it over one or three times. I am good with my hands so I can learn things using my body easily.</a:t>
            </a:r>
            <a:endParaRPr b="0" lang="en-US" sz="1600" spc="-1" strike="noStrike">
              <a:solidFill>
                <a:srgbClr val="ffffff"/>
              </a:solidFill>
              <a:latin typeface="Tahoma"/>
            </a:endParaRPr>
          </a:p>
        </p:txBody>
      </p:sp>
      <p:sp>
        <p:nvSpPr>
          <p:cNvPr id="1834" name=""/>
          <p:cNvSpPr txBox="1"/>
          <p:nvPr/>
        </p:nvSpPr>
        <p:spPr>
          <a:xfrm>
            <a:off x="2195640" y="620640"/>
            <a:ext cx="480996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LEARNING STYL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1835" name="" descr="http://www.mccullagh.org/db9/1ds-15/kink-com-carpentry-shop.jpg"/>
          <p:cNvPicPr/>
          <p:nvPr/>
        </p:nvPicPr>
        <p:blipFill>
          <a:blip r:embed="rId2"/>
          <a:stretch/>
        </p:blipFill>
        <p:spPr>
          <a:xfrm>
            <a:off x="5003640" y="4221000"/>
            <a:ext cx="3313440" cy="220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ABLE OF CONTENTS</a:t>
            </a:r>
            <a:endParaRPr b="0" lang="en-US" sz="3800" spc="-1" strike="noStrike">
              <a:solidFill>
                <a:srgbClr val="000000"/>
              </a:solidFill>
              <a:latin typeface="Verdana"/>
            </a:endParaRPr>
          </a:p>
        </p:txBody>
      </p:sp>
      <p:sp>
        <p:nvSpPr>
          <p:cNvPr id="18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1--------------- TITLE PAGE</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2--------------- SKILL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3--------------- APTITUD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4--------------- VALU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5--------------- ATTITUD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6--------------- EXPERIENC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7--------------- INTELLIGENC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8--------------- PERSONALITY</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9--------------- LEARNING STYL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802"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343080">
              <a:lnSpc>
                <a:spcPct val="9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Skills: Proficiency, facility, or dexterity that is acquired or developed through training or experience. </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I would like to say that I have some good skills. I am very active and I like sports. I am a good swimmer. Getting along with people is very easy for me. I am also a very good listener. I am also a very patient person. Also I am a numerical kind of person. I am good with numbers.</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There are a lot of careers out there. The career I want to aim to get is to be a doctor. A general doctor to be exact. This would suit me because I am a patient person woth numerical skills.</a:t>
            </a:r>
            <a:endParaRPr b="0" lang="en-US" sz="1600" spc="-1" strike="noStrike">
              <a:solidFill>
                <a:srgbClr val="ffffff"/>
              </a:solidFill>
              <a:latin typeface="Arial"/>
            </a:endParaRPr>
          </a:p>
        </p:txBody>
      </p:sp>
      <p:sp>
        <p:nvSpPr>
          <p:cNvPr id="1803" name="PlaceHolder 3"/>
          <p:cNvSpPr>
            <a:spLocks noGrp="1"/>
          </p:cNvSpPr>
          <p:nvPr>
            <p:ph/>
          </p:nvPr>
        </p:nvSpPr>
        <p:spPr>
          <a:xfrm>
            <a:off x="4648320" y="1600200"/>
            <a:ext cx="403848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4" name=""/>
          <p:cNvSpPr txBox="1"/>
          <p:nvPr/>
        </p:nvSpPr>
        <p:spPr>
          <a:xfrm>
            <a:off x="3132000" y="115920"/>
            <a:ext cx="291960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4"/>
                  <a:srcRect/>
                  <a:tile tx="0" ty="0" sx="100000" sy="100000" algn="ctr"/>
                </a:blipFill>
                <a:latin typeface="Arial Black"/>
              </a:rPr>
              <a:t>SKILLS</a:t>
            </a:r>
            <a:endParaRPr b="0" lang="en-US" sz="1800" spc="1" strike="noStrike">
              <a:ln w="9360">
                <a:solidFill>
                  <a:srgbClr val="000000"/>
                </a:solidFill>
                <a:miter/>
              </a:ln>
              <a:blipFill rotWithShape="0">
                <a:blip r:embed="rId5"/>
                <a:srcRect/>
                <a:tile tx="0" ty="0" sx="100000" sy="100000" algn="ctr"/>
              </a:blipFill>
              <a:latin typeface="Arial Black"/>
              <a:ea typeface="Arial Black"/>
            </a:endParaRPr>
          </a:p>
        </p:txBody>
      </p:sp>
      <p:pic>
        <p:nvPicPr>
          <p:cNvPr id="1805" name="" descr="http://pdp.bournemouth.ac.uk/images/transferable_skills.gif"/>
          <p:cNvPicPr/>
          <p:nvPr/>
        </p:nvPicPr>
        <p:blipFill>
          <a:blip r:embed="rId6"/>
          <a:stretch/>
        </p:blipFill>
        <p:spPr>
          <a:xfrm>
            <a:off x="5003640" y="2349360"/>
            <a:ext cx="3456000" cy="304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07"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9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titude: your inherent capacity, talent or ability to do something. Having a high aptitude for something means you are good at doing that something.</a:t>
            </a:r>
            <a:endParaRPr b="0" lang="en-US" sz="16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believe that my aptitudes varied. I think I am good at making decisions naturally. I believe that I have an aptitude for swimming. When I first went into a pool swimming came naturally to m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believe a good career based on my aptitude would be to be a swimmer. Maybe to be a pro swimmer one day. I would also really like to be able to go to the Olympics or some other kind of world event.</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8" name=""/>
          <p:cNvSpPr txBox="1"/>
          <p:nvPr/>
        </p:nvSpPr>
        <p:spPr>
          <a:xfrm rot="19983600">
            <a:off x="2124000" y="0"/>
            <a:ext cx="4896000" cy="1552680"/>
          </a:xfrm>
          <a:prstGeom prst="rect">
            <a:avLst/>
          </a:prstGeom>
        </p:spPr>
        <p:txBody>
          <a:bodyPr wrap="none" lIns="90000" rIns="90000" tIns="46800" bIns="46800" anchor="t" anchorCtr="1">
            <a:prstTxWarp prst="textDeflateBottom">
              <a:avLst>
                <a:gd name="adj" fmla="val 7812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APTITUDES</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pic>
        <p:nvPicPr>
          <p:cNvPr id="1809" name="" descr=""/>
          <p:cNvPicPr/>
          <p:nvPr/>
        </p:nvPicPr>
        <p:blipFill>
          <a:blip r:embed="rId1"/>
          <a:stretch/>
        </p:blipFill>
        <p:spPr>
          <a:xfrm>
            <a:off x="689040" y="1600200"/>
            <a:ext cx="3575160" cy="453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Values: relative worth, merit, or importance, something that is important to you.</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 value a lot of things. The number one thing I value is my family. If my family weren't wasn’t with me all these years I wouldn’t be the person I am today. I also treasure all the friends I have. I will always value every single one that have come and gone. The person I value the most in the world is my mother. She tries so hard to protect and raise us. When I am an adult I would like for her to take a break and I would support her.</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 career based on my values would probably be some kind of social caregiver. A social worker would be a good start, but im not that intrested in it.</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                                                                          </a:t>
            </a:r>
            <a:r>
              <a:rPr b="0" lang="en-CA" sz="1800" spc="-1" strike="noStrike">
                <a:solidFill>
                  <a:srgbClr val="ffffff"/>
                </a:solidFill>
                <a:latin typeface="Arial"/>
              </a:rPr>
              <a:t>represents family.    </a:t>
            </a:r>
            <a:endParaRPr b="0" lang="en-US" sz="1800" spc="-1" strike="noStrike">
              <a:solidFill>
                <a:srgbClr val="ffffff"/>
              </a:solidFill>
              <a:latin typeface="Arial"/>
            </a:endParaRPr>
          </a:p>
        </p:txBody>
      </p:sp>
      <p:sp>
        <p:nvSpPr>
          <p:cNvPr id="1812" name=""/>
          <p:cNvSpPr txBox="1"/>
          <p:nvPr/>
        </p:nvSpPr>
        <p:spPr>
          <a:xfrm>
            <a:off x="2484360" y="333360"/>
            <a:ext cx="40402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VALU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813" name="" descr="http://z.about.com/d/animatedtv/1/7/c/K/FamilyGuyParty.jpg"/>
          <p:cNvPicPr/>
          <p:nvPr/>
        </p:nvPicPr>
        <p:blipFill>
          <a:blip r:embed="rId1"/>
          <a:stretch/>
        </p:blipFill>
        <p:spPr>
          <a:xfrm>
            <a:off x="1258920" y="4575240"/>
            <a:ext cx="4105080" cy="228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1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titude: manner, disposition, feeling, position, etc., with regard to a person or thing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good career based on my attitudes would maybe be some kind of instructor. A teacher is the first thing that would suit me based on my attitude because I like to help others and am a positive person.</a:t>
            </a:r>
            <a:endParaRPr b="0" lang="en-US" sz="1800" spc="-1" strike="noStrike">
              <a:solidFill>
                <a:srgbClr val="ffffff"/>
              </a:solidFill>
              <a:latin typeface="Times New Roman"/>
            </a:endParaRPr>
          </a:p>
        </p:txBody>
      </p:sp>
      <p:sp>
        <p:nvSpPr>
          <p:cNvPr id="1816"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I would say that I have a positive attitude. I am cheerful of things and for people. I like to look on the bright side of things. Also I am a friendly person, and I make friends easily. I also think og my self as a helpful person. If someone doenst understand something I try to help them understand. Plus if they ask my about something I would try my best to help.</a:t>
            </a:r>
            <a:endParaRPr b="0" lang="en-US" sz="1800" spc="-1" strike="noStrike">
              <a:solidFill>
                <a:srgbClr val="ffffff"/>
              </a:solidFill>
              <a:latin typeface="Times New Roman"/>
            </a:endParaRPr>
          </a:p>
        </p:txBody>
      </p:sp>
      <p:sp>
        <p:nvSpPr>
          <p:cNvPr id="1817" name=""/>
          <p:cNvSpPr txBox="1"/>
          <p:nvPr/>
        </p:nvSpPr>
        <p:spPr>
          <a:xfrm>
            <a:off x="2411280" y="476280"/>
            <a:ext cx="3888000" cy="107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ATTITUDE</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1818" name="" descr="http://lifeinthenhs.files.wordpress.com/2009/03/teacher1.jpg"/>
          <p:cNvPicPr/>
          <p:nvPr/>
        </p:nvPicPr>
        <p:blipFill>
          <a:blip r:embed="rId3"/>
          <a:stretch/>
        </p:blipFill>
        <p:spPr>
          <a:xfrm>
            <a:off x="2700360" y="4603680"/>
            <a:ext cx="2303280" cy="2254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20"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343080">
              <a:lnSpc>
                <a:spcPct val="9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Verdana"/>
              </a:rPr>
              <a:t>Experience: a particular instance of personally encountering or undergoing something </a:t>
            </a:r>
            <a:endParaRPr b="0" lang="en-US" sz="1400" spc="-1" strike="noStrike">
              <a:solidFill>
                <a:srgbClr val="ffffff"/>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9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Verdana"/>
              </a:rPr>
              <a:t>I have had many experiences in my life. Some were harsh and unfair and some were good. One thing that I remember was 3 years ago. It was when I first stepped into high school. Everything felt new and overwhelming. It kind of felt lonely because every single one of my friends that I knew went to a different high school. It was frightening at first but I started to make friends pretty quickly. That experience taught me that no matter how bad things seem it would get better over time.</a:t>
            </a:r>
            <a:endParaRPr b="0" lang="en-US" sz="1400" spc="-1" strike="noStrike">
              <a:solidFill>
                <a:srgbClr val="ffffff"/>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9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Verdana"/>
              </a:rPr>
              <a:t>A good job out of my experiences probably would be some sort of counslor. I think so bacause ive been through a lot of things in my life and I would understand some of the feelings people have. Especially a high Scholl student.</a:t>
            </a:r>
            <a:endParaRPr b="0" lang="en-US" sz="1400" spc="-1" strike="noStrike">
              <a:solidFill>
                <a:srgbClr val="ffffff"/>
              </a:solidFill>
              <a:latin typeface="Verdana"/>
            </a:endParaRPr>
          </a:p>
        </p:txBody>
      </p:sp>
      <p:sp>
        <p:nvSpPr>
          <p:cNvPr id="1821" name=""/>
          <p:cNvSpPr txBox="1"/>
          <p:nvPr/>
        </p:nvSpPr>
        <p:spPr>
          <a:xfrm>
            <a:off x="1763640" y="260280"/>
            <a:ext cx="5400720" cy="1244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EXPERIENCES</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pic>
        <p:nvPicPr>
          <p:cNvPr id="1822" name="" descr="http://www.clipartheaven.com/clipart/education_&amp;_schools/cartoons/counselor%27s_office_1.gif"/>
          <p:cNvPicPr/>
          <p:nvPr/>
        </p:nvPicPr>
        <p:blipFill>
          <a:blip r:embed="rId1"/>
          <a:stretch/>
        </p:blipFill>
        <p:spPr>
          <a:xfrm>
            <a:off x="2627280" y="4292640"/>
            <a:ext cx="4105440" cy="256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24" name="PlaceHolder 2"/>
          <p:cNvSpPr>
            <a:spLocks noGrp="1"/>
          </p:cNvSpPr>
          <p:nvPr>
            <p:ph/>
          </p:nvPr>
        </p:nvSpPr>
        <p:spPr>
          <a:xfrm>
            <a:off x="685800" y="2833200"/>
            <a:ext cx="7696080" cy="2652840"/>
          </a:xfrm>
          <a:prstGeom prst="rect">
            <a:avLst/>
          </a:prstGeom>
          <a:noFill/>
          <a:ln w="0">
            <a:noFill/>
          </a:ln>
        </p:spPr>
        <p:txBody>
          <a:bodyPr lIns="90000" rIns="90000" tIns="46800" bIns="46800" anchor="t">
            <a:normAutofit/>
          </a:bodyPr>
          <a:p>
            <a:pPr marL="343080" indent="-343080">
              <a:lnSpc>
                <a:spcPct val="80000"/>
              </a:lnSpc>
              <a:spcBef>
                <a:spcPts val="32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Intelligence: capacity for learning, reasoning, understanding, and similar forms of mental activity; aptitude in grasping truths, relationships, facts, meanings, etc. </a:t>
            </a:r>
            <a:endParaRPr b="0" lang="en-US" sz="1300" spc="-1" strike="noStrike">
              <a:solidFill>
                <a:srgbClr val="000000"/>
              </a:solidFill>
              <a:latin typeface="Comic Sans MS"/>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mic Sans MS"/>
            </a:endParaRPr>
          </a:p>
          <a:p>
            <a:pPr marL="343080" indent="-343080">
              <a:lnSpc>
                <a:spcPct val="80000"/>
              </a:lnSpc>
              <a:spcBef>
                <a:spcPts val="32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My intelligence is more of a mathematical than artistic. I prefer to do science and math over art. I enjoy doing math problems sometimes. I am also very interested in biology. I like learning about the human body and other sorts of things related to that. I also like space and I have a little bit of intelligence in the area of astronomy.</a:t>
            </a:r>
            <a:endParaRPr b="0" lang="en-US" sz="1300" spc="-1" strike="noStrike">
              <a:solidFill>
                <a:srgbClr val="000000"/>
              </a:solidFill>
              <a:latin typeface="Comic Sans MS"/>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mic Sans MS"/>
            </a:endParaRPr>
          </a:p>
          <a:p>
            <a:pPr marL="343080" indent="-343080">
              <a:lnSpc>
                <a:spcPct val="80000"/>
              </a:lnSpc>
              <a:spcBef>
                <a:spcPts val="32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A good careers suited for my intelligence is most likely a doctor. I would really like to be a doctor it is my dream job. Another job that sounds interesting and would suit me would be an astronomer. It sounds amazing enough just hearing about the things in space but would be great to also discover them.</a:t>
            </a:r>
            <a:endParaRPr b="0" lang="en-US" sz="1300" spc="-1" strike="noStrike">
              <a:solidFill>
                <a:srgbClr val="000000"/>
              </a:solidFill>
              <a:latin typeface="Comic Sans MS"/>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mic Sans MS"/>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mic Sans MS"/>
            </a:endParaRPr>
          </a:p>
        </p:txBody>
      </p:sp>
      <p:sp>
        <p:nvSpPr>
          <p:cNvPr id="1825" name=""/>
          <p:cNvSpPr txBox="1"/>
          <p:nvPr/>
        </p:nvSpPr>
        <p:spPr>
          <a:xfrm>
            <a:off x="2124000" y="0"/>
            <a:ext cx="485316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INTELLIGENCES</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pic>
        <p:nvPicPr>
          <p:cNvPr id="1826" name="" descr=""/>
          <p:cNvPicPr/>
          <p:nvPr/>
        </p:nvPicPr>
        <p:blipFill>
          <a:blip r:embed="rId1"/>
          <a:stretch/>
        </p:blipFill>
        <p:spPr>
          <a:xfrm>
            <a:off x="0" y="981000"/>
            <a:ext cx="1898640" cy="1844640"/>
          </a:xfrm>
          <a:prstGeom prst="rect">
            <a:avLst/>
          </a:prstGeom>
          <a:ln w="0">
            <a:noFill/>
          </a:ln>
        </p:spPr>
      </p:pic>
      <p:pic>
        <p:nvPicPr>
          <p:cNvPr id="1827" name="" descr="http://www.computerfreewallpapers.com/images/wallpapers/Misconstrue-Space-Art-681299.jpeg"/>
          <p:cNvPicPr/>
          <p:nvPr/>
        </p:nvPicPr>
        <p:blipFill>
          <a:blip r:embed="rId2"/>
          <a:stretch/>
        </p:blipFill>
        <p:spPr>
          <a:xfrm>
            <a:off x="6084720" y="4941720"/>
            <a:ext cx="2195640" cy="1581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8"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Personality: the visible aspect of one's character as it impresses others</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 have a enthusiastic personality. I am very cheerful and look forward to a lot of things. I believe that I am kind, caring, thoughtful and eager to please. I also am a patient person. If I have to wait for something  I can wait.</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good job that suits my personality would be a a positive environment where I could be eager to learn. Maybe a some sort of couch would do, or something along that line. Such  as a P.E teacher</a:t>
            </a:r>
            <a:endParaRPr b="0" lang="en-US" sz="1600" spc="-1" strike="noStrike">
              <a:solidFill>
                <a:srgbClr val="003366"/>
              </a:solidFill>
              <a:latin typeface="Arial"/>
            </a:endParaRPr>
          </a:p>
        </p:txBody>
      </p:sp>
      <p:sp>
        <p:nvSpPr>
          <p:cNvPr id="1829" name=""/>
          <p:cNvSpPr txBox="1"/>
          <p:nvPr/>
        </p:nvSpPr>
        <p:spPr>
          <a:xfrm>
            <a:off x="1763640" y="333360"/>
            <a:ext cx="4537080" cy="1224000"/>
          </a:xfrm>
          <a:prstGeom prst="rect">
            <a:avLst/>
          </a:prstGeom>
        </p:spPr>
        <p:txBody>
          <a:bodyPr wrap="none" lIns="90000" rIns="90000" tIns="46800" bIns="46800" anchor="t" anchorCtr="1">
            <a:prstTxWarp prst="textFadeUp">
              <a:avLst>
                <a:gd name="adj" fmla="val 80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PERSONALITY</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pic>
        <p:nvPicPr>
          <p:cNvPr id="1830" name="" descr=""/>
          <p:cNvPicPr/>
          <p:nvPr/>
        </p:nvPicPr>
        <p:blipFill>
          <a:blip r:embed="rId1"/>
          <a:stretch/>
        </p:blipFill>
        <p:spPr>
          <a:xfrm>
            <a:off x="5580000" y="3213000"/>
            <a:ext cx="2376720" cy="192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02:31:22Z</dcterms:created>
  <dc:creator>Hasan</dc:creator>
  <dc:description/>
  <dc:language>en-US</dc:language>
  <cp:lastModifiedBy>john.deguzman</cp:lastModifiedBy>
  <dcterms:modified xsi:type="dcterms:W3CDTF">2010-02-25T22:08:12Z</dcterms:modified>
  <cp:revision>3</cp:revision>
  <dc:subject/>
  <dc:title>Slide 1</dc:title>
</cp:coreProperties>
</file>