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DC0-CE7B-4459-BA07-D377A49C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BB5-42B7-45DA-977A-C7894199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DB4-0443-4B9A-B8F8-BC2CEEFB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7CC-A8A1-431F-8B0C-AE6B2DC8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285-F362-42F3-838A-1A976053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006-A76F-43CB-9871-E6B47A16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B58-D7C4-48C3-9D81-D82E8CF0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E81-E850-4B3B-9044-878C803E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B61-B006-404E-BAE7-F0CDB855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524-E080-4AB5-81BE-4DD2ED2E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90F-91C1-4B40-A7A6-813B4648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79C-28A2-4730-8F38-C914E733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81CC-81BF-4F71-B612-ADEA1A899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115920"/>
            <a:ext cx="712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apanese Brush"/>
              </a:rPr>
              <a:t>Self Information Portrait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apanese Brush"/>
              <a:ea typeface="Japanese Brush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4221000"/>
            <a:ext cx="8675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treet Writer (noah)"/>
              </a:rPr>
              <a:t>John Derick Bruca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treet Writer (noah)"/>
              <a:ea typeface="Street Writer (noah)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1841400" cy="1222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700360" y="2276640"/>
            <a:ext cx="2755800" cy="1833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867280" y="2060640"/>
            <a:ext cx="1219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nglish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Def: How you Grasp knowledge and understan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Auditory and visual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Kinesthetic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ngli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nglish"/>
              </a:rPr>
              <a:t>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Jour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News Ancho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ngli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nglish"/>
              </a:rPr>
              <a:t>Auto Mechan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1: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2: A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3: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4: At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5: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6: Intellig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7: Pers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Page8: Learning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71640" y="189000"/>
            <a:ext cx="734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hopinScript"/>
              </a:rPr>
              <a:t>Table Of Contents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hopinScript"/>
              <a:ea typeface="ChopinScrip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1413000"/>
            <a:ext cx="2401920" cy="180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59280" y="3068640"/>
            <a:ext cx="259236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724360" y="4700520"/>
            <a:ext cx="29512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Skil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Def: </a:t>
            </a:r>
            <a:r>
              <a:rPr b="0" lang="en-US" sz="4000" spc="-1" strike="noStrike">
                <a:solidFill>
                  <a:srgbClr val="ffffff"/>
                </a:solidFill>
                <a:latin typeface="Brush Script MT"/>
              </a:rPr>
              <a:t>things you’ve learned and then good at.</a:t>
            </a: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Music (instruments: dru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Picture (able to draw and visualiz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Arti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ush Script MT"/>
              </a:rPr>
              <a:t>Career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MT"/>
              </a:rPr>
              <a:t>Musician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MT"/>
              </a:rPr>
              <a:t>Civil engine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53240" y="4411800"/>
            <a:ext cx="32907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Aptitud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Def: </a:t>
            </a: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Natural skills/ things You’re naturally goo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Good with working with my 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Physically able to activ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Athletic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Brush Script MT"/>
              </a:rPr>
              <a:t>Car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Persona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rus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Brush Script MT"/>
              </a:rPr>
              <a:t>Auto Mech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2764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333360"/>
            <a:ext cx="1657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oper Black"/>
              </a:rPr>
              <a:t>Valu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Def: Something that You Treasure and care for in You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Financi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Soci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Family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are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Accou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Social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olice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92720" y="4059360"/>
            <a:ext cx="34815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Attitud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he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Passio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Ambit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Def: manner, disposition, feeling, posi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Handwriting"/>
              </a:rPr>
              <a:t>Care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Do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Lucida Handwri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Handwriting"/>
              </a:rPr>
              <a:t>Police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2070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oper Black"/>
              </a:rPr>
              <a:t>Experiences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onstruction 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Factory Clea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Meat Shop Cash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ef: a particular instance of personally encountering or undergoing somet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are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onstruction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Carp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oper Black"/>
              </a:rPr>
              <a:t>Dry W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Monotype Corsiva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77472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ef: capacity for learning, reasoning, understanding, and similar forms of ment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usic Sm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Picture Sm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Civil Engin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Music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attoo 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apanese Brush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Def: the visible aspect of one's character as it impresses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Loy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Trust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Japanese Bru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Ambit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Japanese Brush"/>
              </a:rPr>
              <a:t>Care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Police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Det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Japanese Bru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Japanese Brush"/>
              </a:rPr>
              <a:t>Lawy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1:33:05Z</dcterms:created>
  <dc:creator>j.brucal</dc:creator>
  <dc:description/>
  <dc:language>en-US</dc:language>
  <cp:lastModifiedBy>John</cp:lastModifiedBy>
  <dcterms:modified xsi:type="dcterms:W3CDTF">2010-02-26T03:50:37Z</dcterms:modified>
  <cp:revision>5</cp:revision>
  <dc:subject/>
  <dc:title>Slide 1</dc:title>
</cp:coreProperties>
</file>