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1FA-1092-4F4C-8C92-9613EFCA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1A1-8F61-4990-A439-2F5AB0F4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A27-F79C-406D-8828-1F991FF0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63B-E7CE-4445-B27B-D710B0E0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351-745B-46FB-AF75-6C8E2F9B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2AE-262C-422F-90CF-E14FA381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F8E-57C9-4D92-B23A-305D7DD6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7AD-BBBB-4920-A691-60A76DA2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20B-3C15-4C70-A74B-86AA78AA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0DA-33C6-415B-9C74-E5828731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225-88B1-4A97-9235-7442C378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709-5BE4-4223-A4AE-1C37D5BE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AF96-A816-4C06-A7A8-0789E6ED8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1592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apanese Brush"/>
              </a:rPr>
              <a:t>Self Information Portrait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apanese Brush"/>
              <a:ea typeface="Japanese Brush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4221000"/>
            <a:ext cx="8675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treet Writer (noah)"/>
              </a:rPr>
              <a:t>John Derick Bruca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treet Writer (noah)"/>
              <a:ea typeface="Street Writer (noah)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1841400" cy="1222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00360" y="2276640"/>
            <a:ext cx="2755800" cy="183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867280" y="2060640"/>
            <a:ext cx="1219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lish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Def: How you Grasp knowledge and understa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Auditory and visual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Kinesthetic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Jour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News Ancho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Auto Mecha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1: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2: A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3: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4: At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5: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6: Intellig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7: 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8: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71640" y="189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hopinScript"/>
              </a:rPr>
              <a:t>Table Of Contents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hopinScript"/>
              <a:ea typeface="ChopinScrip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240192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59280" y="3068640"/>
            <a:ext cx="259236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24360" y="4700520"/>
            <a:ext cx="2951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Skil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US" sz="4000" spc="-1" strike="noStrike">
                <a:solidFill>
                  <a:srgbClr val="ffffff"/>
                </a:solidFill>
                <a:latin typeface="Brush Script MT"/>
              </a:rPr>
              <a:t>things you’ve learned and then good at.</a:t>
            </a: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Music (instruments: dru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Picture (able to draw and visualiz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Art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Career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Musician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Civil engine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53240" y="4411800"/>
            <a:ext cx="32907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Aptitud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Natural skills/ things You’re naturally goo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Good with working with my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Physically able to activ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Athletic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Brush Script MT"/>
              </a:rPr>
              <a:t>Car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Persona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Auto Mech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333360"/>
            <a:ext cx="1657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Valu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Def: Something that You Treasure and care for in You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inan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o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amily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are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ocial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olic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4059360"/>
            <a:ext cx="34815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Attitud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he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Passio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Ambit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Def: manner, disposition, feeling, posi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are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Police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2070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oper Black"/>
              </a:rPr>
              <a:t>Experiences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struction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Factory Clea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Meat Shop Cas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f: a particular instance of personally encountering or undergoing some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are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onstructio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arp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Dry W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77472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ef: capacity for learning, reasoning, understanding, and similar forms of ment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usic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Picture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ivil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usic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attoo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apanese Brush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f: the visible aspect of one's character as it impresses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Trust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Ambit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Care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Poli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Det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Lawy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33:05Z</dcterms:created>
  <dc:creator>j.brucal</dc:creator>
  <dc:description/>
  <dc:language>en-US</dc:language>
  <cp:lastModifiedBy>John</cp:lastModifiedBy>
  <dcterms:modified xsi:type="dcterms:W3CDTF">2010-02-26T03:50:37Z</dcterms:modified>
  <cp:revision>5</cp:revision>
  <dc:subject/>
  <dc:title>Slide 1</dc:title>
</cp:coreProperties>
</file>