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70C-0868-48B7-B671-9FF2663B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B7E-5CF8-4912-B3EB-96E41305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F12-73DE-4F10-9F7E-168BAF43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72F-6EEC-43C3-998A-9F21CFF7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9F1-0AFA-4A36-B7B6-4AB14A3A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C89-14E2-4B82-8186-26259F3C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373-EBA5-4527-923F-13D3B87E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8E1D-BCC4-4CF7-A9C5-314D6909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741-D87F-40EE-90F6-127703FA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B9A-7804-4EAE-ADB3-1C80BA92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4FF-241E-45FB-A266-F6DEC255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BA7-F2FB-4849-8CB2-9FC2CA7B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0749-9D82-49A3-8DBE-01F61C259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115920"/>
            <a:ext cx="712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apanese Brush"/>
              </a:rPr>
              <a:t>Self Information Portrait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apanese Brush"/>
              <a:ea typeface="Japanese Brush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4221000"/>
            <a:ext cx="8675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treet Writer (noah)"/>
              </a:rPr>
              <a:t>John Derick Brucal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treet Writer (noah)"/>
              <a:ea typeface="Street Writer (noah)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1841400" cy="1222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700360" y="2276640"/>
            <a:ext cx="2755800" cy="1833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867280" y="2060640"/>
            <a:ext cx="1219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lish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Def: How you Grasp knowledge and understan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Auditory and visual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Kinesthetic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Jour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News Ancho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Auto Mechan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1: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2: A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3: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4: At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5: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6: Intellig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7: Pers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8: Learning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71640" y="189000"/>
            <a:ext cx="734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hopinScript"/>
              </a:rPr>
              <a:t>Table Of Contents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hopinScript"/>
              <a:ea typeface="ChopinScrip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1413000"/>
            <a:ext cx="2401920" cy="180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59280" y="3068640"/>
            <a:ext cx="2592360" cy="173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724360" y="4700520"/>
            <a:ext cx="29512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rush Script MT"/>
              </a:rPr>
              <a:t>Skil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Def: </a:t>
            </a:r>
            <a:r>
              <a:rPr b="0" lang="en-US" sz="4000" spc="-1" strike="noStrike">
                <a:solidFill>
                  <a:srgbClr val="ffffff"/>
                </a:solidFill>
                <a:latin typeface="Brush Script MT"/>
              </a:rPr>
              <a:t>things you’ve learned and then good at.</a:t>
            </a: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Music (instruments: dru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Picture (able to draw and visualiz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Arti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Career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MT"/>
              </a:rPr>
              <a:t>Musician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MT"/>
              </a:rPr>
              <a:t>Civil engine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53240" y="4411800"/>
            <a:ext cx="32907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rush Script MT"/>
              </a:rPr>
              <a:t>Aptitud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Def: </a:t>
            </a: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Natural skills/ things You’re naturally goo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Good with working with my 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Physically able to activ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Athleticis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Brush Script MT"/>
              </a:rPr>
              <a:t>Car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Persona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Auto Mech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27640" y="4670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333360"/>
            <a:ext cx="1657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Valu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Def: Something that You Treasure and care for in You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Financi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Soci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Family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are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Accou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Social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olice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92720" y="4059360"/>
            <a:ext cx="34815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Attitud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he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Passio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Ambit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Def: manner, disposition, feeling, posit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are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Do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Police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20700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oper Black"/>
              </a:rPr>
              <a:t>Experiences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onstruction 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Factory Clea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Meat Shop Cash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f: a particular instance of personally encountering or undergoing somet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are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Construction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Carp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Dry W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Monotype Corsiva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77472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ef: capacity for learning, reasoning, understanding, and similar forms of ment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usic Sm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Picture Sm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Civil Engin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Music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attoo 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apanese Brush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Def: the visible aspect of one's character as it impresses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Loy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Trustwor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Ambit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Care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Police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Det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Lawy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1:33:05Z</dcterms:created>
  <dc:creator>j.brucal</dc:creator>
  <dc:description/>
  <dc:language>en-US</dc:language>
  <cp:lastModifiedBy>John</cp:lastModifiedBy>
  <dcterms:modified xsi:type="dcterms:W3CDTF">2010-02-26T03:50:37Z</dcterms:modified>
  <cp:revision>5</cp:revision>
  <dc:subject/>
  <dc:title>Slide 1</dc:title>
</cp:coreProperties>
</file>