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A58D-917F-4ECF-AC33-06849F892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4499-EA6B-430C-AB65-E2DC34A1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4C8A-7CB1-4B07-AD3B-A79858C53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B4E4-33F4-43EC-BC41-10AAFC50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2025-A12F-4044-8341-94FE4B4F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E742-5C23-4E7C-BEFD-54C16839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D1B2-2380-43D1-8CE5-71BA353B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F070-2D07-4373-ABDC-9F160ABC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CC7B-1354-4BDF-B2BC-92E5F371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30C2-AFC9-4431-8856-998A4DAD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2379-D5AF-4195-9C0F-A85812F6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FF58-5456-4F98-99BC-19006549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BF0B-7DC1-4AC2-A842-54A58A426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fresh.snowboardermag.com/wp-content/uploads/gallery/2010-burton-snowboards/burton-custom-v-rocker-snowboard.jpg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ediamakersafrica.com/images/image/Compass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209080" cy="16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yan's self information title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3141720"/>
            <a:ext cx="3295440" cy="3716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211640" y="3213000"/>
            <a:ext cx="4680000" cy="3275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00720" y="1844640"/>
            <a:ext cx="2592360" cy="1298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900000" y="2133720"/>
            <a:ext cx="460080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24360" y="2060640"/>
            <a:ext cx="38098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03280" y="692280"/>
            <a:ext cx="612144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826560" y="1557360"/>
            <a:ext cx="374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lig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1916280"/>
            <a:ext cx="19396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ell with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with my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t of indic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33624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titud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l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ell with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27640" y="2924280"/>
            <a:ext cx="42861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l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-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b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284720" y="1989000"/>
            <a:ext cx="392112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ly occup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Att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1413000"/>
            <a:ext cx="381960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d at metro t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d at langara coll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d at pressure washing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03640" y="4149720"/>
            <a:ext cx="252072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lig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with my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843280" y="2781360"/>
            <a:ext cx="315756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-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635280" y="1700280"/>
            <a:ext cx="43704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20:46:42Z</dcterms:created>
  <dc:creator>r.barwick</dc:creator>
  <dc:description/>
  <dc:language>en-US</dc:language>
  <cp:lastModifiedBy>r.barwick</cp:lastModifiedBy>
  <dcterms:modified xsi:type="dcterms:W3CDTF">2010-02-23T22:24:33Z</dcterms:modified>
  <cp:revision>5</cp:revision>
  <dc:subject/>
  <dc:title>Ryan's self information title page</dc:title>
</cp:coreProperties>
</file>