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9724-4FD3-4DF8-9284-1B000DC9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62BA-F8A4-433F-A27D-B29CF77F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86AC-A96F-4B98-AA92-91E6B5F7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B49B-CD32-4268-9044-216F0CA1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08D8-FF1B-4FBC-A640-CE72E71B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05F8-D010-48B1-867D-C64D709B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ECAF-BB37-4D59-9E3A-081AC121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6AC0-862A-496E-BEF6-2884A6A5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9D3B-01DD-4BDE-BAE4-CD4A8CF7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1FDD-E2A4-475A-9A00-2056DCFE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B826-00E7-4D75-882D-C05F4131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FE7E-EBD9-4931-A346-D19B9418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9CB0-24E0-4A0E-B8F1-1A8D88298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fresh.snowboardermag.com/wp-content/uploads/gallery/2010-burton-snowboards/burton-custom-v-rocker-snowboard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ediamakersafrica.com/images/image/Compass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09080" cy="16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yan's self information tit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3141720"/>
            <a:ext cx="3295440" cy="3716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211640" y="3213000"/>
            <a:ext cx="4680000" cy="3275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00720" y="1844640"/>
            <a:ext cx="2592360" cy="1298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00000" y="2133720"/>
            <a:ext cx="46008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2060640"/>
            <a:ext cx="38098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6121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826560" y="1557360"/>
            <a:ext cx="374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916280"/>
            <a:ext cx="19396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ell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m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indic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3624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titu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ell with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27640" y="2924280"/>
            <a:ext cx="42861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-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284720" y="1989000"/>
            <a:ext cx="392112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occup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At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381960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at metro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at langara col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at pressure washing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03640" y="4149720"/>
            <a:ext cx="25207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m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15756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-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635280" y="1700280"/>
            <a:ext cx="43704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20:46:42Z</dcterms:created>
  <dc:creator>r.barwick</dc:creator>
  <dc:description/>
  <dc:language>en-US</dc:language>
  <cp:lastModifiedBy>r.barwick</cp:lastModifiedBy>
  <dcterms:modified xsi:type="dcterms:W3CDTF">2010-02-23T22:24:33Z</dcterms:modified>
  <cp:revision>5</cp:revision>
  <dc:subject/>
  <dc:title>Ryan's self information title page</dc:title>
</cp:coreProperties>
</file>