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3E7F-80FC-466F-B383-1CAFCC4AB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5D12-54C9-4681-811A-E3D0F5EFD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8EEF-A494-4EBB-910A-4EB558451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9CC2-AD32-4DEE-83FB-971B00620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2245-AB3F-4EBF-9094-992EDA5B5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007F-83D3-423C-98A7-0815EBDE8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E480-8C34-4834-8DA1-5468955E0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0C69-1100-4B73-A186-803BE47FC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DA05-C873-4208-B4BD-6E2CFC52A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22A8-0F0C-4AAD-8CD8-89A53C7BA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3604-3B26-4917-9E0E-F8EE4D0ED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563D-23BD-473C-A7CB-C89208091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8B065-83DF-4184-A3CC-410F313540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http://fresh.snowboardermag.com/wp-content/uploads/gallery/2010-burton-snowboards/burton-custom-v-rocker-snowboard.jpg" TargetMode="External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mediamakersafrica.com/images/image/Compass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280" y="189000"/>
            <a:ext cx="8209080" cy="161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yan's self information title p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50920" y="3141720"/>
            <a:ext cx="3295440" cy="37162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211640" y="3213000"/>
            <a:ext cx="4680000" cy="32752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See full size imag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300720" y="1844640"/>
            <a:ext cx="2592360" cy="12985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900000" y="2133720"/>
            <a:ext cx="4600800" cy="92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arning Sty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di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924360" y="2060640"/>
            <a:ext cx="3809880" cy="29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403280" y="692280"/>
            <a:ext cx="6121440" cy="56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826560" y="1557360"/>
            <a:ext cx="374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titu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titu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ri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llig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ing Sty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651640" y="1916280"/>
            <a:ext cx="193968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ki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wor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s well with 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with my h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lot of indica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fid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292720" y="1557360"/>
            <a:ext cx="3362400" cy="48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titud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hle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 well with h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go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427640" y="2924280"/>
            <a:ext cx="428616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hle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-go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iend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b secu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284720" y="1989000"/>
            <a:ext cx="3921120" cy="36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ttitu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erge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ily occupi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itive Attitu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572000" y="1413000"/>
            <a:ext cx="3819600" cy="38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eri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ed at metro t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ed at langara coll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ed at pressure washing busi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203640" y="4149720"/>
            <a:ext cx="2520720" cy="16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llig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with my h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843280" y="2781360"/>
            <a:ext cx="3157560" cy="36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-go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635280" y="1700280"/>
            <a:ext cx="43704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8T20:46:42Z</dcterms:created>
  <dc:creator>r.barwick</dc:creator>
  <dc:description/>
  <dc:language>en-US</dc:language>
  <cp:lastModifiedBy>r.barwick</cp:lastModifiedBy>
  <dcterms:modified xsi:type="dcterms:W3CDTF">2010-02-23T22:24:33Z</dcterms:modified>
  <cp:revision>5</cp:revision>
  <dc:subject/>
  <dc:title>Ryan's self information title page</dc:title>
</cp:coreProperties>
</file>