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824A-772C-411A-A7BC-6A72328A3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7081-45BE-48AC-B87F-68A76236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46EC-5F9D-42BC-B3EE-71E30E7AD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96D9-92FB-41CC-BACB-13F50CAAC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D6D2-7B4F-40FC-8FAC-A7277C94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3394-2094-4E96-9514-1BD3FE15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EBF3-3177-49E6-AE7C-09415FB0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8A80-866D-41DA-A910-5D6CA492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7927-28BF-427B-ADF2-26D42520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9A94-3156-4C1C-9251-2AB678F9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B925-C008-4B5A-9202-65A19FC5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FB2C-DD48-4EA2-9910-371C5F6A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EC92-32E7-4EB7-9F4A-DDE25B764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fresh.snowboardermag.com/wp-content/uploads/gallery/2010-burton-snowboards/burton-custom-v-rocker-snowboard.jpg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mediamakersafrica.com/images/image/Compass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209080" cy="161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yan's self information title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0920" y="3141720"/>
            <a:ext cx="3295440" cy="3716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211640" y="3213000"/>
            <a:ext cx="4680000" cy="3275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00720" y="1844640"/>
            <a:ext cx="2592360" cy="1298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900000" y="2133720"/>
            <a:ext cx="460080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Sty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924360" y="2060640"/>
            <a:ext cx="38098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03280" y="692280"/>
            <a:ext cx="612144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826560" y="1557360"/>
            <a:ext cx="374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lig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1916280"/>
            <a:ext cx="19396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wo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ell with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with my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t of indic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92720" y="1557360"/>
            <a:ext cx="336240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titud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hl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well with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427640" y="2924280"/>
            <a:ext cx="428616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hl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-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b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284720" y="1989000"/>
            <a:ext cx="392112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itu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ily occup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Att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0" y="1413000"/>
            <a:ext cx="381960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d at metro t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d at langara coll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d at pressure washing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03640" y="4149720"/>
            <a:ext cx="252072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llig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with my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843280" y="2781360"/>
            <a:ext cx="315756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-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635280" y="1700280"/>
            <a:ext cx="43704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20:46:42Z</dcterms:created>
  <dc:creator>r.barwick</dc:creator>
  <dc:description/>
  <dc:language>en-US</dc:language>
  <cp:lastModifiedBy>r.barwick</cp:lastModifiedBy>
  <dcterms:modified xsi:type="dcterms:W3CDTF">2010-02-23T22:24:33Z</dcterms:modified>
  <cp:revision>5</cp:revision>
  <dc:subject/>
  <dc:title>Ryan's self information title page</dc:title>
</cp:coreProperties>
</file>