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5A3-2D7D-4F46-B001-4DDED6E9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17F-D4F7-4FAF-88CC-47F23733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73E-795A-4E5E-9C8B-49DA202D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86F-6642-4EE0-A0A3-2008D92E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60C-B470-46AF-B457-471A15EA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841-B829-4796-A943-4079C44B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78D-3D5F-4A50-B16D-58F460AB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D4F-945E-4E5A-89C8-FBB9DC1D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A1D-1B06-47B8-AFFE-0591826D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F09-BFBB-43A7-AA92-03C13C87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B0A-B5CC-49DF-9B25-604C84AB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06A-4928-43C0-AF8D-F4728693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299E-8B4D-4E25-85F9-0318D0F22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fresh.snowboardermag.com/wp-content/uploads/gallery/2010-burton-snowboards/burton-custom-v-rocker-snowboard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makersafrica.com/images/image/Compas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16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yan's self information tit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3295440" cy="3716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4680000" cy="327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1844640"/>
            <a:ext cx="2592360" cy="129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2133720"/>
            <a:ext cx="46008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26560" y="155736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916280"/>
            <a:ext cx="1939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indi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624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39211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occu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8196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metro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langara c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pressure washing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520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1575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4370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20:46:42Z</dcterms:created>
  <dc:creator>r.barwick</dc:creator>
  <dc:description/>
  <dc:language>en-US</dc:language>
  <cp:lastModifiedBy>r.barwick</cp:lastModifiedBy>
  <dcterms:modified xsi:type="dcterms:W3CDTF">2010-02-23T22:24:33Z</dcterms:modified>
  <cp:revision>5</cp:revision>
  <dc:subject/>
  <dc:title>Ryan's self information title page</dc:title>
</cp:coreProperties>
</file>