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989-FB70-4950-BC4B-D559A154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AE5-158B-42F1-831C-A7E0B376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A1D-039C-484A-BC27-D43E4830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5B3-2E49-48F5-8C57-CF6419A2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0A4-E8FF-4D86-B323-16F6CD4F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F4B-66ED-4280-8360-3B016FFE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14C-39D3-4288-98E1-393A7EF0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01B-5641-424F-8376-7992183F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D41-D370-4466-8D60-5A261AB2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F2F-0D73-4D87-BE61-18B81CF7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6B4-BF42-4CF5-B2ED-242F587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254-38A4-4D80-BD72-0A9D9BA8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249-0A63-4B3D-93B9-EA88F22D6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indianaintellectualproperty.files.wordpress.com/2009/09/trademarknotice.jpg&amp;imgrefurl=http://oregonintellectualproperty.wordpress.com/2009/09/21/copyright-and-trademark-issues-for-blogs/&amp;usg=__Is7EmkwETUTRLKMw-DUv3IN6VaU=&amp;h=348&amp;w=348&amp;sz=22&amp;hl=en&amp;start=4&amp;itbs=1&amp;tbnid=O1f0_dsuZHlx_M:&amp;tbnh=120&amp;tbnw=120&amp;prev=/images%3Fq%3Dtrademark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feskills-consultancy.com/db5/00451/lifeskills-consultancy.com/_uimages/personality1.bm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ton’s Self Information Por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620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302400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284720" y="2205000"/>
            <a:ext cx="3819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25336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 2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7147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24321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thin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ial 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artoon book"/>
          <p:cNvPicPr/>
          <p:nvPr/>
        </p:nvPicPr>
        <p:blipFill>
          <a:blip r:embed="rId1"/>
          <a:stretch/>
        </p:blipFill>
        <p:spPr>
          <a:xfrm>
            <a:off x="5003640" y="2852640"/>
            <a:ext cx="2791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k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71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565360"/>
            <a:ext cx="3314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2:21:07Z</dcterms:created>
  <dc:creator>p.weis</dc:creator>
  <dc:description/>
  <dc:language>en-US</dc:language>
  <cp:lastModifiedBy>p.weis</cp:lastModifiedBy>
  <dcterms:modified xsi:type="dcterms:W3CDTF">2010-02-25T17:01:48Z</dcterms:modified>
  <cp:revision>5</cp:revision>
  <dc:subject/>
  <dc:title>Preston’s Self Information Portrait</dc:title>
</cp:coreProperties>
</file>