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38A-E105-4748-B244-3CEC754E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BF7-E4CD-42B6-B10E-A683E6DE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A9A-8F2B-43D0-B216-EDF1A2B1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C4A-98DD-4FCD-9294-35286333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ADD-2F97-4BA5-A499-DEC4E34F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053-F89F-4660-A948-30E70DE4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8D2-64AE-4378-AEBF-592D358F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E52-0215-4F0A-AABB-F00EB033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173-0C03-4595-9C11-302EC0CC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141-E39C-4E6D-9B37-06A3A4BA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2B3-2759-4F79-A11C-D2C31597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C28-5243-43F7-BECE-A126A45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D2FB-854A-48D3-99A9-AB3AE42C3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indianaintellectualproperty.files.wordpress.com/2009/09/trademarknotice.jpg&amp;imgrefurl=http://oregonintellectualproperty.wordpress.com/2009/09/21/copyright-and-trademark-issues-for-blogs/&amp;usg=__Is7EmkwETUTRLKMw-DUv3IN6VaU=&amp;h=348&amp;w=348&amp;sz=22&amp;hl=en&amp;start=4&amp;itbs=1&amp;tbnid=O1f0_dsuZHlx_M:&amp;tbnh=120&amp;tbnw=120&amp;prev=/images%3Fq%3Dtrademark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feskills-consultancy.com/db5/00451/lifeskills-consultancy.com/_uimages/personality1.bm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ton’s Self Information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84720" y="22050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25336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2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7147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4321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artoon book"/>
          <p:cNvPicPr/>
          <p:nvPr/>
        </p:nvPicPr>
        <p:blipFill>
          <a:blip r:embed="rId1"/>
          <a:stretch/>
        </p:blipFill>
        <p:spPr>
          <a:xfrm>
            <a:off x="5003640" y="2852640"/>
            <a:ext cx="2791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k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71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565360"/>
            <a:ext cx="3314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2:21:07Z</dcterms:created>
  <dc:creator>p.weis</dc:creator>
  <dc:description/>
  <dc:language>en-US</dc:language>
  <cp:lastModifiedBy>p.weis</cp:lastModifiedBy>
  <dcterms:modified xsi:type="dcterms:W3CDTF">2010-02-25T17:01:48Z</dcterms:modified>
  <cp:revision>5</cp:revision>
  <dc:subject/>
  <dc:title>Preston’s Self Information Portrait</dc:title>
</cp:coreProperties>
</file>