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C59-BD6A-4558-9A49-2EC476BD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20A-13D1-4AD6-9380-54DDB016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778-D416-4740-852D-1F12B660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30C-F664-4A14-AF23-280EB371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D85-13A9-4ED2-9ABB-906FD7CC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CD5-F45C-49FB-99B3-4828C997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199-DFA1-4DC3-B4D5-1AB5288C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21B-EEE5-4907-9187-3D08DAD9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559-BA76-49D9-AE5A-8C412D52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833-BE72-4B43-8CDD-2788EB8A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158-CCD8-417E-863B-F9657A92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23E-E714-4E58-A749-D641D457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9648-3E8A-4D05-BD0E-70D9DB7FE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indianaintellectualproperty.files.wordpress.com/2009/09/trademarknotice.jpg&amp;imgrefurl=http://oregonintellectualproperty.wordpress.com/2009/09/21/copyright-and-trademark-issues-for-blogs/&amp;usg=__Is7EmkwETUTRLKMw-DUv3IN6VaU=&amp;h=348&amp;w=348&amp;sz=22&amp;hl=en&amp;start=4&amp;itbs=1&amp;tbnid=O1f0_dsuZHlx_M:&amp;tbnh=120&amp;tbnw=120&amp;prev=/images%3Fq%3Dtrademark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feskills-consultancy.com/db5/00451/lifeskills-consultancy.com/_uimages/personality1.bm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ton’s Self Information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62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284720" y="2205000"/>
            <a:ext cx="3819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25336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2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7147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24321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al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artoon book"/>
          <p:cNvPicPr/>
          <p:nvPr/>
        </p:nvPicPr>
        <p:blipFill>
          <a:blip r:embed="rId1"/>
          <a:stretch/>
        </p:blipFill>
        <p:spPr>
          <a:xfrm>
            <a:off x="5003640" y="2852640"/>
            <a:ext cx="2791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k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571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565360"/>
            <a:ext cx="3314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2:21:07Z</dcterms:created>
  <dc:creator>p.weis</dc:creator>
  <dc:description/>
  <dc:language>en-US</dc:language>
  <cp:lastModifiedBy>p.weis</cp:lastModifiedBy>
  <dcterms:modified xsi:type="dcterms:W3CDTF">2010-02-25T17:01:48Z</dcterms:modified>
  <cp:revision>5</cp:revision>
  <dc:subject/>
  <dc:title>Preston’s Self Information Portrait</dc:title>
</cp:coreProperties>
</file>