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D106-D6C6-4BA4-B012-92B2A383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62EB-0341-4607-AEA3-39B64EB5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F9D-E0B1-4836-AFCE-FFA92735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75D-4211-409A-8CDB-F010682C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AEF-24FA-4F30-A68F-0CDEE8EA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921-5EE7-4CCD-9B26-75F048D3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DE9B-D69D-4FDA-804D-A82AE663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2D3B-FFE7-4D86-98C1-25BEE2AE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04E-C453-45AB-9C73-375E6885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7E87-C6BE-4D9D-A15C-C9B25679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8CE-E16B-4471-B484-BDBBEC86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641-6A0B-4282-BF1C-42A302EF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30C0-7B44-487D-A938-7540D3942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indianaintellectualproperty.files.wordpress.com/2009/09/trademarknotice.jpg&amp;imgrefurl=http://oregonintellectualproperty.wordpress.com/2009/09/21/copyright-and-trademark-issues-for-blogs/&amp;usg=__Is7EmkwETUTRLKMw-DUv3IN6VaU=&amp;h=348&amp;w=348&amp;sz=22&amp;hl=en&amp;start=4&amp;itbs=1&amp;tbnid=O1f0_dsuZHlx_M:&amp;tbnh=120&amp;tbnw=120&amp;prev=/images%3Fq%3Dtrademark%26hl%3Den%26safe%3Dactive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feskills-consultancy.com/db5/00451/lifeskills-consultancy.com/_uimages/personality1.bmp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ton’s Self Information Port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620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3024000" cy="223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284720" y="2205000"/>
            <a:ext cx="3819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38098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25336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2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ell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27147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thin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243216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thin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4286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ial 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cartoon book"/>
          <p:cNvPicPr/>
          <p:nvPr/>
        </p:nvPicPr>
        <p:blipFill>
          <a:blip r:embed="rId1"/>
          <a:stretch/>
        </p:blipFill>
        <p:spPr>
          <a:xfrm>
            <a:off x="5003640" y="2852640"/>
            <a:ext cx="27910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k 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5718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565360"/>
            <a:ext cx="33148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22:21:07Z</dcterms:created>
  <dc:creator>p.weis</dc:creator>
  <dc:description/>
  <dc:language>en-US</dc:language>
  <cp:lastModifiedBy>p.weis</cp:lastModifiedBy>
  <dcterms:modified xsi:type="dcterms:W3CDTF">2010-02-25T17:01:48Z</dcterms:modified>
  <cp:revision>5</cp:revision>
  <dc:subject/>
  <dc:title>Preston’s Self Information Portrait</dc:title>
</cp:coreProperties>
</file>