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98A-774E-40BD-A4E2-ED934FEA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12D-79DA-48CC-A112-3F029DA1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DA8-320B-4DDA-BE4E-FCD0A7B8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027-22B1-443B-BC3E-6E18496A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3DC-FA88-499B-AA72-79194BC5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A14-DABA-4B73-8ECD-D3207D31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3A5-F498-40A0-A736-C24E99E1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BA1-5F8D-429D-BD78-3DE170FC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E01-5F96-407F-A860-794FEBCE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021-5372-40DD-A4B1-BCE79B3B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06B-5A36-49D8-9AAA-5E48F04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DC0-94B6-4B3A-9651-6645BC6D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1F08-D1BC-4491-B832-429008A52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indianaintellectualproperty.files.wordpress.com/2009/09/trademarknotice.jpg&amp;imgrefurl=http://oregonintellectualproperty.wordpress.com/2009/09/21/copyright-and-trademark-issues-for-blogs/&amp;usg=__Is7EmkwETUTRLKMw-DUv3IN6VaU=&amp;h=348&amp;w=348&amp;sz=22&amp;hl=en&amp;start=4&amp;itbs=1&amp;tbnid=O1f0_dsuZHlx_M:&amp;tbnh=120&amp;tbnw=120&amp;prev=/images%3Fq%3Dtrademark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feskills-consultancy.com/db5/00451/lifeskills-consultancy.com/_uimages/personality1.bm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ton’s Self Information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62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302400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284720" y="2205000"/>
            <a:ext cx="3819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25336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2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7147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24321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al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artoon book"/>
          <p:cNvPicPr/>
          <p:nvPr/>
        </p:nvPicPr>
        <p:blipFill>
          <a:blip r:embed="rId1"/>
          <a:stretch/>
        </p:blipFill>
        <p:spPr>
          <a:xfrm>
            <a:off x="5003640" y="2852640"/>
            <a:ext cx="2791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k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571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565360"/>
            <a:ext cx="3314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2:21:07Z</dcterms:created>
  <dc:creator>p.weis</dc:creator>
  <dc:description/>
  <dc:language>en-US</dc:language>
  <cp:lastModifiedBy>p.weis</cp:lastModifiedBy>
  <dcterms:modified xsi:type="dcterms:W3CDTF">2010-02-25T17:01:48Z</dcterms:modified>
  <cp:revision>5</cp:revision>
  <dc:subject/>
  <dc:title>Preston’s Self Information Portrait</dc:title>
</cp:coreProperties>
</file>