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9E8A8-F43F-4486-A401-939ECEFFF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90F44-B6A0-4188-B934-7BCB4E5CF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1152-C369-4000-9D2B-E9BD7D28B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1D9C6-2733-433B-841C-90E025FFD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A242-5123-4885-BE9F-2F266C20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730F-81B5-4586-94E3-83421A33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B82E-DFB2-41E5-BAF7-62C2CD2D4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9D57-6B70-4BFD-8697-2F559D052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ABD8B-AB7A-495F-8BC3-4B39BE07B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B784-F0E9-4EB4-A2C3-D9BF8ADE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6C1C-823F-4CFF-B114-5EE54510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0DCD-EEEA-43BF-869E-C9C0CE495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02BF-0EB3-4EA3-A3D4-6D0D0EA57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Joy Lee’s Career Exploration Project</a:t>
            </a:r>
            <a:endParaRPr b="0" lang="en-US" sz="9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anning 10</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lock D Mr McKillo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s the starting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y starting income as a Entry-Level Athletic Therapist is $23,000 to $4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Whats the maximum income?</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apists who Own of a Sports Medicine Clinic or work  professional sports teams can earn the maximum income of $50,000 to $80,000 a year</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ill you be paid by salary or hourly pay?</a:t>
            </a:r>
            <a:endParaRPr b="0" lang="en-US" sz="18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it depends if the therapist is self employed or no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benefits included in your pay? </a:t>
            </a:r>
            <a:endParaRPr b="0"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No.</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6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In order to become a Certified Athletic Therapist, an individual must complete an academic program. They must then pass a certification exam with the minimum grade of 70%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ertified Athletic therapists are also required to have a CPR certification at the level of a health care practitioner.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dvanced skills in athletic therapy including field assessment and injury treatment, and clinical assessment and rehabilitation for all types of injur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trepreneurial business skills to help you establish a practice</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Research skills to ensure you always stay current in the fiel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ssisting physicians with patients who have sports-related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ook appoint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udget for the offi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manage other staff or students working with the therap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64"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Where do you work?</a:t>
            </a:r>
            <a:endParaRPr b="0" lang="en-US" sz="2400" spc="-1" strike="noStrike">
              <a:solidFill>
                <a:srgbClr val="000000"/>
              </a:solidFill>
              <a:latin typeface="Arial"/>
            </a:endParaRPr>
          </a:p>
          <a:p>
            <a:pPr marL="343080" indent="-34308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thletic therapists working in office settings are usually required to do some administrative work. This may include booking appointments, budgeting for the office, and managing other staff or students working with the therapist. </a:t>
            </a:r>
            <a:br>
              <a:rPr sz="1600"/>
            </a:br>
            <a:br>
              <a:rPr sz="1600"/>
            </a:br>
            <a:r>
              <a:rPr b="0" i="1" lang="en-US" sz="1600" spc="-1" strike="noStrike">
                <a:solidFill>
                  <a:srgbClr val="000000"/>
                </a:solidFill>
                <a:latin typeface="Calibri"/>
              </a:rPr>
              <a:t>Other athletic therapists work in hospitals, assisting physicians with patients who have sports-related injuries. They may also work in universities, fitness centres, or with other health care professionals (such as chiropractors or physiotherapists). Established therapists may have their own independent practice.  </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ny hazards?</a:t>
            </a:r>
            <a:endParaRPr b="0" lang="en-US" sz="2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re are electric shock hazards from High frequency physical therapy equipment </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ny safety/protective equipment needed?</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ersonal protective equipment such as gloves are needed.</a:t>
            </a:r>
            <a:endParaRPr b="0" lang="en-US" sz="1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Would you use any machines/equipment?</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0" i="1" lang="en-US" sz="1400" spc="-1" strike="noStrike">
                <a:solidFill>
                  <a:srgbClr val="000000"/>
                </a:solidFill>
                <a:latin typeface="Calibri"/>
              </a:rPr>
              <a:t>Physical Therapy Equipment and computers are used for a physical therap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Is your career field growing or declining in the number of workers?</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employment growth rate will likely be above average because of ongoing trends of a growing and aging</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opulation that requires more health care, Also there would be new technologies that create new treatmen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d changes in the way governments provide health care.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unemployment rate for your career field?</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2% for this care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do experts predict in the future for the amount of jobs in your career?</a:t>
            </a:r>
            <a:endParaRPr b="0" lang="en-US" sz="16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retirement rate will likely be below averag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retiring workers should contribute to job openings.</a:t>
            </a:r>
            <a:endParaRPr b="0" lang="en-US" sz="1400" spc="-1" strike="noStrike">
              <a:solidFill>
                <a:srgbClr val="000000"/>
              </a:solidFill>
              <a:latin typeface="Arial"/>
            </a:endParaRPr>
          </a:p>
          <a:p>
            <a:pPr marL="343080" indent="-34308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number of job seekers will likely exceed the number of job openings. This will not have an impact on the work prospects.</a:t>
            </a:r>
            <a:br>
              <a:rPr sz="1400"/>
            </a:br>
            <a:r>
              <a:rPr b="0" i="1" lang="en-US" sz="1400" spc="-1" strike="noStrike">
                <a:solidFill>
                  <a:srgbClr val="000000"/>
                </a:solidFill>
                <a:latin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a bachelor's degree in sports studies or exercise science or a college program in sports injur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management.</a:t>
            </a:r>
            <a:r>
              <a:rPr b="0" i="1" lang="en-CA" sz="1400" spc="-1" strike="noStrike">
                <a:solidFill>
                  <a:srgbClr val="000000"/>
                </a:solidFill>
                <a:latin typeface="Arial"/>
              </a:rPr>
              <a:t> </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2-How long will your Post Secondary Training tak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6 years</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3-Where can you take your Post Secondary Training?</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Camosun College for an undergraduate degree in athletic therapy</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rPr>
              <a:t>SFU for an undergraduate, masters, and doctoral degree in kinesiology and exercise sci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70"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What High school courses are needed for your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helpful High School Courses would be:</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iolog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English</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ealth and Physical education</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alculus</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hemistry</a:t>
            </a:r>
            <a:endParaRPr b="0" lang="en-US" sz="1400" spc="-1" strike="noStrike">
              <a:solidFill>
                <a:srgbClr val="000000"/>
              </a:solidFill>
              <a:latin typeface="Arial"/>
            </a:endParaRPr>
          </a:p>
          <a:p>
            <a:pPr marL="332640" indent="-332640">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mputer courses</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Is there a GPA requirement?</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 minimum </a:t>
            </a:r>
            <a:r>
              <a:rPr b="1" i="1" lang="en-US" sz="1400" spc="-1" strike="noStrike">
                <a:solidFill>
                  <a:srgbClr val="000000"/>
                </a:solidFill>
                <a:latin typeface="Calibri"/>
              </a:rPr>
              <a:t>GPA</a:t>
            </a:r>
            <a:r>
              <a:rPr b="0" i="1" lang="en-US" sz="1400" spc="-1" strike="noStrike">
                <a:solidFill>
                  <a:srgbClr val="000000"/>
                </a:solidFill>
                <a:latin typeface="Calibri"/>
              </a:rPr>
              <a:t> of 3.00 over the most recent course work to a maximum of five is required.</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What type of volunteer activities are needed or will help you pursue this career?</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lunteer in an athletic environment will help you get the feel of becoming an athletic therapist.</a:t>
            </a:r>
            <a:endParaRPr b="0" lang="en-US" sz="14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Any other types of activities while in High school that will enhance your career goals?</a:t>
            </a:r>
            <a:endParaRPr b="0" lang="en-US" sz="1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oining a sport will give basic knowledge that will help you in your career in the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1</a:t>
            </a:r>
            <a:endParaRPr b="0" lang="en-US" sz="4400" spc="-1" strike="noStrike">
              <a:solidFill>
                <a:srgbClr val="000000"/>
              </a:solidFill>
              <a:latin typeface="Arial"/>
            </a:endParaRPr>
          </a:p>
        </p:txBody>
      </p:sp>
      <p:sp>
        <p:nvSpPr>
          <p:cNvPr id="44"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Kinesiolog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Income</a:t>
            </a:r>
            <a:endParaRPr b="0" lang="en-US" sz="7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ats the starting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starting income as an Entry-Level Kinesiologist is $25,000 to $4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Whats the maximum income?</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maximum income as a self-employed consultant or Business Owner is $50,000 to $100,000 a yea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ill you be paid by salary or hourly pay?</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y salary, but it depends on the employer.</a:t>
            </a:r>
            <a:endParaRPr b="0"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Any benefits included in your pay? </a:t>
            </a:r>
            <a:endParaRPr b="0" lang="en-US" sz="16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employed on a full-time basis can receive dental coverage, paid sick days, and vacation time. While Self-employ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have to provide their own benefit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Skills required</a:t>
            </a:r>
            <a:endParaRPr b="0" lang="en-US" sz="7200" spc="-1" strike="noStrike">
              <a:solidFill>
                <a:srgbClr val="000000"/>
              </a:solidFill>
              <a:latin typeface="Arial"/>
            </a:endParaRPr>
          </a:p>
        </p:txBody>
      </p:sp>
      <p:sp>
        <p:nvSpPr>
          <p:cNvPr id="4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Skills required for job?</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lf-confidence combined with leadership and critical thinking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ral and written communication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atience and flexibility in their relationships with oth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keeping up to date with new technology</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eamwork skills</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 interest in scientific research.</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certificates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provinces have kinesiology associations. Membership in these associations is not compulsory, but it m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be preferred by employers. Also, it’s a good idea to get some training in CPR and first aid.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What skills are needed to advance higher in your field?</a:t>
            </a:r>
            <a:endParaRPr b="0" lang="en-US" sz="1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pplied Counselling Skills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hat tasks would you do when working this job? (4 examples)</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reat people and improve their performance in sports, in recreation, and at work.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Design programs and routines to prevent, manage, and rehabilitate injur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eep records of client’s treatment plans, progress made, and recommendations for further treatment and dischar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how clients how to manage their injuries and disabilit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Edwardian Script ITC"/>
              </a:rPr>
              <a:t>Working environment &amp; conditions</a:t>
            </a:r>
            <a:endParaRPr b="0" lang="en-US" sz="6000" spc="-1" strike="noStrike">
              <a:solidFill>
                <a:srgbClr val="000000"/>
              </a:solidFill>
              <a:latin typeface="Arial"/>
            </a:endParaRPr>
          </a:p>
        </p:txBody>
      </p:sp>
      <p:sp>
        <p:nvSpPr>
          <p:cNvPr id="50"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Where do you work?</a:t>
            </a:r>
            <a:endParaRPr b="0" lang="en-US" sz="16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linical kinesiologists work in private clinics, hospitals, and research faciliti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Vocational rehabilitation kinesiologists work for workers compensation boards as caseworkers, ergonomists, physical assessment and rehabilitation specialists, and consul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ome work for insurance companies as compensation advisors. Many work in other industries as work site analysts, and occupational health and safety adviso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also work for universities in research areas, and as undergraduate advisors and teaching assista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Others may work for fitness clubs, pharmaceutical sales companies, and medical rehabilitative products companies. </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ny hazards?</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Kinesiologists need to be able to lift and manoeuvre clients. Reaching, crouching, and lifting are required wh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etting up equipment and demonstrating treatment programs. Therefore, a kinesiologist must be in goo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Physical condition to avoid any hazards.</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ny safety/protective equipment needed?</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No. Not specifically.</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Would you use any machines/equi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400" spc="-1" strike="noStrike">
                <a:solidFill>
                  <a:srgbClr val="000000"/>
                </a:solidFill>
                <a:latin typeface="Calibri"/>
              </a:rPr>
              <a:t>Kinesiologists employed in laboratory research and ergonomic design usually work long hours in front of the comput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Job Outlook</a:t>
            </a:r>
            <a:endParaRPr b="0" lang="en-US" sz="7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Is your career field growing or declining in the number of workers?</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t’s growing for the demand for kinesiologists is related to the aging population and increased attention to the needs of disabled persons and accident victims. Opportunities will be better in private practices outside of the institutional health care setting.</a:t>
            </a:r>
            <a:r>
              <a:rPr b="0" lang="en-US" sz="1200" spc="-1" strike="noStrike">
                <a:solidFill>
                  <a:srgbClr val="000000"/>
                </a:solidFill>
                <a:latin typeface="Calibri"/>
              </a:rPr>
              <a:t>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Whats the unemployment rate for your career fiel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unemployment rate (3%) is close to the 2004 average (7%).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do experts predict in the future for the amount of jobs in your career?</a:t>
            </a:r>
            <a:endParaRPr b="0" lang="en-US" sz="14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employment growth rate will likely be close to the averag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The retirement rate will likely be above average and the number of retiring workers should contribute to job openings. </a:t>
            </a:r>
            <a:endParaRPr b="0" lang="en-US" sz="1200" spc="-1" strike="noStrike">
              <a:solidFill>
                <a:srgbClr val="000000"/>
              </a:solidFill>
              <a:latin typeface="Arial"/>
            </a:endParaRPr>
          </a:p>
          <a:p>
            <a:pPr marL="343080" indent="-34308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umber of job seekers will likely exceed the number of job opening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Post-Secondary Training</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kind of Post Secondary training is needed?</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University Degree in Kinesiology, Human Kinetics, or other health-science-related field or Master’s Degree in Physical Education.</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How long will your Post Secondary Training take?</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7 years </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ere can you take your Post Secondary Training?</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mon Fraser University and the University of British Columbia offers undergraduate, doctoral, and masters degree prog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Edwardian Script ITC"/>
              </a:rPr>
              <a:t>High School Requirements</a:t>
            </a:r>
            <a:endParaRPr b="0" lang="en-US" sz="7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What High school courses are needed for your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 helpful High School Courses would be:</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usines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glish</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th (Calculus and Algebra &amp;Geometr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bability &amp; Statistic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ciences (Physics, Chemistry, Biology)</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cial Studies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ealth &amp; Physical Education </a:t>
            </a:r>
            <a:endParaRPr b="0" lang="en-US" sz="1200" spc="-1" strike="noStrike">
              <a:solidFill>
                <a:srgbClr val="000000"/>
              </a:solidFill>
              <a:latin typeface="Arial"/>
            </a:endParaRPr>
          </a:p>
          <a:p>
            <a:pPr marL="343080" indent="-343080">
              <a:lnSpc>
                <a:spcPct val="9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mputer related courses</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Is there a GPA requirement?</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Athletic Training)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Fitness, Nutrition, Health)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hysical Education) (BS) (2.70)</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inesiology (Pre-physical Therapy) (BS) (2.70)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What type of volunteer activities are needed or will help you pursue this career?</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olunteer work at a clinic or hospital will give you a feel for the kinesiologist’s working environment. </a:t>
            </a:r>
            <a:endParaRPr b="0" lang="en-US" sz="1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ny other types of activities while in High school that will enhance your career goals?</a:t>
            </a:r>
            <a:endParaRPr b="0" lang="en-US" sz="1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oining a sports team will help give basic knowledge of what this career is about, Also several science and math courses can help with the components of this care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er choice #2</a:t>
            </a:r>
            <a:endParaRPr b="0" lang="en-US" sz="4400" spc="-1" strike="noStrike">
              <a:solidFill>
                <a:srgbClr val="000000"/>
              </a:solidFill>
              <a:latin typeface="Arial"/>
            </a:endParaRPr>
          </a:p>
        </p:txBody>
      </p:sp>
      <p:sp>
        <p:nvSpPr>
          <p:cNvPr id="58" name="PlaceHolder 2"/>
          <p:cNvSpPr>
            <a:spLocks noGrp="1"/>
          </p:cNvSpPr>
          <p:nvPr>
            <p:ph/>
          </p:nvPr>
        </p:nvSpPr>
        <p:spPr>
          <a:xfrm>
            <a:off x="468360" y="3500280"/>
            <a:ext cx="8229600" cy="1617840"/>
          </a:xfrm>
          <a:prstGeom prst="rect">
            <a:avLst/>
          </a:prstGeom>
          <a:noFill/>
          <a:ln w="0">
            <a:noFill/>
          </a:ln>
        </p:spPr>
        <p:txBody>
          <a:bodyPr lIns="90000" rIns="90000" tIns="46800" bIns="46800" anchor="t">
            <a:normAutofit fontScale="72000"/>
          </a:bodyPr>
          <a:p>
            <a:pPr marL="24696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Edwardian Script ITC"/>
              </a:rPr>
              <a:t>Athletic Therapis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8:08:47Z</dcterms:created>
  <dc:creator>kibbeum.lee</dc:creator>
  <dc:description/>
  <dc:language>en-US</dc:language>
  <cp:lastModifiedBy>kibbeum.lee</cp:lastModifiedBy>
  <dcterms:modified xsi:type="dcterms:W3CDTF">2010-03-04T17:09:43Z</dcterms:modified>
  <cp:revision>6</cp:revision>
  <dc:subject/>
  <dc:title>Joy Lee’s Career Exploration Project</dc:title>
</cp:coreProperties>
</file>